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9D1-AEF7-404D-8E81-E06193AA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32C-7BD8-4C51-BCB7-B8AE2808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902-C2D8-46C7-BBC8-45B58F0D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544-FDDB-4F86-9CEF-FBFFB1D0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1936-2E62-41AA-A4EE-2AD19738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FBAD-FD4F-49AF-9C3B-70920AC2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032A-588F-4EDF-A8CD-1B202428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A6DE-ACC4-46B9-B03B-B7C788C1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B325-BF60-4179-A4D9-10BC52E8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1EFE-2A98-4865-A3FA-C810C6A6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4B20-8D00-4C16-BFCE-E05E4078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9CA-80F7-4746-97AF-E7DBB4AB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004A-1EF8-41AE-B3F3-18E1F14A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E947-C2F1-40B7-976C-BD04D2A9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C826-8947-485D-84FA-22897B84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844A-DFB0-4F48-B1AA-79A5820B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2E60-8905-4229-A268-A13DADC7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86A-FB65-4D12-961B-F4B3006E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26F-99CC-45D4-B075-EBF6C652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5B8-EA08-47BF-AEA2-F2D4F7A0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CE3-4AEF-4993-89A6-C876D57B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617-3258-4320-A5D4-A6A73567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252-DB95-4764-B449-6182EB63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DEB-CC6D-48F6-97B4-465CA070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24A4-F37D-414E-B8B5-035BA5E2A9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AD9E-0515-4FF1-989D-F50D291DDF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79360" y="1073160"/>
            <a:ext cx="3276720" cy="368280"/>
          </a:xfrm>
          <a:prstGeom prst="rect">
            <a:avLst/>
          </a:prstGeom>
          <a:solidFill>
            <a:srgbClr val="666699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中国只此一家，我们更懂旅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79360" y="1454040"/>
            <a:ext cx="4724280" cy="368280"/>
          </a:xfrm>
          <a:prstGeom prst="rect">
            <a:avLst/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我们具备较为完善的旅游产业链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全面覆盖旅游“食宿行游购娱”六大要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8"/>
          <p:cNvGrpSpPr/>
          <p:nvPr/>
        </p:nvGrpSpPr>
        <p:grpSpPr>
          <a:xfrm>
            <a:off x="4029480" y="1209600"/>
            <a:ext cx="4731840" cy="4800600"/>
            <a:chOff x="4029480" y="1209600"/>
            <a:chExt cx="4731840" cy="4800600"/>
          </a:xfrm>
        </p:grpSpPr>
        <p:sp>
          <p:nvSpPr>
            <p:cNvPr id="85" name="Freeform 9"/>
            <p:cNvSpPr/>
            <p:nvPr/>
          </p:nvSpPr>
          <p:spPr>
            <a:xfrm>
              <a:off x="5659200" y="3678120"/>
              <a:ext cx="1382760" cy="2332080"/>
            </a:xfrm>
            <a:custGeom>
              <a:avLst/>
              <a:gdLst>
                <a:gd name="textAreaLeft" fmla="*/ 0 w 1382760"/>
                <a:gd name="textAreaRight" fmla="*/ 1383120 w 1382760"/>
                <a:gd name="textAreaTop" fmla="*/ 0 h 2332080"/>
                <a:gd name="textAreaBottom" fmla="*/ 2332080 h 233208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faacc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 rot="574800">
              <a:off x="4122720" y="2314440"/>
              <a:ext cx="2517480" cy="133344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aae5fa"/>
                </a:gs>
                <a:gs pos="100000">
                  <a:srgbClr val="00b1f0"/>
                </a:gs>
              </a:gsLst>
              <a:lin ang="75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 rot="21118800">
              <a:off x="4116240" y="3609720"/>
              <a:ext cx="2533680" cy="1334880"/>
            </a:xfrm>
            <a:custGeom>
              <a:avLst/>
              <a:gdLst>
                <a:gd name="textAreaLeft" fmla="*/ 0 w 2533680"/>
                <a:gd name="textAreaRight" fmla="*/ 2534040 w 2533680"/>
                <a:gd name="textAreaTop" fmla="*/ 0 h 1334880"/>
                <a:gd name="textAreaBottom" fmla="*/ 1335240 h 1334880"/>
              </a:gdLst>
              <a:ahLst/>
              <a:rect l="textAreaLeft" t="textAreaTop" r="textAreaRight" b="textAreaBottom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e9caee"/>
                </a:gs>
                <a:gs pos="100000">
                  <a:srgbClr val="bc61cb"/>
                </a:gs>
              </a:gsLst>
              <a:lin ang="112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5"/>
            <p:cNvSpPr/>
            <p:nvPr/>
          </p:nvSpPr>
          <p:spPr>
            <a:xfrm>
              <a:off x="4677480" y="2520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航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8"/>
            <p:cNvSpPr/>
            <p:nvPr/>
          </p:nvSpPr>
          <p:spPr>
            <a:xfrm>
              <a:off x="4679280" y="4319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传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"/>
            <p:cNvSpPr/>
            <p:nvPr/>
          </p:nvSpPr>
          <p:spPr>
            <a:xfrm>
              <a:off x="5641920" y="1209600"/>
              <a:ext cx="1450800" cy="241128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2411280"/>
                <a:gd name="textAreaBottom" fmla="*/ 2411640 h 241128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 rot="521400">
              <a:off x="6119280" y="3687480"/>
              <a:ext cx="2419200" cy="1245960"/>
            </a:xfrm>
            <a:custGeom>
              <a:avLst/>
              <a:gdLst>
                <a:gd name="textAreaLeft" fmla="*/ 0 w 2419200"/>
                <a:gd name="textAreaRight" fmla="*/ 2419560 w 2419200"/>
                <a:gd name="textAreaTop" fmla="*/ 0 h 1245960"/>
                <a:gd name="textAreaBottom" fmla="*/ 1246320 h 124596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7e3d"/>
                </a:gs>
                <a:gs pos="100000">
                  <a:srgbClr val="ffd4be"/>
                </a:gs>
              </a:gsLst>
              <a:lin ang="75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 rot="21130800">
              <a:off x="6195960" y="2383920"/>
              <a:ext cx="2487600" cy="1314360"/>
            </a:xfrm>
            <a:custGeom>
              <a:avLst/>
              <a:gdLst>
                <a:gd name="textAreaLeft" fmla="*/ 0 w 2487600"/>
                <a:gd name="textAreaRight" fmla="*/ 2487960 w 2487600"/>
                <a:gd name="textAreaTop" fmla="*/ 0 h 1314360"/>
                <a:gd name="textAreaBottom" fmla="*/ 1314720 h 1314360"/>
              </a:gdLst>
              <a:ahLst/>
              <a:rect l="textAreaLeft" t="textAreaTop" r="textAreaRight" b="textAreaBottom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eeaa"/>
                </a:gs>
              </a:gsLst>
              <a:lin ang="139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12"/>
            <p:cNvGrpSpPr/>
            <p:nvPr/>
          </p:nvGrpSpPr>
          <p:grpSpPr>
            <a:xfrm>
              <a:off x="5688000" y="2849400"/>
              <a:ext cx="1319040" cy="1309680"/>
              <a:chOff x="5688000" y="2849400"/>
              <a:chExt cx="1319040" cy="1309680"/>
            </a:xfrm>
          </p:grpSpPr>
          <p:sp>
            <p:nvSpPr>
              <p:cNvPr id="94" name="Oval 13"/>
              <p:cNvSpPr/>
              <p:nvPr/>
            </p:nvSpPr>
            <p:spPr>
              <a:xfrm>
                <a:off x="5688000" y="2849400"/>
                <a:ext cx="1319040" cy="13096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c0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4"/>
              <p:cNvSpPr/>
              <p:nvPr/>
            </p:nvSpPr>
            <p:spPr>
              <a:xfrm>
                <a:off x="5838480" y="2871000"/>
                <a:ext cx="1017720" cy="494280"/>
              </a:xfrm>
              <a:custGeom>
                <a:avLst/>
                <a:gdLst>
                  <a:gd name="textAreaLeft" fmla="*/ 0 w 1017720"/>
                  <a:gd name="textAreaRight" fmla="*/ 1018080 w 1017720"/>
                  <a:gd name="textAreaTop" fmla="*/ 0 h 494280"/>
                  <a:gd name="textAreaBottom" fmla="*/ 494640 h 4942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00">
                      <a:alpha val="1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6"/>
            <p:cNvSpPr/>
            <p:nvPr/>
          </p:nvSpPr>
          <p:spPr>
            <a:xfrm>
              <a:off x="6128640" y="17622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旅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7"/>
            <p:cNvSpPr/>
            <p:nvPr/>
          </p:nvSpPr>
          <p:spPr>
            <a:xfrm>
              <a:off x="7512840" y="2520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酒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9"/>
            <p:cNvSpPr/>
            <p:nvPr/>
          </p:nvSpPr>
          <p:spPr>
            <a:xfrm>
              <a:off x="7512840" y="4319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租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0"/>
            <p:cNvSpPr/>
            <p:nvPr/>
          </p:nvSpPr>
          <p:spPr>
            <a:xfrm>
              <a:off x="6060240" y="5079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景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1"/>
            <p:cNvSpPr/>
            <p:nvPr/>
          </p:nvSpPr>
          <p:spPr>
            <a:xfrm>
              <a:off x="5792760" y="3190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海航旅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051360" y="33336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花瓣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5EB2-2746-44C9-AD76-789239B8DB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1Z</dcterms:modified>
  <cp:revision>8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  <property fmtid="{D5CDD505-2E9C-101B-9397-08002B2CF9AE}" pid="4" name="SlideDescription">
    <vt:lpwstr/>
  </property>
</Properties>
</file>