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E306-0431-41EF-81AC-F740E80BA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F138-B1EA-4050-B2FB-31A81D4C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DBB-7865-43CC-958C-76110DF8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7906-5124-4679-B889-7B42DE66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721-53BA-469B-B368-43C03496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C02C-C85F-4981-9790-577856CF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5665-12F1-4B09-ABBF-A8A83206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18B-B38D-46F2-B02C-A6F0F725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D0B6-318E-484F-BCB1-8CA626E6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1CD-BBD1-4A51-9D3E-F8BA8B99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2D8-C344-4691-94EF-CABDB545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BE1D-CB13-4A59-8ED5-358E41D4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2733-51E8-41AC-8313-760116372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755640" y="479736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你可知道，大海深处是怎样的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40520" y="1125360"/>
            <a:ext cx="12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海底世界》优质课课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533520" y="167652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海底蕴藏着丰富的煤、铁、石油和天然气，还有陆地上蕴藏量很少的稀有金属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G:\素材\素材=图\网页\卡通类\Sailor-02.gif"/>
          <p:cNvPicPr/>
          <p:nvPr/>
        </p:nvPicPr>
        <p:blipFill>
          <a:blip r:embed="rId2"/>
          <a:stretch/>
        </p:blipFill>
        <p:spPr>
          <a:xfrm>
            <a:off x="7286760" y="0"/>
            <a:ext cx="1857240" cy="16606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304920" y="22860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海底世界够奇妙吧！你能不能象小科学家一样，把这里的奇妙告诉大家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90320" y="2666880"/>
            <a:ext cx="7290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海底世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1143000" y="2590920"/>
            <a:ext cx="380880" cy="3047760"/>
          </a:xfrm>
          <a:custGeom>
            <a:avLst/>
            <a:gdLst>
              <a:gd name="textAreaLeft" fmla="*/ 243360 w 380880"/>
              <a:gd name="textAreaRight" fmla="*/ 381240 w 380880"/>
              <a:gd name="textAreaTop" fmla="*/ 79200 h 3047760"/>
              <a:gd name="textAreaBottom" fmla="*/ 296856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523880" y="29718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景色奇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1523880" y="46926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物产丰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9"/>
          <p:cNvSpPr/>
          <p:nvPr/>
        </p:nvSpPr>
        <p:spPr>
          <a:xfrm>
            <a:off x="3505320" y="2590920"/>
            <a:ext cx="75960" cy="1447560"/>
          </a:xfrm>
          <a:custGeom>
            <a:avLst/>
            <a:gdLst>
              <a:gd name="textAreaLeft" fmla="*/ 48600 w 75960"/>
              <a:gd name="textAreaRight" fmla="*/ 76320 w 7596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0"/>
          <p:cNvSpPr/>
          <p:nvPr/>
        </p:nvSpPr>
        <p:spPr>
          <a:xfrm>
            <a:off x="3505320" y="4191120"/>
            <a:ext cx="75960" cy="1752480"/>
          </a:xfrm>
          <a:custGeom>
            <a:avLst/>
            <a:gdLst>
              <a:gd name="textAreaLeft" fmla="*/ 48600 w 75960"/>
              <a:gd name="textAreaRight" fmla="*/ 76320 w 759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3733920" y="251460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宁静      光点闪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733920" y="32767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黑暗      窃窃私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3733920" y="403848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动物      多种多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3733920" y="48006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植物      种类繁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3733920" y="556272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矿物      蕴藏丰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914400" y="457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隶书"/>
              </a:rPr>
              <a:t>学一学下列生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990720" y="1523880"/>
            <a:ext cx="807696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波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涛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t1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依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y9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然   是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f%u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汪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w1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洋   金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属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sh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奇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y@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p(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类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l8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别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免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mi3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途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t*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j@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子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煤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m6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qi8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窃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4000" spc="-1" strike="noStrike">
                <a:solidFill>
                  <a:srgbClr val="ff0000"/>
                </a:solidFill>
                <a:latin typeface="zypyyb"/>
                <a:ea typeface="zypyyb"/>
              </a:rPr>
              <a:t>s9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0" y="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Times New Roman"/>
                <a:ea typeface="隶书"/>
              </a:rPr>
              <a:t>情景创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想一想，为什么说：“海底真是个景色奇异、物产丰富的世界。”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4"/>
          <p:cNvSpPr/>
          <p:nvPr/>
        </p:nvSpPr>
        <p:spPr>
          <a:xfrm>
            <a:off x="4075200" y="4437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2d2db9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2d2db9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2d2db9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d2db9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2d2db9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2d2db9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2d2db9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2d2db9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d2db9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2d2db9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2d2db9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2d2db9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2d2db9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d2db9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2d2db9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d2db9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2d2db9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2d2db9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2d2db9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1219320" y="16765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海面上波涛澎湃的时候，海底依然很宁静。最大的风浪，也只能影响到海面以下几十米深。阳光射不到海底，水越深光线越暗，五百米以下就全黑了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762120" y="160020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海底的动物常常在窃窃私语。有的像蜜蜂一样嗡嗡，有的像小鸟一样啾啾，有的像小狗一样汪汪，有的还好像在打鼾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990720" y="20574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762120" y="24382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 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海里的动物，已经知道的大约有三万种。它们各有各的活动方法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457200" y="8380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海参靠肌肉伸缩爬行，每小时只能前进四米。有一种雨身体像梭子，每小时能游几十公里。乌贼和章鱼能突然向前方喷水，利用水的反推力迅速后退。还有些贝类自己不动，能巴在轮船底下做免费的长途旅行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533520" y="137160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海底有山，有峡谷，也有森林和草地。植物的色彩多种多样，有褐色的，有紫色的，还有红色的。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F681-1A0C-4CAE-A4A6-3A2FBA6474C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5T09:45:50Z</dcterms:created>
  <dc:creator/>
  <dc:description/>
  <cp:keywords>幻灯片之家 http:/www.eeppt.com</cp:keywords>
  <dc:language>en-US</dc:language>
  <cp:lastModifiedBy/>
  <dcterms:modified xsi:type="dcterms:W3CDTF">2015-07-04T12:11:45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