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E82C-3FA5-4D05-9330-79A9D554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8186-C4B3-4A8A-B4FD-3867E68E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2C12-52F0-4C8A-B236-B99624FE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BE4-22FD-45BB-BEFF-BF7164E5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B0AC-33BF-4BE9-B29D-AD844627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FCF4-4EF4-4C40-828A-4DD743DC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176B-5658-4C38-97DC-F9F591C3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4E55-E06D-4D3F-A74F-31FDD732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26C6-F2E7-4E1D-8F87-E51F37A3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0CDB-BB36-4230-B5D5-825118EE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AE9D-DB3B-4FB5-BF61-7B77D850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238D-1286-4395-8DBC-9646338A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B997-0513-43FE-994E-CDB8946E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0BAD-4FDD-46A4-97DD-FEF24262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B1CA-8D39-4573-AD6B-9046AAB6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24DE-9F81-4718-843A-FB0F2C4D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684A-372B-4983-8BE7-6ED4E8CD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FB03-091D-4363-93AE-4BBD515A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929F-65ED-4EE2-BAF8-295DFF5F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BE85-13FC-4AB9-8D6C-3D93D30E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4105-1113-4B80-8FAD-673D5EB7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3E86-FAC1-4B9D-B82F-B3A668EC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4B4A-96C6-450F-AD74-31D7C148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44F9-602E-459B-B198-29C373F5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2EF2-A439-416E-8DB6-3EA3783CB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5A4A-45FF-4ACC-A042-D88BA1A4E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792000" y="549360"/>
            <a:ext cx="6480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PM_001"/>
          <p:cNvPicPr/>
          <p:nvPr/>
        </p:nvPicPr>
        <p:blipFill>
          <a:blip r:embed="rId17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9"/>
          <p:cNvSpPr txBox="1"/>
          <p:nvPr/>
        </p:nvSpPr>
        <p:spPr>
          <a:xfrm>
            <a:off x="1116000" y="907920"/>
            <a:ext cx="5977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人教课标版小学语文二年级上册</a:t>
            </a:r>
            <a:endParaRPr b="0" lang="en-US" sz="2400" spc="-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1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47440" y="3213000"/>
            <a:ext cx="452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红领巾”真好课件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PM_0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360" y="2637000"/>
            <a:ext cx="40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再 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2971800"/>
            <a:ext cx="2914560" cy="38862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890640" y="1114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巢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610200" y="685800"/>
            <a:ext cx="114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048120" y="1143000"/>
            <a:ext cx="281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蓬</a:t>
            </a:r>
            <a:r>
              <a:rPr b="0" lang="zh-CN" sz="8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5257800" y="0"/>
            <a:ext cx="3886200" cy="30402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3893040" y="3352680"/>
            <a:ext cx="133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崭</a:t>
            </a:r>
            <a:r>
              <a:rPr b="0" lang="zh-CN" sz="7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657960" y="2819520"/>
            <a:ext cx="9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200400" y="762120"/>
            <a:ext cx="9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377640" y="1752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6582600" y="3389400"/>
            <a:ext cx="139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木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7316280" y="304812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6631920" y="46544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扑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棱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8271360" y="4221000"/>
            <a:ext cx="8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3893040" y="4724280"/>
            <a:ext cx="133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棱</a:t>
            </a:r>
            <a:r>
              <a:rPr b="0" lang="zh-CN" sz="7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角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3734280" y="4419720"/>
            <a:ext cx="8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378360" y="1219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红领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senlindenia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3317040" y="3886200"/>
            <a:ext cx="261900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清晨，林中谁最快乐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是可爱的小鸟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唧唧喳喳，蹦蹦跳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一会儿唱歌，一会儿梳理蓬松的羽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8" name="Picture 2" descr="senlindenia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3"/>
            <p:cNvSpPr/>
            <p:nvPr/>
          </p:nvSpPr>
          <p:spPr>
            <a:xfrm>
              <a:off x="2924640" y="4021200"/>
              <a:ext cx="3770640" cy="228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华文中宋"/>
                  <a:ea typeface="华文中宋"/>
                </a:rPr>
                <a:t>清晨</a:t>
              </a:r>
              <a:r>
                <a:rPr b="0" lang="en-US" sz="3600" spc="-1" strike="noStrike">
                  <a:solidFill>
                    <a:srgbClr val="ff0066"/>
                  </a:solidFill>
                  <a:latin typeface="华文中宋"/>
                  <a:ea typeface="华文中宋"/>
                </a:rPr>
                <a:t>,</a:t>
              </a:r>
              <a:r>
                <a:rPr b="0" lang="zh-CN" sz="3600" spc="-1" strike="noStrike">
                  <a:solidFill>
                    <a:srgbClr val="ff0066"/>
                  </a:solidFill>
                  <a:latin typeface="华文中宋"/>
                  <a:ea typeface="华文中宋"/>
                </a:rPr>
                <a:t>林中谁最活跃</a:t>
              </a:r>
              <a:r>
                <a:rPr b="0" lang="en-US" sz="3600" spc="-1" strike="noStrike">
                  <a:solidFill>
                    <a:srgbClr val="ff0066"/>
                  </a:solidFill>
                  <a:latin typeface="华文中宋"/>
                  <a:ea typeface="华文中宋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华文中宋"/>
                  <a:ea typeface="华文中宋"/>
                </a:rPr>
                <a:t>是机灵的小鸟</a:t>
              </a:r>
              <a:r>
                <a:rPr b="0" lang="en-US" sz="3600" spc="-1" strike="noStrike">
                  <a:solidFill>
                    <a:srgbClr val="ff0066"/>
                  </a:solidFill>
                  <a:latin typeface="华文中宋"/>
                  <a:ea typeface="华文中宋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华文中宋"/>
                  <a:ea typeface="华文中宋"/>
                </a:rPr>
                <a:t>扑棱棱</a:t>
              </a:r>
              <a:r>
                <a:rPr b="0" lang="en-US" sz="3600" spc="-1" strike="noStrike">
                  <a:solidFill>
                    <a:srgbClr val="ff0066"/>
                  </a:solidFill>
                  <a:latin typeface="华文中宋"/>
                  <a:ea typeface="华文中宋"/>
                </a:rPr>
                <a:t>,</a:t>
              </a:r>
              <a:r>
                <a:rPr b="0" lang="zh-CN" sz="3600" spc="-1" strike="noStrike">
                  <a:solidFill>
                    <a:srgbClr val="ff0066"/>
                  </a:solidFill>
                  <a:latin typeface="华文中宋"/>
                  <a:ea typeface="华文中宋"/>
                </a:rPr>
                <a:t>飞来飞去</a:t>
              </a:r>
              <a:r>
                <a:rPr b="0" lang="en-US" sz="3600" spc="-1" strike="noStrike">
                  <a:solidFill>
                    <a:srgbClr val="ff0066"/>
                  </a:solidFill>
                  <a:latin typeface="华文中宋"/>
                  <a:ea typeface="华文中宋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华文中宋"/>
                  <a:ea typeface="华文中宋"/>
                </a:rPr>
                <a:t>捕捉害虫</a:t>
              </a:r>
              <a:r>
                <a:rPr b="0" lang="en-US" sz="3600" spc="-1" strike="noStrike">
                  <a:solidFill>
                    <a:srgbClr val="ff0066"/>
                  </a:solidFill>
                  <a:latin typeface="华文中宋"/>
                  <a:ea typeface="华文中宋"/>
                </a:rPr>
                <a:t>,</a:t>
              </a:r>
              <a:r>
                <a:rPr b="0" lang="zh-CN" sz="3600" spc="-1" strike="noStrike">
                  <a:solidFill>
                    <a:srgbClr val="ff0066"/>
                  </a:solidFill>
                  <a:latin typeface="华文中宋"/>
                  <a:ea typeface="华文中宋"/>
                </a:rPr>
                <a:t>保护翠绿的树苗</a:t>
              </a:r>
              <a:r>
                <a:rPr b="0" lang="en-US" sz="3600" spc="-1" strike="noStrike">
                  <a:solidFill>
                    <a:srgbClr val="ff0066"/>
                  </a:solidFill>
                  <a:latin typeface="华文中宋"/>
                  <a:ea typeface="华文中宋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k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2376000" y="2057400"/>
            <a:ext cx="422496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清晨</a:t>
            </a:r>
            <a:r>
              <a:rPr b="0" lang="en-US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,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林中谁来得最早</a:t>
            </a:r>
            <a:r>
              <a:rPr b="0" lang="en-US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是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“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红领巾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”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来放鸟巢</a:t>
            </a:r>
            <a:r>
              <a:rPr b="0" lang="en-US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崭新的木牌上写着</a:t>
            </a:r>
            <a:r>
              <a:rPr b="0" lang="en-US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: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“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请爱护小鸟</a:t>
            </a:r>
            <a:r>
              <a:rPr b="0" lang="en-US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!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小鸟在枝头高唱</a:t>
            </a:r>
            <a:r>
              <a:rPr b="0" lang="en-US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: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“‘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红领巾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’</a:t>
            </a:r>
            <a:r>
              <a:rPr b="0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真好</a:t>
            </a:r>
            <a:r>
              <a:rPr b="0" lang="en-US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!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12"/>
          <p:cNvGrpSpPr/>
          <p:nvPr/>
        </p:nvGrpSpPr>
        <p:grpSpPr>
          <a:xfrm>
            <a:off x="2819520" y="457200"/>
            <a:ext cx="4138920" cy="6245280"/>
            <a:chOff x="2819520" y="457200"/>
            <a:chExt cx="4138920" cy="6245280"/>
          </a:xfrm>
        </p:grpSpPr>
        <p:sp>
          <p:nvSpPr>
            <p:cNvPr id="113" name="Text Box 2"/>
            <p:cNvSpPr/>
            <p:nvPr/>
          </p:nvSpPr>
          <p:spPr>
            <a:xfrm>
              <a:off x="4257000" y="1319040"/>
              <a:ext cx="23144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清晨，林中谁最快乐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是可爱的小鸟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唧唧喳喳，蹦蹦跳跳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一会儿唱歌，一会儿梳理蓬松的羽毛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8"/>
            <p:cNvSpPr/>
            <p:nvPr/>
          </p:nvSpPr>
          <p:spPr>
            <a:xfrm>
              <a:off x="3272040" y="3149640"/>
              <a:ext cx="2586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清晨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,  </a:t>
              </a: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林中谁最活跃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是机灵的小鸟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扑棱棱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飞来飞去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捕捉害虫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保护翠绿的树苗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9"/>
            <p:cNvSpPr/>
            <p:nvPr/>
          </p:nvSpPr>
          <p:spPr>
            <a:xfrm>
              <a:off x="3034440" y="4902120"/>
              <a:ext cx="3924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清晨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,  </a:t>
              </a: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林中谁来得最早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是“红领巾”来放鸟巢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崭新的木牌上写着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:“</a:t>
              </a: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请爱护小鸟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!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小鸟在枝头高唱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:“‘</a:t>
              </a: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红领巾’真好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!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11"/>
            <p:cNvSpPr/>
            <p:nvPr/>
          </p:nvSpPr>
          <p:spPr>
            <a:xfrm>
              <a:off x="2819520" y="457200"/>
              <a:ext cx="3657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6600cc"/>
                  </a:solidFill>
                  <a:latin typeface="Times New Roman"/>
                  <a:ea typeface="黑体"/>
                </a:rPr>
                <a:t>“</a:t>
              </a:r>
              <a:r>
                <a:rPr b="1" lang="zh-CN" sz="4000" spc="-1" strike="noStrike">
                  <a:solidFill>
                    <a:srgbClr val="6600cc"/>
                  </a:solidFill>
                  <a:latin typeface="Times New Roman"/>
                  <a:ea typeface="黑体"/>
                </a:rPr>
                <a:t>红领巾”真好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17"/>
          <p:cNvGrpSpPr/>
          <p:nvPr/>
        </p:nvGrpSpPr>
        <p:grpSpPr>
          <a:xfrm>
            <a:off x="380880" y="5105520"/>
            <a:ext cx="1600200" cy="1600200"/>
            <a:chOff x="380880" y="5105520"/>
            <a:chExt cx="1600200" cy="1600200"/>
          </a:xfrm>
        </p:grpSpPr>
        <p:pic>
          <p:nvPicPr>
            <p:cNvPr id="118" name="Picture 16" descr="ZW_008"/>
            <p:cNvPicPr/>
            <p:nvPr/>
          </p:nvPicPr>
          <p:blipFill>
            <a:blip r:embed="rId1"/>
            <a:stretch/>
          </p:blipFill>
          <p:spPr>
            <a:xfrm>
              <a:off x="380880" y="5105520"/>
              <a:ext cx="160020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Oval 13"/>
            <p:cNvSpPr/>
            <p:nvPr/>
          </p:nvSpPr>
          <p:spPr>
            <a:xfrm>
              <a:off x="609480" y="5486400"/>
              <a:ext cx="1143000" cy="609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我会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A772-326F-4C15-A173-8B23C2CC1C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133720" y="2133720"/>
          <a:ext cx="1600200" cy="1600200"/>
        </p:xfrm>
        <a:graphic>
          <a:graphicData uri="http://schemas.openxmlformats.org/drawingml/2006/table">
            <a:tbl>
              <a:tblPr/>
              <a:tblGrid>
                <a:gridCol w="838080"/>
                <a:gridCol w="7621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54"/>
          <p:cNvSpPr/>
          <p:nvPr/>
        </p:nvSpPr>
        <p:spPr>
          <a:xfrm>
            <a:off x="2455200" y="21337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33720" y="4267080"/>
          <a:ext cx="1600200" cy="1600200"/>
        </p:xfrm>
        <a:graphic>
          <a:graphicData uri="http://schemas.openxmlformats.org/drawingml/2006/table">
            <a:tbl>
              <a:tblPr/>
              <a:tblGrid>
                <a:gridCol w="838080"/>
                <a:gridCol w="7621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76"/>
          <p:cNvSpPr/>
          <p:nvPr/>
        </p:nvSpPr>
        <p:spPr>
          <a:xfrm>
            <a:off x="2511000" y="41911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晨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100"/>
          <p:cNvGrpSpPr/>
          <p:nvPr/>
        </p:nvGrpSpPr>
        <p:grpSpPr>
          <a:xfrm>
            <a:off x="4800600" y="4343400"/>
            <a:ext cx="4038480" cy="2286000"/>
            <a:chOff x="4800600" y="4343400"/>
            <a:chExt cx="4038480" cy="2286000"/>
          </a:xfrm>
        </p:grpSpPr>
        <p:sp>
          <p:nvSpPr>
            <p:cNvPr id="128" name="Oval 98"/>
            <p:cNvSpPr/>
            <p:nvPr/>
          </p:nvSpPr>
          <p:spPr>
            <a:xfrm>
              <a:off x="4800600" y="5257800"/>
              <a:ext cx="1542960" cy="5475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Picture 99" descr="A1_004"/>
            <p:cNvPicPr/>
            <p:nvPr/>
          </p:nvPicPr>
          <p:blipFill>
            <a:blip r:embed="rId1"/>
            <a:stretch/>
          </p:blipFill>
          <p:spPr>
            <a:xfrm>
              <a:off x="6553080" y="4343400"/>
              <a:ext cx="228600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44720" y="40464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3:19:16Z</dcterms:created>
  <dc:creator/>
  <dc:description/>
  <cp:keywords>幻灯片之家 http:/www.eeppt.com</cp:keywords>
  <dc:language>en-US</dc:language>
  <cp:lastModifiedBy/>
  <dcterms:modified xsi:type="dcterms:W3CDTF">2015-07-17T15:05:30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