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3C72-177C-487B-8079-CB8119121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BA03-DEDD-4F8E-A3DF-9CD7F2952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D4B2-F15E-4682-AF67-7F673DFED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6789-BBA6-4D1D-B3FE-671C52577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49583-F2FE-491D-80C9-A76E376D0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59B09-D775-41E6-88E9-B403CC61A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62B91-4CFF-4393-9B3D-392CB09FE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16C46-5E43-4F7C-86B8-1FC2304C8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36165-5B97-47AB-8EEC-EC7C0CECE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897AA-B6E3-483C-A963-E468079A1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4FE36-FC97-4E65-A8A6-856839B77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820F-8654-4507-95C2-E60C4370C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50FB6-4408-47EC-976B-F0CDFC30A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75B21-B8E1-4500-BACD-2C6AC14CA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13D0A-F34C-4A6E-8CB0-A9395BCF3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439AB-38A6-493F-BF61-1AC83EEE6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F98AF-0180-4177-B074-5A4740742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F7F4-03E1-411B-84B8-639337F07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C347-A7B7-4EBC-B0D4-A0302C6ED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D42F-1E63-456E-A3CB-79CF3D684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F18E-4F07-45BD-9029-E8E8AD22A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DD0E-4382-435B-B4CC-42B566EF0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48C1-E8B9-4555-8CB1-B48EC9482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6E6E-1C23-479F-BCD7-99E568A6C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F81BF-A172-4D60-8F69-69F3DF8A818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355EF-6B5D-4316-A26A-1831D9C3FC2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755C7-5FEE-4AC8-B593-B6878E8AC5B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01189-FB90-4E3C-87EB-B9972FE420B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08000" y="63817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373480" y="334800"/>
            <a:ext cx="375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楷体"/>
                <a:ea typeface="楷体"/>
              </a:rPr>
              <a:t>华丽</a:t>
            </a:r>
            <a:r>
              <a:rPr b="0" lang="en-US" sz="4000" spc="-1" strike="noStrike">
                <a:solidFill>
                  <a:srgbClr val="ffffff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楷体"/>
                <a:ea typeface="楷体"/>
              </a:rPr>
              <a:t>素材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941F2-CD62-4CA5-BD05-492CCDDAC28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1:45:32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