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62B4-25B9-4E4E-9D5E-05906672D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8E02-C0FB-42A0-9088-F8302232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971B-4E93-46AC-A4EE-0585FF15D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D2B4-D7E3-49E2-844A-8248EAC5B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97B0-E3ED-4DAD-A2B9-CF749422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B333-174F-4B95-BC3A-871BB78C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9E58-2FAB-4D02-B5F2-B5A562F0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7E0F-B7CE-45DC-9EEA-190A9868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C406-5BD1-4488-9C45-F12364A9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697F-3624-46BD-AD04-CEDDDEB7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6FDE-9226-4FBF-BEDD-AFB2EBDA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91A7-7F0A-4FCE-81B5-8246863A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C3B7-D6FC-4AE7-89ED-DD7AD5A4E5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35440" y="909720"/>
            <a:ext cx="345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花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5799-0E37-456C-A3A6-4A55853AD9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940040" y="6407280"/>
            <a:ext cx="669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3:40Z</dcterms:modified>
  <cp:revision>5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