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5ED-9897-4ED9-A3F4-62C64070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CA6-3A18-40BB-AA60-F7FD712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2B1-CCEC-4B8C-825A-D17DD676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978-69B1-45E5-BB74-F9F2596D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3D00-89BA-486C-BC5C-B919CE4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2E85-8CD1-4DA9-9049-85A820B6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D2DF-3B42-4911-843C-D8813DDC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D431-B780-4CE2-AE72-29D6965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2FC4-23A9-4C37-8C81-1B6889F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B3C-8341-4BD4-B1B2-1B2C12F7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719-36B6-4096-A813-D753408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FE1-BF25-40D7-9DD0-6337FB1E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9B9-6BAC-416D-9906-5B071C5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9DDA-1BDC-46B2-8C8B-D51213C9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33AD-093E-4FF5-85BF-B6D8A21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05D-2D6C-4357-85CD-9B3B445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88D-0BC7-4FAA-8168-46E63100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F12-AB9D-44F2-B947-94EA12F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71B-2E82-476E-B1E0-C27B416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397-0823-4A1A-ADB9-DE9ABF7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D7E-3C91-4742-9156-AEDA255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F08-7744-4C64-8A2F-FF155439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D9F-C499-4D0E-A7AB-01E0C37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F37-CDD8-4FCE-996B-877F557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11AA-B297-49CF-8C23-A05CA5321D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F98-C820-4634-9FD5-D41FFBFF7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2A6-CED8-4CEF-BD1D-3CB0202ED2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9D3-8D21-479D-A924-E5BD0B5623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xpic6174"/>
          <p:cNvPicPr/>
          <p:nvPr/>
        </p:nvPicPr>
        <p:blipFill>
          <a:blip r:embed="rId1"/>
          <a:stretch/>
        </p:blipFill>
        <p:spPr>
          <a:xfrm>
            <a:off x="1276200" y="0"/>
            <a:ext cx="6591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387880" y="361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旗飘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3:21:35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