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19AF-7C9B-4B01-AF55-1A95DAB27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7E20-69E2-4896-8C00-261285AE7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789C-0869-4556-9EE6-CFDD2BB97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3189-ADFB-42F5-B12F-FC78D2CFF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3D385-6149-4A18-8A93-D1E47E37D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004CA-B4F2-402C-9F27-8FA6E9556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E40B0-4076-496B-B2B8-14AD238B7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6BA35-558B-44D9-B6C1-3B04B711E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53EED-E2EF-4C2A-8449-2BA5D6DD3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848D8-4870-4A6B-987C-FF674C901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8A62D-DAC5-4493-9E26-9DCB6CDE5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B815-DFE8-4ACC-A1A9-726135073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4B226-03F0-4AB9-8871-49CAD1D51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01C1B-250E-4A12-B105-3BB2A67E1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32141-0A7F-46AA-931F-8F7B89FEF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DFF9F-9DE5-4192-BD92-58461A9A5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5808E-3018-4741-AE99-B6541CCE3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0E37-49E0-4324-8A07-8A958D478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B310-7F99-40E1-A46D-5B724AF31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A417-FD9A-48D0-A1F5-629904C8D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E422-81AB-43CB-B862-0C6F5E932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B201-DE22-47DA-A1C3-341068CE2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7855-574E-4A95-BAB9-C331D4900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88A6-3014-4B2A-B685-C7ECC9B2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95C52-7E2C-4367-BBEA-E08981662A0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79EBA-5A3D-4A79-9CA1-80C175222A5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9C659-F44C-4A1C-B04A-9D48DDA591A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37946-2169-467E-808E-A56657038E4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00320" y="320760"/>
            <a:ext cx="436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楷体"/>
                <a:ea typeface="楷体"/>
              </a:rPr>
              <a:t>黑色背景</a:t>
            </a:r>
            <a:r>
              <a:rPr b="0" lang="zh-CN" sz="4000" spc="-1" strike="noStrike">
                <a:solidFill>
                  <a:srgbClr val="ffffff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楷体"/>
                <a:ea typeface="楷体"/>
              </a:rPr>
              <a:t>素材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800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3E7CA-7633-42D4-AA77-1EA7A891394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33:44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