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97CB-E1BE-42EA-9663-394BCF09D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4F8C-D193-49D5-BB8A-EBD8C6D74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A2AB-3C6C-47F3-9252-612DF230C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D667-39B4-4F62-9449-08E4A1BF9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BFF3-94C5-4A02-B7DF-C74F7EF6A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A23A-64F6-4293-A255-039BD387FB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FC3A2-4613-4241-AA69-0EBAD02F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B3C9A-67A8-49CE-9CF3-24622F47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B968D-5CCF-482A-974E-6CF92436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5468-8805-4C22-9E6C-3DE1990CA1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A84DE-4BE5-4542-98E4-A45F3613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79449-282D-4FF6-9C98-B1645A36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7F6DE-E004-4C22-AF86-FB129808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4C621-D8B8-449F-BB53-B9FF2DDB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D1AF7-7C9E-4CAD-ABEE-70D51625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EC8D2-AC77-45D9-A662-809F9524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5C3FE-61E3-4868-8071-7E056137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E0A30-EEEF-42F0-B39E-20CA4CBA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F6DA5-10E4-41CA-A4EC-1518C323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E3DB-4D2A-4469-BD6C-F7BBC91AC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9212-3791-4921-8F80-CE53706ED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46C2-E50E-4627-8097-0E9B994A7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92AD-6625-4B2F-9195-98275F0E2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BA20-0D0F-4039-9470-58F6A6D2A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78040" y="590040"/>
            <a:ext cx="5832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0280" y="1639800"/>
            <a:ext cx="795996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64b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F797C06-7600-45D7-A566-D60E96DC7BB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>
            <a:hlinkClick r:id="rId2"/>
          </p:cNvPr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>
            <a:hlinkClick r:id="rId3"/>
          </p:cNvPr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>
            <a:hlinkClick r:id="rId4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3">
            <a:hlinkClick r:id="rId5"/>
          </p:cNvPr>
          <p:cNvSpPr/>
          <p:nvPr/>
        </p:nvSpPr>
        <p:spPr>
          <a:xfrm>
            <a:off x="236844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png-0056"/>
          <p:cNvPicPr/>
          <p:nvPr/>
        </p:nvPicPr>
        <p:blipFill>
          <a:blip r:embed="rId6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png-0002"/>
          <p:cNvPicPr/>
          <p:nvPr/>
        </p:nvPicPr>
        <p:blipFill>
          <a:blip r:embed="rId7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8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47" name="Picture 9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0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481480"/>
              <a:ext cx="57636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11">
            <a:hlinkClick r:id="rId10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>
            <a:hlinkClick r:id="rId11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>
            <a:hlinkClick r:id="rId12"/>
          </p:cNvPr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>
            <a:hlinkClick r:id="rId13"/>
          </p:cNvPr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>
            <a:hlinkClick r:id="rId14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>
            <a:hlinkClick r:id="rId15"/>
          </p:cNvPr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>
            <a:hlinkClick r:id="rId16"/>
          </p:cNvPr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0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59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Line 23"/>
            <p:cNvSpPr/>
            <p:nvPr/>
          </p:nvSpPr>
          <p:spPr>
            <a:xfrm>
              <a:off x="334908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7286760" y="6022800"/>
            <a:ext cx="1388880" cy="34956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78040" y="590040"/>
            <a:ext cx="5832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20280" y="1639800"/>
            <a:ext cx="795996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64b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4DFA-6BD2-42F7-9E67-6A29B9D976B8}" type="slidenum">
              <a:rPr b="0" i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BF7197D-3E2C-4502-915E-059CC1CE9FD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矩形 1"/>
          <p:cNvSpPr/>
          <p:nvPr/>
        </p:nvSpPr>
        <p:spPr>
          <a:xfrm>
            <a:off x="2647440" y="12668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</a:rPr>
              <a:t>红色国旗</a:t>
            </a:r>
            <a:r>
              <a:rPr b="0" i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i="1" lang="zh-CN" sz="4000" spc="-1" strike="noStrike">
                <a:solidFill>
                  <a:srgbClr val="ffffff"/>
                </a:solidFill>
                <a:latin typeface="Arial"/>
              </a:rPr>
              <a:t>素材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>幻灯片之家：www.eeppt.com;</dc:description>
  <cp:keywords>幻灯片之家：www.eeppt.com</cp:keywords>
  <dc:language>en-US</dc:language>
  <cp:lastModifiedBy/>
  <dcterms:modified xsi:type="dcterms:W3CDTF">2015-07-20T13:21:09Z</dcterms:modified>
  <cp:revision>154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