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22C0-3937-43A9-A1A6-727096316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C557-4C20-42CB-8D82-80DE41B90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3683-99EA-492C-A9C7-D4B6B4742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52AD-FAA4-42F6-98D0-3A99AF94E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FE79-5423-4797-97B2-8079F25B6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D3A1-93E5-41EE-B431-7F9E8BFED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6C1D-1394-44BB-A7DA-E892E812C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4C5A-731A-4D67-89F3-8CCB80B77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CC60-E51D-435A-904B-F2BE508A5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CE41-1A15-44D0-AD64-A30200E89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0A47-F17F-4680-AEE9-35C39645A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032D-A7F7-428F-BB81-FB0A5B741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4524C-D8DD-4BD4-84B1-E706F3B0A2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47640" y="5516280"/>
            <a:ext cx="5832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4000" spc="-1" strike="noStrike">
                <a:solidFill>
                  <a:srgbClr val="3333cc"/>
                </a:solidFill>
                <a:latin typeface="Arial"/>
              </a:rPr>
              <a:t>Presentation Tit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68360" y="6093000"/>
            <a:ext cx="435312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2400" spc="-1" strike="noStrike">
                <a:solidFill>
                  <a:srgbClr val="e26360"/>
                </a:solidFill>
                <a:latin typeface="Arial"/>
              </a:rPr>
              <a:t>The subheading goes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9080" y="64785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5680" y="4797360"/>
            <a:ext cx="375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护士</a:t>
            </a:r>
            <a:r>
              <a:rPr b="0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素材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74760" y="28692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s-E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s-E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s-E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s-E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s-E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s-E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s-E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s-E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s-E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s-E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s-E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s-E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s-E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s-E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s-E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s-E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s-E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s-E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s-E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s-E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s-E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s-E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s-E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s-E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s-E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s-E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s-E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s-E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s-E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s-E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s-E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D888-FD82-4DB0-AC25-6442951609D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74760" y="28692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3:57:26Z</dcterms:modified>
  <cp:revision>53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