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"/>
          <p:cNvSpPr/>
          <p:nvPr/>
        </p:nvSpPr>
        <p:spPr>
          <a:xfrm>
            <a:off x="4033800" y="42861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7"/>
          <p:cNvSpPr/>
          <p:nvPr/>
        </p:nvSpPr>
        <p:spPr>
          <a:xfrm>
            <a:off x="5494320" y="4719600"/>
            <a:ext cx="3220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26040" y="37180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护士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图片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3320" y="1283760"/>
            <a:ext cx="8064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0:1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7801000000000001024140</vt:lpwstr>
  </property>
</Properties>
</file>