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C3B8-AFAF-4B04-A1A7-9B4ED27F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8D2-E6F1-4BE2-8D05-CA7DA614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7B98-2A8B-4128-9F85-523E55B4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59C0-B365-439D-972F-5A23F85B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6A42-51B8-46C2-A478-07128B89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B7F4-E41B-445C-9A04-E87AF3E1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7C51-2061-4661-8B98-31539850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29E5-E204-4AB8-B5A6-02DAA990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56C0-6B95-440C-8E0B-C32352EA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B6F2-0AAD-4896-9BE0-DE3D5C3A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4C92-2787-431F-99B1-4A012ECC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70FE-4105-4609-8E0A-6F4C0128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BF61-3974-43B7-A31C-B4AE955C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B59C-7EA1-4437-999A-071225AD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680F-4DC3-42BB-B6EF-D0A65431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E719-8BC0-421A-84FB-E67DD291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3DF4-AE57-4909-9E8A-25E7ADEF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7F22-8B9D-41A1-9ACA-1C6E2A15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F09-3F38-44AC-9CBF-98CE4EEB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9B5-0CB5-48B7-906D-868AE491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AFE4-820B-4D13-A323-5E452260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C392-260E-4D9C-987A-C9AB952A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EDE6-D1A4-4477-90F4-40B1902D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543A-FB6D-49BC-84CE-998667E7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29B0-CDED-4F32-BD1F-699B08DA7C6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F7FB-BFFA-4DB2-A538-C737DDFD1F2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aea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eaeaea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85280" y="62064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微软雅黑"/>
                <a:ea typeface="微软雅黑"/>
              </a:rPr>
              <a:t>化学实验</a:t>
            </a:r>
            <a:r>
              <a:rPr b="0" lang="en-US" sz="4000" spc="-1" strike="noStrike">
                <a:solidFill>
                  <a:srgbClr val="eaeaea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eaeaea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ff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C543-C610-4F51-8AC8-09A12C6B86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0T05:26:5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3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