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B6B-0617-4921-87C1-7FE2554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8F2-A851-4506-89C5-D484D52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940-B98B-449D-840E-356208FF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FD3-22F5-45EB-9322-015BEDAF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BDE-7473-44A8-B49C-5FB3DABC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1D3-F26F-4F1F-8FF0-7DEE82D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B8D-AF6C-467D-906B-FB0CBE51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A9E-1C6C-4BE7-ADD8-EE6737E0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FB45-F26A-4932-A46F-853ADE1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0FF6-DE0A-4486-8BA9-21B8258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3FC-B769-496B-BA9A-8C040F3F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EF-CB16-40DB-9758-ABF0665D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0DD-7DC9-48E9-8E8A-B5B2B9F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D74-5FFA-4963-915D-EF4B068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A6AE-6D30-40AF-B698-ED55193A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EAF3-5BAB-4DB3-AE3E-74150B59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D4C8-7FD6-4FAB-9F41-38BBAF70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CC3E-8920-4EA8-8DD2-52CFC07F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F826-B144-4421-968F-1787C07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54ED-F3B8-468B-A828-B3F9DF1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561C-0C70-4CEA-959D-08C3842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8161-FA2C-496B-89F9-F23281E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D5B-CB13-4CF4-A1B8-89AC88B5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C5FF-AA63-46BA-9FE9-B107A35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EC1F-DCDF-49ED-8CDD-171FFCE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305B-0997-40C3-83A7-4D1E6A0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E0C8-C0D9-4788-A1FC-0CAFA21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EA90-3DBD-41DA-91B4-6975493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CD30-CDF2-49A0-80A2-05D366B9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E054-FBAD-482E-AC4B-487F279B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5E5-7762-43B7-AFDA-96F190F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030-D125-467D-8528-CEC74B3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507-6B81-41C0-9836-131A5085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FDA-5D8E-4B6A-A3BC-B9AEF2E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6F2-F5C5-4614-BD72-7A5D087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CC9-E1EF-452C-A47E-4537CF5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2A0-B843-4E30-BB03-0A6AD4E352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ADD-1735-435C-8DDF-5D7CB992E1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CB31-32E5-417A-87A2-357DAB1ED6D0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Rectangle 9"/>
          <p:cNvGrpSpPr/>
          <p:nvPr/>
        </p:nvGrpSpPr>
        <p:grpSpPr>
          <a:xfrm>
            <a:off x="609480" y="1447920"/>
            <a:ext cx="7785000" cy="4352760"/>
            <a:chOff x="609480" y="1447920"/>
            <a:chExt cx="7785000" cy="4352760"/>
          </a:xfrm>
        </p:grpSpPr>
        <p:pic>
          <p:nvPicPr>
            <p:cNvPr id="130" name="Rectangle 9" descr=""/>
            <p:cNvPicPr/>
            <p:nvPr/>
          </p:nvPicPr>
          <p:blipFill>
            <a:blip r:embed="rId2"/>
            <a:stretch/>
          </p:blipFill>
          <p:spPr>
            <a:xfrm>
              <a:off x="609480" y="1447920"/>
              <a:ext cx="77850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5960" y="1451160"/>
              <a:ext cx="77724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" name="WordArt 4"/>
          <p:cNvSpPr txBox="1"/>
          <p:nvPr/>
        </p:nvSpPr>
        <p:spPr>
          <a:xfrm>
            <a:off x="914400" y="3048120"/>
            <a:ext cx="770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热烈欢迎莅临大会现场的领导和嘉宾 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33" name="Picture 10" descr="2"/>
          <p:cNvPicPr/>
          <p:nvPr/>
        </p:nvPicPr>
        <p:blipFill>
          <a:blip r:embed="rId3"/>
          <a:stretch/>
        </p:blipFill>
        <p:spPr>
          <a:xfrm>
            <a:off x="8369280" y="1143000"/>
            <a:ext cx="546120" cy="487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3"/>
          <p:cNvPicPr/>
          <p:nvPr/>
        </p:nvPicPr>
        <p:blipFill>
          <a:blip r:embed="rId4"/>
          <a:stretch/>
        </p:blipFill>
        <p:spPr>
          <a:xfrm>
            <a:off x="169920" y="1143000"/>
            <a:ext cx="515880" cy="4898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859A-C78E-4184-AE41-CBA8535DDA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0:38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