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12.jpeg" ContentType="image/jpeg"/>
  <Override PartName="/ppt/media/camera.wav" ContentType="audio/x-wav"/>
  <Override PartName="/ppt/media/image7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CCA-B8B1-431E-B28E-80FE14D4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3E7-B2CA-43AB-A95C-7FD79B8F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3D5-EFA7-4292-9550-BA693A12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B79-4B9A-4C59-B341-52A23816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674-6BCB-4CC2-A420-AEC26D6F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D0E-4A3F-48F6-BCF9-B13848FB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6D8-4C6B-47EC-B44E-5282BAC1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19B-0EB8-4132-B62A-4ADE96CF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01E-52F4-4776-8B32-14D725D7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003-40FE-41D6-BF75-D3404686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3EC-1098-4C1F-BB50-7C0AAF87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BEE-477E-4A88-83B9-7744370F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F2AC-1318-4EA2-A268-51B6AB640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  <a:ea typeface="DotumCh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orc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3924360" y="620640"/>
            <a:ext cx="1800000" cy="165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鲸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2195640" y="765000"/>
            <a:ext cx="74592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25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7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比较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须鲸吃虾和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须鲸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主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吃虾和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鲸隔一定的时间呼吸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鲸隔一定的时间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必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呼吸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（鲸）睡觉的时候，几头聚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鲸）睡觉的时候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总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几头聚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1"/>
          <p:cNvSpPr/>
          <p:nvPr/>
        </p:nvSpPr>
        <p:spPr>
          <a:xfrm>
            <a:off x="1258920" y="412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ing0001"/>
          <p:cNvPicPr/>
          <p:nvPr/>
        </p:nvPicPr>
        <p:blipFill>
          <a:blip r:embed="rId2"/>
          <a:stretch/>
        </p:blipFill>
        <p:spPr>
          <a:xfrm>
            <a:off x="0" y="0"/>
            <a:ext cx="3251160" cy="335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jing0002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jing0003"/>
          <p:cNvPicPr/>
          <p:nvPr/>
        </p:nvPicPr>
        <p:blipFill>
          <a:blip r:embed="rId4"/>
          <a:stretch/>
        </p:blipFill>
        <p:spPr>
          <a:xfrm>
            <a:off x="0" y="3357720"/>
            <a:ext cx="3430440" cy="35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jing0004"/>
          <p:cNvPicPr/>
          <p:nvPr/>
        </p:nvPicPr>
        <p:blipFill>
          <a:blip r:embed="rId5"/>
          <a:stretch/>
        </p:blipFill>
        <p:spPr>
          <a:xfrm>
            <a:off x="3203640" y="3213000"/>
            <a:ext cx="3168720" cy="364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jing0005"/>
          <p:cNvPicPr/>
          <p:nvPr/>
        </p:nvPicPr>
        <p:blipFill>
          <a:blip r:embed="rId6"/>
          <a:stretch/>
        </p:blipFill>
        <p:spPr>
          <a:xfrm>
            <a:off x="6300720" y="3284640"/>
            <a:ext cx="284328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jing0006"/>
          <p:cNvPicPr/>
          <p:nvPr/>
        </p:nvPicPr>
        <p:blipFill>
          <a:blip r:embed="rId7"/>
          <a:stretch/>
        </p:blipFill>
        <p:spPr>
          <a:xfrm>
            <a:off x="3203640" y="0"/>
            <a:ext cx="309708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8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jing0007"/>
          <p:cNvPicPr/>
          <p:nvPr/>
        </p:nvPicPr>
        <p:blipFill>
          <a:blip r:embed="rId2"/>
          <a:stretch/>
        </p:blipFill>
        <p:spPr>
          <a:xfrm>
            <a:off x="0" y="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jing0009"/>
          <p:cNvPicPr/>
          <p:nvPr/>
        </p:nvPicPr>
        <p:blipFill>
          <a:blip r:embed="rId3"/>
          <a:stretch/>
        </p:blipFill>
        <p:spPr>
          <a:xfrm>
            <a:off x="3059280" y="0"/>
            <a:ext cx="3025440" cy="328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jing0010"/>
          <p:cNvPicPr/>
          <p:nvPr/>
        </p:nvPicPr>
        <p:blipFill>
          <a:blip r:embed="rId4"/>
          <a:stretch/>
        </p:blipFill>
        <p:spPr>
          <a:xfrm>
            <a:off x="0" y="3284640"/>
            <a:ext cx="3236760" cy="357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jing0011"/>
          <p:cNvPicPr/>
          <p:nvPr/>
        </p:nvPicPr>
        <p:blipFill>
          <a:blip r:embed="rId5"/>
          <a:stretch/>
        </p:blipFill>
        <p:spPr>
          <a:xfrm>
            <a:off x="6084720" y="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jing0012"/>
          <p:cNvPicPr/>
          <p:nvPr/>
        </p:nvPicPr>
        <p:blipFill>
          <a:blip r:embed="rId6"/>
          <a:stretch/>
        </p:blipFill>
        <p:spPr>
          <a:xfrm>
            <a:off x="3059280" y="3284640"/>
            <a:ext cx="3251160" cy="3573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jing0013"/>
          <p:cNvPicPr/>
          <p:nvPr/>
        </p:nvPicPr>
        <p:blipFill>
          <a:blip r:embed="rId7"/>
          <a:stretch/>
        </p:blipFill>
        <p:spPr>
          <a:xfrm>
            <a:off x="6156360" y="3284640"/>
            <a:ext cx="2987640" cy="3573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8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会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、流利、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鲸的种类、进化过程和生活习性，知道保护鲸的 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打比方、列数据等说明性文章的写作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学习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课文，扫除文字障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检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捕获  宽敞  哺乳动物  前肢  退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胎生  滤过去  肺呼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默读课文，想想课文介绍了鲸的哪些知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087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呼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睡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 rot="5400000">
            <a:off x="3814920" y="44020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生活习性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用你最喜欢的方式学习你最感兴趣的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5280" y="233208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习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     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写作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呼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睡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  <p:sndAc>
      <p:stSnd>
        <p:snd r:embed="rId2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571-607C-4081-9C36-4D70CD28593E}" type="slidenum">
              <a:t>8</a:t>
            </a:fld>
          </a:p>
        </p:txBody>
      </p:sp>
    </p:spTree>
  </p:cSld>
  <p:transition spd="slow">
    <p:blinds dir="vert"/>
    <p:sndAc>
      <p:stSnd>
        <p:snd r:embed="rId26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感情的朗读感兴趣的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小组讨论学习感兴趣的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一画鲸的呼吸和睡觉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“鲸的自述”形式讲一讲鲸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01:21:17Z</dcterms:created>
  <dc:creator/>
  <dc:description/>
  <cp:keywords>幻灯片之家 http:/www.eeppt.com</cp:keywords>
  <dc:language>en-US</dc:language>
  <cp:lastModifiedBy/>
  <dcterms:modified xsi:type="dcterms:W3CDTF">2015-07-20T03:47:46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