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02C-ED67-4DB1-9D62-A468AAF7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773-73AF-405D-8309-157B85AF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91A-7656-48B9-97A6-7543CD7F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699-162A-4A77-93E1-25B887EE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5B0-D945-4588-8F42-E1CC679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D7C-309D-4DF0-BB1B-31184547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173-629E-4E7C-957A-EE45B041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017-4A8C-480B-9167-47411726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8BD-D26D-4EA8-9A22-E86670E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B1E-D94E-4EDD-9495-318DCDF2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F88-0054-464E-B00E-9F97139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6A5-D1FC-46F6-98D6-133CEFA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288-B03F-420D-877A-6D658A93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beijin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2"/>
          <p:cNvPicPr/>
          <p:nvPr/>
        </p:nvPicPr>
        <p:blipFill>
          <a:blip r:embed="rId16"/>
          <a:stretch/>
        </p:blipFill>
        <p:spPr>
          <a:xfrm>
            <a:off x="0" y="-6984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30840" y="1028880"/>
            <a:ext cx="118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7480" y="1052640"/>
            <a:ext cx="34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金色的草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62120" y="609480"/>
            <a:ext cx="76197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学目标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理解课文的第三、四自然段的内容，重点了解蒲公英一天的变化，理解“草地为什么会变色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有感情地朗读课文，体会作者的感情，感受蒲公英的有趣。感受大自然给我们生活带来的乐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积累好词好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14400" y="99072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朗读课文，思考问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文中的“我”先发现什么？又发现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草地为什么会变色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F:\新建文件夹\11.jpg"/>
          <p:cNvPicPr/>
          <p:nvPr/>
        </p:nvPicPr>
        <p:blipFill>
          <a:blip r:embed="rId1"/>
          <a:stretch/>
        </p:blipFill>
        <p:spPr>
          <a:xfrm>
            <a:off x="6629400" y="304920"/>
            <a:ext cx="2286000" cy="174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0" y="380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一天，我起得很早去钓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现草地并不是金色的，而是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色的。中午回家的时候，我看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草地是金色的。傍晚的时候，草地又变绿了。这是为什么呢？我来到草地上，仔细观察，发现蒲公英的花瓣是合拢的。原来，蒲公英的花就像我们的手掌，可以张开、合上。花朵张开时，它是金色的，草地也是金色的；花朵合拢时，金色的花瓣被包住，草地就变成绿色的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-152280" y="3733920"/>
            <a:ext cx="9067320" cy="2209680"/>
            <a:chOff x="-152280" y="3733920"/>
            <a:chExt cx="9067320" cy="2209680"/>
          </a:xfrm>
        </p:grpSpPr>
        <p:sp>
          <p:nvSpPr>
            <p:cNvPr id="51" name="Line 17"/>
            <p:cNvSpPr/>
            <p:nvPr/>
          </p:nvSpPr>
          <p:spPr>
            <a:xfrm>
              <a:off x="5040" y="4343400"/>
              <a:ext cx="8830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8"/>
            <p:cNvSpPr/>
            <p:nvPr/>
          </p:nvSpPr>
          <p:spPr>
            <a:xfrm>
              <a:off x="84240" y="4876920"/>
              <a:ext cx="8830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9"/>
            <p:cNvSpPr/>
            <p:nvPr/>
          </p:nvSpPr>
          <p:spPr>
            <a:xfrm>
              <a:off x="84240" y="5410440"/>
              <a:ext cx="8830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20"/>
            <p:cNvSpPr/>
            <p:nvPr/>
          </p:nvSpPr>
          <p:spPr>
            <a:xfrm>
              <a:off x="-152280" y="5943600"/>
              <a:ext cx="2365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21"/>
            <p:cNvSpPr/>
            <p:nvPr/>
          </p:nvSpPr>
          <p:spPr>
            <a:xfrm>
              <a:off x="6076800" y="3733920"/>
              <a:ext cx="2680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:\新建文件夹\13.jpg"/>
          <p:cNvPicPr/>
          <p:nvPr/>
        </p:nvPicPr>
        <p:blipFill>
          <a:blip r:embed="rId1"/>
          <a:stretch/>
        </p:blipFill>
        <p:spPr>
          <a:xfrm>
            <a:off x="0" y="3276720"/>
            <a:ext cx="4876920" cy="376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新建文件夹\11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51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F:\新建文件夹\12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新建文件夹\14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0" y="0"/>
            <a:ext cx="3124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训练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743200" y="10666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说说在我们广阔的大自然里，还有哪些植物是充满神奇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2438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催眠花：非洲有一种木菊花，喜欢生长在荒山野岭之中。这种花色彩夺目，香气浓郁， 不但博得人们喜爱，就是野生动物也常常立 足欣赏。然而这种花具有强烈的催眠作用， 人们只要用舌头添一下花瓣，马上就会入睡，野生动物吃后，立即卧地而眠，即使是两吨多重的犀牛，只要吃了它，也会昏倒在地，呼呼大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0" y="3049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积累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09480" y="1905120"/>
            <a:ext cx="8153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动手抄一抄，画一画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抄一抄自己喜欢的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画一画蒲公英张开、合拢时的样子和颜色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000" y="458136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C60-4F4A-44DD-98A4-B6C76F887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380880" y="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后延伸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85800" y="27432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5400" spc="-1" strike="noStrike">
                <a:solidFill>
                  <a:srgbClr val="6666ff"/>
                </a:solidFill>
                <a:latin typeface="Times New Roman"/>
              </a:rPr>
              <a:t>仔细观察自己喜欢的事物，再动笔写一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2:20:42Z</dcterms:created>
  <dc:creator/>
  <dc:description/>
  <cp:keywords>幻灯片之家 http:/www.eeppt.com</cp:keywords>
  <dc:language>en-US</dc:language>
  <cp:lastModifiedBy/>
  <dcterms:modified xsi:type="dcterms:W3CDTF">2015-07-18T14:42:12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