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8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B18-3E03-4EE5-A0AF-E973ECEB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123-3416-4FFA-941E-DBC053D0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806-194F-4C41-9DBF-4F9F3A21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28E-4747-46F9-9F28-359813B4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988-0BC5-4CF4-987C-C307D2AB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F07-3840-4C27-B058-52233C12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A67-49C1-465E-AF59-5E9CE5FD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7B3-ED8A-4662-97BE-DF7B9794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997-42B2-44D4-A196-8BB7306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375-6FF3-4674-A503-06BA711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657-77A0-48CA-BE40-E631BA5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895-8B57-4BB9-A593-ED2815C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A9DF-0096-4DE6-A166-52C86096A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hyperlink" Target="http://www.eeppt.com/moban/kejian/" TargetMode="External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jpeg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5.gif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6.gif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3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8" descr="未标题-1 拷贝"/>
          <p:cNvPicPr/>
          <p:nvPr/>
        </p:nvPicPr>
        <p:blipFill>
          <a:blip r:embed="rId16"/>
          <a:stretch/>
        </p:blipFill>
        <p:spPr>
          <a:xfrm>
            <a:off x="990720" y="1219320"/>
            <a:ext cx="7162560" cy="5097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9"/>
          <p:cNvSpPr/>
          <p:nvPr/>
        </p:nvSpPr>
        <p:spPr>
          <a:xfrm>
            <a:off x="2743200" y="30492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6840" y="54936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金色的草地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7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96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97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05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2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27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28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36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3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55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钓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59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60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7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68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5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87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察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90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91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8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99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6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18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1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22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9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30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7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49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52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53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0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61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8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80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83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84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1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92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9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11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54450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7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8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D57-21AC-45A5-BA81-C47DD1215189}" type="slidenum">
              <a:t>17</a:t>
            </a:fld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2130480" y="1600200"/>
            <a:ext cx="542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要多读几遍课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把 对草地和蒲公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喜爱的感情读出来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们交流交流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从课文的哪些地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可以看出草地的可爱、蒲公英的有趣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5" descr="04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357560" y="1905120"/>
            <a:ext cx="6130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把下面的句子抄了下来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你抄了哪些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朵张开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它是金色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草地也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色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朵合拢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色的花瓣被包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草地就变成绿色的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" descr="未标题-1 拷贝"/>
          <p:cNvPicPr/>
          <p:nvPr/>
        </p:nvPicPr>
        <p:blipFill>
          <a:blip r:embed="rId2"/>
          <a:stretch/>
        </p:blipFill>
        <p:spPr>
          <a:xfrm>
            <a:off x="838080" y="4572000"/>
            <a:ext cx="5283360" cy="19512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05"/>
          <p:cNvPicPr/>
          <p:nvPr/>
        </p:nvPicPr>
        <p:blipFill>
          <a:blip r:embed="rId3"/>
          <a:stretch/>
        </p:blipFill>
        <p:spPr>
          <a:xfrm>
            <a:off x="7848720" y="3049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47" name="Group 3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48" name="Picture 4" descr="BGFL01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5" descr="BGFL016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6" descr="BGFL016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7" descr="BGFL016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Group 8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53" name="Picture 9" descr="BGFL016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10" descr="BGFL016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11" descr="BGFL016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2" descr="BGFL016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Group 13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58" name="Picture 14" descr="BGFL016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5" descr="BGFL016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6" descr="BGFL016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7" descr="BGFL016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Group 18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63" name="Picture 19" descr="BGFL016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20" descr="BGFL016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21" descr="BGFL016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22" descr="BGFL016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" name="Group 23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68" name="Picture 24" descr="BGFL016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25" descr="BGFL016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26" descr="BGFL016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27" descr="BGFL016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2" name="Picture 28" descr="未标题-1 拷贝"/>
          <p:cNvPicPr/>
          <p:nvPr/>
        </p:nvPicPr>
        <p:blipFill>
          <a:blip r:embed="rId21"/>
          <a:stretch/>
        </p:blipFill>
        <p:spPr>
          <a:xfrm>
            <a:off x="762120" y="1066680"/>
            <a:ext cx="7721640" cy="4953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4" name="Group 10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75" name="Picture 2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3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4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5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6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Picture 7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8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83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0" name="Picture 20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1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2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3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4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5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6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8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9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0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1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4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36" descr="21"/>
          <p:cNvPicPr/>
          <p:nvPr/>
        </p:nvPicPr>
        <p:blipFill>
          <a:blip r:embed="rId27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7"/>
          <p:cNvSpPr/>
          <p:nvPr/>
        </p:nvSpPr>
        <p:spPr>
          <a:xfrm>
            <a:off x="2058840" y="662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8"/>
          <p:cNvSpPr/>
          <p:nvPr/>
        </p:nvSpPr>
        <p:spPr>
          <a:xfrm>
            <a:off x="1592640" y="2438280"/>
            <a:ext cx="589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钓   拢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2193840" y="1627200"/>
            <a:ext cx="4816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Times New Roman"/>
              </a:rPr>
              <a:t>diào              lǒ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8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7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08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16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32" descr="book9"/>
          <p:cNvPicPr/>
          <p:nvPr/>
        </p:nvPicPr>
        <p:blipFill>
          <a:blip r:embed="rId27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3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46"/>
          <p:cNvSpPr/>
          <p:nvPr/>
        </p:nvSpPr>
        <p:spPr>
          <a:xfrm>
            <a:off x="3354480" y="914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耍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8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0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41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49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6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8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72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80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7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9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53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劲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3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04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12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9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1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53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绒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34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35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43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0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 Box 53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65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66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74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1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93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4:28:11Z</dcterms:created>
  <dc:creator/>
  <dc:description/>
  <cp:keywords>幻灯片之家 http:/www.eeppt.com</cp:keywords>
  <dc:language>en-US</dc:language>
  <cp:lastModifiedBy/>
  <dcterms:modified xsi:type="dcterms:W3CDTF">2015-07-19T02:16:35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