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469-8F5B-4D31-B7E9-27470FC8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3CBF-1317-4484-A2A1-F802C123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246-BC80-47C9-9832-D2E1A4EF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DCC-DF06-48EE-AD4C-F12A62709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33BF-BE0B-4338-B74B-1F7570E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BE4-7295-47DE-A432-9B9F43C7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D9F-2942-48DE-85F8-9C6C0534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9F7-8898-4411-B749-81C0DF9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853D-C286-48EC-833D-5A228D06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5BC-251B-45C2-8205-E014A0B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0AC-C988-4571-955C-1A4376A3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0A7-362F-4183-A1CA-C7AD455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55A9-72B8-41E9-BC86-37D2B28F8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03720" y="114300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计算机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8AF-7194-4EE6-9872-4EC6A0320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6T06:23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4001000000000001024140</vt:lpwstr>
  </property>
  <property fmtid="{D5CDD505-2E9C-101B-9397-08002B2CF9AE}" pid="4" name="Version">
    <vt:r8>1</vt:r8>
  </property>
</Properties>
</file>