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137-CC6B-4A11-9AC8-EFF09696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1CA-74C8-4965-ABA2-13068206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FAB-4C76-4E50-A5F7-7EC40708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3BE-7171-489E-BEC4-CC815B1C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ADCC-A8A8-4CF8-87A1-DEC54646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9911-4686-4ACF-B6BE-C0CDB4E1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0F8E-FEF3-46EE-8912-A96241D3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CDEC-1BFF-477B-A65F-EFCED740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C873-5307-4221-9BB7-62A5FFA5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87F5-905C-403B-BF9F-8F1CFF7B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037D-BCAC-460D-A8E2-9CB0879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0B7-081A-41A9-ABD6-B5A761F6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C6CB-84EF-45D7-8040-7CF9265D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DF1E-6E34-4E2F-828E-C9BA6114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7303-3495-4645-B531-91B21454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4691-E32B-4DB7-A73F-FA177EEB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4081-5C99-472E-9CB7-ED6F3AF9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6AB-4A1B-4ADF-95A2-D56E7559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F94-312D-4A42-BA4A-4F14FFA7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E0D-E597-4484-8B08-AAF7003C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04F-FFC5-44C2-9CA7-92A5212C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422-3CEE-4645-83C4-13CAE8F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59B-C294-45CC-865D-35126683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DE6-6F8F-4BE6-BCAB-5C29968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800" spc="-1" strike="noStrike">
                <a:solidFill>
                  <a:srgbClr val="ffffff"/>
                </a:solidFill>
                <a:latin typeface="Tahoma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19E4-BEA7-4C1E-9F4B-55E99A3F5C13}" type="slidenum">
              <a:rPr b="1" lang="zh-TW" sz="800" spc="-1" strike="noStrike">
                <a:solidFill>
                  <a:srgbClr val="ffffff"/>
                </a:solidFill>
                <a:latin typeface="Tahoma"/>
                <a:ea typeface="PMingLiU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800" spc="-1" strike="noStrike">
                <a:solidFill>
                  <a:srgbClr val="ffffff"/>
                </a:solidFill>
                <a:latin typeface="Arial Black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1941-D7C0-402F-BCBD-9742626EEB61}" type="slidenum">
              <a:rPr b="0" lang="zh-TW" sz="800" spc="-1" strike="noStrike">
                <a:solidFill>
                  <a:srgbClr val="ffffff"/>
                </a:solidFill>
                <a:latin typeface="Arial Black"/>
                <a:ea typeface="PMingLiU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77640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超世纪细隶书"/>
                <a:ea typeface="超世纪细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5120" y="44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军事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Impact"/>
                <a:ea typeface="PMingLiU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PMingLiU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PMingLiU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2629080" y="6453360"/>
            <a:ext cx="4535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83E-2120-432E-B34C-0BD69D902235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52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PMingLiU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Impact"/>
                <a:ea typeface="PMingLiU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6:34:11Z</dcterms:created>
  <dc:creator>QC0506001</dc:creator>
  <dc:description/>
  <dc:language>en-US</dc:language>
  <cp:lastModifiedBy>jccook</cp:lastModifiedBy>
  <dcterms:modified xsi:type="dcterms:W3CDTF">2015-07-21T02:26:20Z</dcterms:modified>
  <cp:revision>5</cp:revision>
  <dc:subject/>
  <dc:title>FIGHTER PILOT F-1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