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C9C-CC51-4AF1-90FE-9A0F24F1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8BB0-4C95-44CE-AF23-0074C4EB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BF8D-3F98-4C71-8747-088262D9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BD8-175C-488B-8C92-40D7F244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25BC-50CF-4CDF-8110-4613A694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AA05-4145-4D56-91C0-D0B4FEC9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200E-1BE5-41B5-B815-1AB38566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3210-57EA-4312-BD03-26CE3262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F30C-936B-49B0-BA63-A3879CDD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53BB-5F56-4399-931D-D1C5CF03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E954-887C-46FE-8649-D00DA966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B5F-E136-4E22-8FF3-D9BB971C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987C-50B2-4813-B40B-894CA5D7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960F-5773-410D-ABA4-B0E7DC4F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DC02-3EEF-4D9C-BC30-2AAE506E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CABF-42D8-402D-BF97-085D210C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743C-69C8-4AC0-845C-1E260401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FD402-48D7-4E9F-B341-23D12A25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ED720-ADFD-4E1B-8BBC-51B81724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B592E-5FFE-4B91-B336-FC3AFB69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6FC70-DA2D-48DB-B3FE-E08B7A34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EF7D5-04B9-48D5-A43C-FF88D9EA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535-E357-4B1B-A242-16148920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9620E-8A86-4724-A144-487FAD4A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3682E-A7B9-415C-8044-CCF65EE2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5BFA-39B1-478E-81B3-9FC31FC5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9855A-8671-4C6B-9129-72F551ED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909B7-5861-417D-B206-0BEB8EA1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A23C9-09F8-4A4A-8898-EBD94AFF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D3ED4-A8C0-4FDF-A741-246D2A7B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227-E520-4F58-A6DE-8CFACADF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47D-9C55-4935-A5DA-20E0F8A7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663-3464-4B6F-8C16-2C243212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C64-4430-4075-931B-EFF3AB28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F32-1BE4-41F3-B77F-B4E2FFD8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7CC-9D0C-47F7-B1FA-4DAA66FF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366F-6D5B-4FE0-8923-247F4ED10B8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E7F9-C24F-462E-A38B-82B68729EB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8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9D86-E649-43D8-AF63-A4EFDB5935A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建设社会主义精神文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坚持先进文化的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826920" y="3068640"/>
            <a:ext cx="2808360" cy="1800360"/>
          </a:xfrm>
          <a:prstGeom prst="rightArrow">
            <a:avLst>
              <a:gd name="adj1" fmla="val 50000"/>
              <a:gd name="adj2" fmla="val 3899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4759200" y="1577880"/>
            <a:ext cx="3909960" cy="4537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200211060894_236400"/>
          <p:cNvPicPr/>
          <p:nvPr/>
        </p:nvPicPr>
        <p:blipFill>
          <a:blip r:embed="rId2"/>
          <a:stretch/>
        </p:blipFill>
        <p:spPr>
          <a:xfrm>
            <a:off x="4067280" y="2400480"/>
            <a:ext cx="4762440" cy="4457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539640" y="5805360"/>
            <a:ext cx="288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0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握先进文化前进方向的关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 flipH="1">
            <a:off x="6300000" y="2781360"/>
            <a:ext cx="1871640" cy="485640"/>
          </a:xfrm>
          <a:prstGeom prst="rightArrow">
            <a:avLst>
              <a:gd name="adj1" fmla="val 50000"/>
              <a:gd name="adj2" fmla="val 963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780000" y="2421000"/>
            <a:ext cx="181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在于坚持马克思主义在意识形态领域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指导地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1378080" cy="633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彩云"/>
              </a:rPr>
              <a:t>发展先进文化，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彩云"/>
              </a:rPr>
              <a:t>必须以马克思主义为指导的原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979640" y="4005360"/>
            <a:ext cx="205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47840" y="3433680"/>
            <a:ext cx="21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2843280" y="907920"/>
            <a:ext cx="431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这是由马克思主义的性质决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这是由我国的社会主义性质决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这是在思想观念和文化形态多样化的环境中，保证中国特色社会主义文化建设发展的必然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2050920" y="907920"/>
            <a:ext cx="144720" cy="460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                        </a:t>
            </a: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思一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人认为：“指导思想的一元化不符合文化多样化发展的要求。” 你认同吗？不认同请说明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3492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坚持马克思主义的指导地位与发展文化多样性是一致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因为坚持马克思主义的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指导地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同坚持为人民服务、为社会主义服务的方向和百花齐放、百家争鸣的方针是统一的，同社会主义文化的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多样性是统一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99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799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99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799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永不褪色的旗帜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克思主义是引领中国先进文化前进方向永不褪色的旗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共产党党旗图片"/>
          <p:cNvPicPr/>
          <p:nvPr/>
        </p:nvPicPr>
        <p:blipFill>
          <a:blip r:embed="rId1"/>
          <a:stretch/>
        </p:blipFill>
        <p:spPr>
          <a:xfrm>
            <a:off x="3995640" y="2997360"/>
            <a:ext cx="3600720" cy="2263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三个代表”重要思想是马克思主义在中国发展的最新成果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毛泽东思想、邓小平理论和“三个代表”是中国化的马克思主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900000" y="3860640"/>
            <a:ext cx="386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毛泽东思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3059280" y="3933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4048200" y="3789360"/>
            <a:ext cx="23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邓小平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6227640" y="386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7451640" y="3716280"/>
            <a:ext cx="16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江泽民的“三个代表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用“三个代表”重要思想统领当代社会主义文化建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200211070745_236989"/>
          <p:cNvPicPr/>
          <p:nvPr/>
        </p:nvPicPr>
        <p:blipFill>
          <a:blip r:embed="rId1"/>
          <a:stretch/>
        </p:blipFill>
        <p:spPr>
          <a:xfrm>
            <a:off x="611280" y="1557360"/>
            <a:ext cx="7777080" cy="4896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539640" y="645336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8628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能力延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坚持先进文化的前进方向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利于促进全民族思想道德素质和科学文化素质的不断提高   ②能够为我国经济基础发展和社会进步提供精神动力和智力支持   ③是发展先进文化生产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现最广大人民利益的物质基础   ④是社会主义现代化建设的根本目的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③④  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①② 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①③  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②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《人民日报》载文指出，构建和谐社会，必须使团结互助、扶贫济困、平等友爱、融洽和谐的关系的建立成为人们的自觉行动。这表明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我们要积极发展教育、科学、文化事业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精神文明建设的根本任务是培育“四有”公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我们应该做新时期中国先进文化传播和建设的志愿者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建设中国特色社会主义文化要鼓励创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纪初，面对西方工业文明浪潮的冲击，中国文化界的回应是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①全盘西化论   ②取其精华，去其糟粕   ③封闭主义   ④历史虚无主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①②   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②④ 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②③  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①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4788000" y="692280"/>
            <a:ext cx="36036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WordArt 5"/>
          <p:cNvSpPr txBox="1"/>
          <p:nvPr/>
        </p:nvSpPr>
        <p:spPr>
          <a:xfrm>
            <a:off x="7315200" y="320040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A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3352680" y="5638680"/>
            <a:ext cx="3621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-171720" y="1341360"/>
            <a:ext cx="10335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坚持先进文化的前进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900000" y="692280"/>
            <a:ext cx="432000" cy="5257800"/>
          </a:xfrm>
          <a:custGeom>
            <a:avLst/>
            <a:gdLst>
              <a:gd name="textAreaLeft" fmla="*/ 276120 w 432000"/>
              <a:gd name="textAreaRight" fmla="*/ 432360 w 43200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332000" y="404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进文化的求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4067280" y="404640"/>
            <a:ext cx="217440" cy="936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442764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盘西化论或文化复古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4427640" y="10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马克思主义传入是转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258920" y="256536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握先进文化的前进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780000" y="1844640"/>
            <a:ext cx="287280" cy="2016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356000" y="1773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508720" y="1773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6588000" y="1773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4356000" y="2492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马克思主义为指导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356000" y="321300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马克思主义的指导地位与发展文化多样性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1332000" y="566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永不褪色的旗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4067280" y="4653000"/>
            <a:ext cx="288720" cy="1800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4427640" y="4221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强调马克思主义在文化前进中的的地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4427640" y="5229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马克思主义中国化的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4427640" y="603576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个代表”重要思想统领现阶段文化建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42920" y="836640"/>
            <a:ext cx="403884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盘西化论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该思潮最早出现于戊戌变法时期，形成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代，主要人物是胡适、陈序经等人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认为百事不如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质不如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制度不如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道德不如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知识不如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学不如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音乐不如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艺术不如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体不如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在批判封建专制文化、宣传西方科学、民主和自由思想方面，起到一定的积极作用，但是在总体上是一种错误的理论，是一种数典忘祖的民族虚无主义，是不符合中国国情</a:t>
            </a:r>
            <a:r>
              <a:rPr b="0" lang="zh-CN" sz="2400" spc="-1" strike="noStrike">
                <a:solidFill>
                  <a:srgbClr val="33cc33"/>
                </a:solidFill>
                <a:latin typeface="Arial"/>
              </a:rPr>
              <a:t>的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WordArt 3" descr=""/>
          <p:cNvPicPr/>
          <p:nvPr/>
        </p:nvPicPr>
        <p:blipFill>
          <a:blip r:embed="rId1"/>
          <a:stretch/>
        </p:blipFill>
        <p:spPr>
          <a:xfrm>
            <a:off x="774720" y="189000"/>
            <a:ext cx="3949560" cy="1249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按此在新窗口浏览图片"/>
          <p:cNvPicPr/>
          <p:nvPr/>
        </p:nvPicPr>
        <p:blipFill>
          <a:blip r:embed="rId2"/>
          <a:stretch/>
        </p:blipFill>
        <p:spPr>
          <a:xfrm>
            <a:off x="250920" y="1989000"/>
            <a:ext cx="4286160" cy="3248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化复古主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是近代产生的一种文化思潮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是在中西文化的对撞中产生的。认为传统文化的千年道统是不能放弃的，中国文化的唯一出路就是重新确立传统文化的主导地位，他们坚决反对西化主张，要求返回孔孟之道，在社会上提倡尊孔运动，倡导诵经复古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。文化复古主义虽然在肯定中国传统文化的作用方面，起到一定作用，但他们死守传统的教条，不肯对传统文化持扬弃的态度，不愿向西方先进文化学习，这是一种食古不化的观念，是完全错误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kangyouwei"/>
          <p:cNvPicPr/>
          <p:nvPr/>
        </p:nvPicPr>
        <p:blipFill>
          <a:blip r:embed="rId1"/>
          <a:stretch/>
        </p:blipFill>
        <p:spPr>
          <a:xfrm>
            <a:off x="4643280" y="1268280"/>
            <a:ext cx="3745080" cy="410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http://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中学为体、西学为用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张之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《劝学篇》系统提出”中学为体、西学为用”的思想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谓”中学为体”指以孔孟学为核心的“中学”是中国古老文明的根本，是治国安邦的依据，不可变易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时承认“中学”中有不足，即缺  制造“坚船利炮”的近代工业技术，应借鉴和效仿西方，“取西人之长补我不逮足矣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一、中国先进文化的求索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奉行“全盘西化”论与“文化复古主义”都不能产生中国先进文化，也无法实现救亡图存的历史使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55640" y="19162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：以上三种观点，你认同哪一种？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马克思主义的传入是中华文化走向重振的转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f2"/>
          <p:cNvPicPr/>
          <p:nvPr/>
        </p:nvPicPr>
        <p:blipFill>
          <a:blip r:embed="rId1"/>
          <a:stretch/>
        </p:blipFill>
        <p:spPr>
          <a:xfrm>
            <a:off x="1042920" y="3068640"/>
            <a:ext cx="2881440" cy="1482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f3"/>
          <p:cNvPicPr/>
          <p:nvPr/>
        </p:nvPicPr>
        <p:blipFill>
          <a:blip r:embed="rId2"/>
          <a:stretch/>
        </p:blipFill>
        <p:spPr>
          <a:xfrm>
            <a:off x="1835280" y="2421000"/>
            <a:ext cx="5429160" cy="761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f3"/>
          <p:cNvPicPr/>
          <p:nvPr/>
        </p:nvPicPr>
        <p:blipFill>
          <a:blip r:embed="rId3"/>
          <a:stretch/>
        </p:blipFill>
        <p:spPr>
          <a:xfrm>
            <a:off x="1835280" y="2781360"/>
            <a:ext cx="5429160" cy="762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f3"/>
          <p:cNvPicPr/>
          <p:nvPr/>
        </p:nvPicPr>
        <p:blipFill>
          <a:blip r:embed="rId4"/>
          <a:stretch/>
        </p:blipFill>
        <p:spPr>
          <a:xfrm>
            <a:off x="1835280" y="2565360"/>
            <a:ext cx="5429160" cy="762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f3"/>
          <p:cNvPicPr/>
          <p:nvPr/>
        </p:nvPicPr>
        <p:blipFill>
          <a:blip r:embed="rId5"/>
          <a:stretch/>
        </p:blipFill>
        <p:spPr>
          <a:xfrm>
            <a:off x="2268360" y="2637000"/>
            <a:ext cx="5429520" cy="761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ldz1"/>
          <p:cNvPicPr/>
          <p:nvPr/>
        </p:nvPicPr>
        <p:blipFill>
          <a:blip r:embed="rId6"/>
          <a:stretch/>
        </p:blipFill>
        <p:spPr>
          <a:xfrm>
            <a:off x="4716360" y="2349360"/>
            <a:ext cx="2519640" cy="30243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9"/>
          <p:cNvSpPr/>
          <p:nvPr/>
        </p:nvSpPr>
        <p:spPr>
          <a:xfrm>
            <a:off x="3492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彩云"/>
              </a:rPr>
              <a:t>把握先进文化的前进方向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中国共产党始终代表中国先进文化的前进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什么是先进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378000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716360" y="2421000"/>
            <a:ext cx="33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马克思主义为指导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以培育有理想、有文化、有道德、有文化、有纪律的公民为目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发展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面向现代化、面向世界、面向未来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民族的科学的大众的社会主义文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方正舒体"/>
              </a:rPr>
              <a:t>坚持先进文化前进方向的意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4572000" y="1557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851280" y="3573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419640" y="2708280"/>
            <a:ext cx="284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建设中国有行特色社会主义文化的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根本要求和根本保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67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67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67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67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1:20:40Z</dcterms:created>
  <dc:creator/>
  <dc:description/>
  <cp:keywords>幻灯片之家 http:/www.eeppt.com</cp:keywords>
  <dc:language>en-US</dc:language>
  <cp:lastModifiedBy/>
  <dcterms:modified xsi:type="dcterms:W3CDTF">2015-07-20T06:32:2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