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812A8-C17C-4937-986E-63DF35B5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836F3-85EA-49BA-A89C-B9BA3597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44D3D-80A3-4E77-BF05-B5736992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5133F-FAAE-47CE-9AEC-28044198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2F26A-755F-405B-B459-44B9D35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58FC8-3CA3-4812-A8F8-88E04A66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B2C96-B610-47C6-9D86-0B6229F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185C9-B92C-456C-9463-8069F869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35B00-C619-4877-AC73-E215D66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3D26B-57FA-45D7-A742-0332552E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E88E3-D6E7-481E-857E-D9CAE3FD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F34B5-DCD8-4EF8-B57A-C3AAEE9B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AA51E-0EBD-4147-BBCD-97021C3C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F2877-6941-4051-92CF-FB9DB4E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204D9-ACF0-4317-A545-23782B12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F0947-004D-4039-9997-87C8855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B8468-EAFF-47B9-AE63-A2DFFE3C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B8ABF-B2DE-46FA-A9A7-AF335E8E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C1CBD-3866-4D5D-9CF1-E002BA87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B13B1-D2B9-46A3-85BF-2040B03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DD9A4-E6D9-48DE-A0DF-26D5AA60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0F986-E708-4B9F-96C6-C81E422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053E4-F820-4523-9431-6913D798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98168-1CED-445F-BC84-E3A967DA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12A9A-1469-4837-A03E-97DCB1FC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69C3B-CAD7-43B0-B677-E72A095D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B13B8-347F-449C-BC1D-208FF5C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B58C0-AF37-4B3E-884B-03DA06A9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B518A-B154-4032-AB85-278DDB77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C5877-9CDD-4F09-A696-4BCB32A2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A7C04-0740-4B5B-A504-C4452924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38E35-3D55-4A86-A2A0-B790EEF5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DA40E-85E2-4435-88D8-D3C4BB5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69278-A24F-488D-9F0D-A478FC2E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CE8A9-13C6-4A3B-874E-0E535012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8FE48-F074-4366-A07E-B9076447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1B41B-0C27-4598-9DC7-DBBABF43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12574-341E-4FCA-BA88-4E6C5A1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83922-8F63-4E6A-B473-EAECA938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2FB2E-0F83-4A8C-A344-4C012961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EBFC8-D568-4716-9E5A-EBA755CC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772B3-3275-4F0F-AF24-B81CC5BC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B92A6-BC77-4397-A9ED-544A56D9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C7461-5B1F-466E-BBAD-BE1AD108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ED076-25BE-4526-8392-1CA361A4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11BC7-03FA-468D-BE82-7D68E3CA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EDD06-B172-46DD-A47D-02F773F2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4920" y="27468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7291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73960" y="160020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7291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773960" y="3964320"/>
            <a:ext cx="194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C83E6-034C-4635-9C48-C2266863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83240" y="396432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3240" y="1600200"/>
            <a:ext cx="295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6048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39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" name="Rectangle 39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5" descr="traffic-lights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fld id="{44313B09-936B-4754-AE54-8ACEDE90A9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5" descr="traffic-lights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fld id="{B0011E34-A91C-49A6-9490-192F23E84B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5" descr="traffic-lights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fld id="{CB7793D5-6C01-40F2-97BB-F4A74FC732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5" descr="traffic-lights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4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宋体"/>
              </a:rPr>
              <a:t>Page </a:t>
            </a:r>
            <a:fld id="{7E2B67EF-113C-4A83-B978-10EC7030B83E}" type="slidenum">
              <a:rPr b="0" lang="en-US" sz="1400" spc="-1" strike="noStrike">
                <a:solidFill>
                  <a:srgbClr val="0000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117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交通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素材免费下载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-360" y="2421000"/>
            <a:ext cx="280836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  <a:ea typeface="宋体"/>
              </a:rPr>
              <a:t>Example of a Bullet Point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  <a:ea typeface="宋体"/>
              </a:rPr>
              <a:t>Example of a char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0" y="206064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  <a:ea typeface="宋体"/>
              </a:rPr>
              <a:t>Pictur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96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1" name="Picture 4" descr="St Malo 022"/>
          <p:cNvPicPr/>
          <p:nvPr/>
        </p:nvPicPr>
        <p:blipFill>
          <a:blip r:embed="rId1"/>
          <a:stretch/>
        </p:blipFill>
        <p:spPr>
          <a:xfrm>
            <a:off x="684360" y="3141720"/>
            <a:ext cx="2628720" cy="328464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222" name="Text Box 5"/>
          <p:cNvSpPr/>
          <p:nvPr/>
        </p:nvSpPr>
        <p:spPr>
          <a:xfrm>
            <a:off x="2627280" y="6453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宋体"/>
              </a:rPr>
              <a:t>使用规范说明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  <a:ea typeface="宋体"/>
              </a:rPr>
              <a:t>Examples of default styl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518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9933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cc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1ccc81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1044720" y="5084640"/>
            <a:ext cx="2232000" cy="1368720"/>
          </a:xfrm>
          <a:prstGeom prst="rect">
            <a:avLst/>
          </a:prstGeom>
          <a:solidFill>
            <a:srgbClr val="dce4f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3564000" y="5084640"/>
            <a:ext cx="2232000" cy="1368720"/>
          </a:xfrm>
          <a:prstGeom prst="rect">
            <a:avLst/>
          </a:prstGeom>
          <a:solidFill>
            <a:srgbClr val="dce4f0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5:47:35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00:14Z</dcterms:modified>
  <cp:revision>1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