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8F0F-A893-4017-A408-0D181F367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65E-471A-4AA3-81A8-B6479C5D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A801-CC26-4345-94E0-1FBD72D89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6502-860F-4BBC-BBAC-63E5DFFAB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1FD5-C264-4134-B023-DB734E5A3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A676-B10D-48A1-B956-1FC00604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73B-A618-424C-A871-BF9B079DD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7F59-8106-4B4D-A842-FEC4821E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08E8-3679-462C-99DB-2AF9BCA9C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0EF-FCE7-4DAF-A1E8-0BE30758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426A-CCFC-47CF-BA6D-0C5A33C4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B31A-711C-43EA-8FBA-9089CB62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DCF14-6829-4206-9EEC-4478B68AC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033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05768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ff3300"/>
              </a:solidFill>
              <a:latin typeface="华文行楷"/>
              <a:ea typeface="华文行楷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623736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84640" y="1197000"/>
            <a:ext cx="28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敬畏自然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人与自然究竟是什么关系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人为什么要“敬畏自然”？为什么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敬畏自然”就是敬畏自己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者观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类永远是自然机体上普通的一部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然而，人却不自量力的宣称要“征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 然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高科技航天的空间，相对宇宙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非常狭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人类认识史是一部不断的纠错史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矿坑可能成为人类自掘的陷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宇宙中存在着比人类更聪明的生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-362520" y="3048120"/>
            <a:ext cx="91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比  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5"/>
          <p:cNvSpPr/>
          <p:nvPr/>
        </p:nvSpPr>
        <p:spPr>
          <a:xfrm>
            <a:off x="457200" y="2666880"/>
            <a:ext cx="457200" cy="2286000"/>
          </a:xfrm>
          <a:custGeom>
            <a:avLst/>
            <a:gdLst>
              <a:gd name="textAreaLeft" fmla="*/ 292320 w 457200"/>
              <a:gd name="textAreaRight" fmla="*/ 457560 w 4572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8580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类的智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62120" y="4648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大自然的智慧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2362320" y="2057400"/>
            <a:ext cx="228600" cy="2133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9"/>
          <p:cNvSpPr/>
          <p:nvPr/>
        </p:nvSpPr>
        <p:spPr>
          <a:xfrm>
            <a:off x="8077320" y="2133720"/>
            <a:ext cx="152280" cy="2361960"/>
          </a:xfrm>
          <a:custGeom>
            <a:avLst/>
            <a:gdLst>
              <a:gd name="textAreaLeft" fmla="*/ 0 w 152280"/>
              <a:gd name="textAreaRight" fmla="*/ 55080 w 15228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7867080" y="2209680"/>
            <a:ext cx="911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人类不值得自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2743200" y="46483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无与伦比，人类本身就是大自然智慧的杰作，大自然用美的规律创造宇宙的一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结论）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人是自然的一部分，人与自然是一体。理所当然，人类应该爱护自然。“敬畏自然”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2" descr="u=2795448172,3226855030&amp;gp=1[1]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3" descr="99090701aaa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28600" y="57913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唐山大地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F38-6E3C-4DD4-9009-7C8F00401DDC}" type="slidenum">
              <a:t>16</a:t>
            </a:fld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   </a:t>
            </a: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69960" y="2819520"/>
            <a:ext cx="549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-178920" y="2895480"/>
            <a:ext cx="11552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敬 畏 自 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90720" y="2209680"/>
            <a:ext cx="380880" cy="4114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1371600" y="2286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371600" y="2133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、通过比喻和对比说明“征服自然”是错误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833400" y="3124080"/>
            <a:ext cx="152892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应 敬 畏 自 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2209680" y="3124080"/>
            <a:ext cx="228600" cy="2210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2514600" y="3124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比较人类的智慧与大自然的智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2514600" y="37339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进一步阐述人类的智慧与大自然        的智慧关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438280" y="510552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2514600" y="48006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由智慧论述宇宙生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6"/>
          <p:cNvSpPr/>
          <p:nvPr/>
        </p:nvSpPr>
        <p:spPr>
          <a:xfrm>
            <a:off x="7391520" y="3124080"/>
            <a:ext cx="228600" cy="2210040"/>
          </a:xfrm>
          <a:custGeom>
            <a:avLst/>
            <a:gdLst>
              <a:gd name="textAreaLeft" fmla="*/ 0 w 228600"/>
              <a:gd name="textAreaRight" fmla="*/ 82440 w 22860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7"/>
          <p:cNvSpPr/>
          <p:nvPr/>
        </p:nvSpPr>
        <p:spPr>
          <a:xfrm>
            <a:off x="7409880" y="2971800"/>
            <a:ext cx="9118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自然和谐相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8"/>
          <p:cNvSpPr/>
          <p:nvPr/>
        </p:nvSpPr>
        <p:spPr>
          <a:xfrm>
            <a:off x="1219320" y="5867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三、得出结论：人类应该“敬畏自然”，热爱自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059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4580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-848880" y="304920"/>
            <a:ext cx="31064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3300"/>
                </a:solidFill>
                <a:latin typeface="Times New Roman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2" descr="022"/>
          <p:cNvPicPr/>
          <p:nvPr/>
        </p:nvPicPr>
        <p:blipFill>
          <a:blip r:embed="rId1"/>
          <a:stretch/>
        </p:blipFill>
        <p:spPr>
          <a:xfrm>
            <a:off x="228600" y="192240"/>
            <a:ext cx="8686800" cy="6456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55640" y="616572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沙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4580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2" descr="Img222690631[1]"/>
          <p:cNvPicPr/>
          <p:nvPr/>
        </p:nvPicPr>
        <p:blipFill>
          <a:blip r:embed="rId1"/>
          <a:stretch/>
        </p:blipFill>
        <p:spPr>
          <a:xfrm>
            <a:off x="228600" y="223920"/>
            <a:ext cx="8610480" cy="6467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" descr="dizhen4[1]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400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一读，写一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鹏       蓬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形见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尺       狼藉（    ）   美味佳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一读，写一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kun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鹏     蓬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hao1)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形见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hu4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咫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zhi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尺      狼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ji2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美味佳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yao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br>
              <a:rPr sz="54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释词语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不量力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形见绌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精巧绝伦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美味佳肴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cc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敬   畏  自  然</a:t>
            </a:r>
            <a:br>
              <a:rPr sz="7200"/>
            </a:b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4000" spc="-1" strike="noStrike">
                <a:solidFill>
                  <a:srgbClr val="3333cc"/>
                </a:solidFill>
                <a:latin typeface="Times New Roman"/>
              </a:rPr>
              <a:t>严 春 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释词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不量力：不衡量自己的能力。形容对自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估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太高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相形见绌：互相比较之下，就显出一方的不足之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精巧绝伦：精细巧妙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美味佳肴：精美的菜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05:32:56Z</dcterms:created>
  <dc:creator/>
  <dc:description/>
  <cp:keywords>幻灯片之家 http:/www.eeppt.com</cp:keywords>
  <dc:language>en-US</dc:language>
  <cp:lastModifiedBy/>
  <dcterms:modified xsi:type="dcterms:W3CDTF">2015-07-03T13:32:39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