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C040-87A8-4569-A77F-E7562211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364F-7023-4DFB-8433-A25C55B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BC3-768A-452C-BE79-53E890D3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3E9-7329-49F6-B30F-6FF57083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2CA-3DC2-43FF-B41C-1EEEDDF3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627-2A59-42CF-94FC-77669C09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2AF-381B-40A9-870A-EFEA36F3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2EE-C128-4DEF-A55C-734A4E6F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BE5-3A14-4A05-B914-C54C660D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CFFE-8637-47B3-AD8D-A8C8FDC8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DE9-F1C6-42EC-A702-A5D01F0E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8FB-B6F3-4227-9F29-B2D31B19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DE63-B389-43B1-87B8-01FBA728A9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Z:\newtek\_backgrounds_1.02\Art\power_point\not done\school_blocks\block1.png"/>
          <p:cNvPicPr/>
          <p:nvPr/>
        </p:nvPicPr>
        <p:blipFill>
          <a:blip r:embed="rId2"/>
          <a:stretch/>
        </p:blipFill>
        <p:spPr>
          <a:xfrm>
            <a:off x="15228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53942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教学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宋体"/>
              </a:rPr>
              <a:t>素材免费下载</a:t>
            </a:r>
            <a:endParaRPr b="1" i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240" y="2285640"/>
            <a:ext cx="3505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Your Subtitle Herev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School Blocks Presentation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宋体"/>
              </a:rPr>
              <a:t>Your First Point</a:t>
            </a:r>
            <a:endParaRPr b="0" i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School Blocks Print Page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zh-CN" sz="3200" spc="-1" strike="noStrike">
              <a:solidFill>
                <a:srgbClr val="000000"/>
              </a:solidFill>
              <a:latin typeface="Comic Sans MS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使用规范说明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Comic Sans MS"/>
                <a:ea typeface="宋体"/>
              </a:rPr>
              <a:t>站点介绍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：</a:t>
            </a:r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i="1" lang="zh-CN" sz="1400" spc="-1" strike="noStrike">
                <a:solidFill>
                  <a:srgbClr val="e8eff7"/>
                </a:solidFill>
                <a:latin typeface="Comic Sans MS"/>
                <a:ea typeface="宋体"/>
              </a:rPr>
              <a:t>www.eeppt.com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i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i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i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i="1" lang="zh-CN" sz="1400" spc="-1" strike="noStrike">
                <a:solidFill>
                  <a:srgbClr val="e8eff7"/>
                </a:solidFill>
                <a:latin typeface="Comic Sans MS"/>
              </a:rPr>
              <a:t>模板免费下载。</a:t>
            </a:r>
            <a:r>
              <a:rPr b="1" i="1" lang="zh-CN" sz="1400" spc="-1" strike="noStrike">
                <a:solidFill>
                  <a:srgbClr val="e8eff7"/>
                </a:solidFill>
                <a:latin typeface="Comic Sans MS"/>
                <a:ea typeface="宋体"/>
              </a:rPr>
              <a:t>助</a:t>
            </a:r>
            <a:r>
              <a:rPr b="1" i="1" lang="zh-CN" sz="1400" spc="-1" strike="noStrike">
                <a:solidFill>
                  <a:srgbClr val="e8eff7"/>
                </a:solidFill>
                <a:latin typeface="Comic Sans MS"/>
              </a:rPr>
              <a:t>您轻松制作出精美</a:t>
            </a:r>
            <a:r>
              <a:rPr b="1" i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i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i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Comic Sans MS"/>
                <a:ea typeface="宋体"/>
              </a:rPr>
              <a:t>该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  <a:ea typeface="宋体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  <a:ea typeface="宋体"/>
              </a:rPr>
              <a:t>模板收集于网络，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仅供学习与参考，请勿用于商业用途。否则产生的一切后果将由您自己承担！如有侵犯您的版权，请及时与我们联系。</a:t>
            </a:r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i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Comic Sans MS"/>
                <a:ea typeface="宋体"/>
              </a:rPr>
              <a:t>栏目推荐</a:t>
            </a:r>
            <a:r>
              <a:rPr b="1" i="1" lang="zh-CN" sz="1400" spc="-1" strike="noStrike">
                <a:solidFill>
                  <a:srgbClr val="ededed"/>
                </a:solidFill>
                <a:latin typeface="Comic Sans MS"/>
              </a:rPr>
              <a:t>：</a:t>
            </a:r>
            <a:endParaRPr b="0" i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i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4960" y="990360"/>
            <a:ext cx="518148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Comic Sans MS"/>
                <a:ea typeface="宋体"/>
              </a:rPr>
              <a:t>School Blocks Transitional</a:t>
            </a:r>
            <a:endParaRPr b="1" i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050920" y="6453360"/>
            <a:ext cx="66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图片素材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01:26:00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05:41Z</dcterms:modified>
  <cp:revision>3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