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A2C87-AF1C-40AE-9A2A-A1C40D278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C7F1A-C106-4DE1-A04C-5AB918B69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6883E-662C-426A-8033-046760F3E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42DF7-5E30-4527-A39D-F3A08EE08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683FD-29E4-4F42-9F7F-B8AA5FF9C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A13F4-530B-4EEE-B3CA-FEE52F46E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585FB-E012-4741-B889-C7A5E048D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E623B-4C2D-42BC-B6B3-D5E1108C2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F7737-0C43-420F-85D3-6473B050C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8B4AA-6625-445B-AAC5-172CFE838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C8D0C-0851-40D1-98CE-CBD4CD86C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C3882-C0B9-4462-A6CE-CB48EED81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434A1-81FD-4F56-9CA3-FF66539EC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65F3D-30D6-43C8-BC7E-0A8550F19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4E36C-FEE9-4FC0-994E-5B38A25D4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A900E-99B8-4D3D-9D3B-4741810ED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871B0-4434-4441-B0A4-83E0A98F9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C6EB9-54F6-4580-8C70-CAC6CADDB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CEA47-0875-4E69-A17F-AAB364329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7F087-9EF3-4C1A-8380-CC28FB8FD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9DB2F-19D0-4BEF-9B0C-94B38DB81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CD0DE-7F6F-42C7-9E6F-C9D98AC8F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103B9-DA16-4B3D-A370-A50D86041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11463-0E15-4BC8-932E-E182FB84E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6E120-D238-4AC4-BF0D-562529F392E8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BF388-9307-4DF6-9CE3-FA2076EC288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533A9-E22E-4759-8AE9-F49D2B5548AB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4634F-A056-4EE5-A395-D9333156E391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1075fd20c44ac02ef6e85d9658fd9069" descr=""/>
          <p:cNvPicPr/>
          <p:nvPr/>
        </p:nvPicPr>
        <p:blipFill>
          <a:blip r:embed="rId1"/>
          <a:stretch/>
        </p:blipFill>
        <p:spPr>
          <a:xfrm>
            <a:off x="79200" y="3240"/>
            <a:ext cx="89856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79200" y="6543720"/>
            <a:ext cx="5080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631600" y="628560"/>
            <a:ext cx="3756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加油</a:t>
            </a:r>
            <a:r>
              <a:rPr b="0" lang="en-US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素材图片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F84D7-D34B-4F9D-83A4-33DA5624B08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1T02:13:37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