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0B3-E7D2-496A-9BD7-16DD27B9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EE6-BFAB-4CDC-B6DA-FBC77B88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2E9-A366-42A5-8093-CE505D7E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F59-0805-4985-80F8-6C970B1B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FECA-92B2-4C62-ACE6-FA9C05C1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240E-6CA3-40F8-BB89-0CF00094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EEA4-37AC-4459-A831-AAA4BEE0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E9B6-D57F-41D3-8FE6-6476CB83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67DD-3FA4-401A-8E51-3CAEBA03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856E-5318-477E-8D20-ED7E8292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E437-7D5C-4CC3-BDC9-9E3F66B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68C-1FE3-4F26-AD12-C399CB64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8AFE-8BE2-4357-BB8F-B246E6D4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E6A-D4CC-435E-B155-37A8D5F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59F0-4CA5-4514-8F15-8E2482C1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BCAE-D1E4-410F-96FF-8349943D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1C6C-EB16-45F4-9442-3A052B0B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D44-AC35-45D8-AE21-E885EC5B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684-17CA-4053-A761-FBA2EC90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853-CF27-4EBE-B32B-6D579AF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4CB-509D-4AE0-BD16-AD7CC44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428-7D70-4155-8C66-F22E7F6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69A-44B2-463F-A307-82F1A68E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CD8-64BF-41E2-A79C-0350757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CE29-E2FB-4425-B653-DC517172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565F-EA32-414B-ADDD-A60B8A6A8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6608900&amp;tn=baiduimagedetail&amp;word=&#20044;&#32433;&#24125;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540310951&amp;tn=baiduimagedetail&amp;word=&#28436;&#21592;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.baidu.com/i?ct=503316480&amp;z=814236400&amp;tn=baiduimagedetail&amp;word=&#21307;&#29983;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gnews.baidu.com/ir?u=http://www.hlj.xinhuanet.com/uploadFile/20040831625390404.gif&amp;f=http://www.hlj.xinhuanet.com/news/detail_news.asp?dataid=hljWeb_news_1000065735&amp;c=baidu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.baidu.com/i?ct=503316480&amp;z=520131700&amp;tn=baiduimagedetail&amp;word=&#20891;&#20154;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.baidu.com/i?ct=503316480&amp;z=624908551&amp;tn=baiduimagedetail&amp;word=&#24459;&#24072;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.baidu.com/i?ct=503316480&amp;z=852133001&amp;tn=baiduimagedetail&amp;word=&#20462;&#38795;&#21280;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image.baidu.com/i?ct=503316480&amp;z=497600801&amp;tn=baiduimagedetail&amp;word=&#28165;&#27905;&#24037;&#20154;" TargetMode="External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n.netor.com/m/box200011/pic/m3175&#26753;&#21551;&#36229;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g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952520" y="4114440"/>
            <a:ext cx="4032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Arial"/>
                <a:ea typeface="华文行楷"/>
              </a:rPr>
              <a:t>梁启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1676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敬业与乐业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600200" y="533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自主学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1447920"/>
            <a:ext cx="6477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反复读课文，想一想，作者先后谈论了哪几个问题；文中说“我深信人类合理的生活总该如此”，用自己的话说说“人类合理的生活”应该是怎样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133720" y="5029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0bf5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</a:rPr>
              <a:t>有业”“敬业”“乐业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371600" y="12193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88e4"/>
                </a:solidFill>
                <a:latin typeface="Times New Roman"/>
              </a:rPr>
              <a:t>合理的生活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首先是有一份正当的职业（或任何一件有价值的事情），不能“饱食终日，无所用心”。对于所做的事情要生出敬意，从而全神贯注，心无旁骛，忠实地把它做好；二是要从专心做事中发现乐趣，不是皱着眉头、满腹牢骚地叫苦，而是达到“乐以忘忧”的境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523880" y="8380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合作探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23880" y="1828800"/>
            <a:ext cx="5562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阅读课文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段，试着为“有业之必要”列举出几条理由或为“凡职业都是有趣味的”提供几个例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50920" y="33336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80bf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0bf5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80bf5"/>
                </a:solidFill>
                <a:latin typeface="Times New Roman"/>
              </a:rPr>
              <a:t>有业之必要”的理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：一、可以谋生，使自己在经济上独立，人格上自尊，不需要依赖他人、仰人鼻息、受人牵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、使自己的身心有所安顿，不至于无所事事、烦闷无聊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三、使自己的生活起居有规律，有利于健康养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四、从业过程中的困难、挫折、烦恼，是对意志和品性、能力和才干的锻炼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五、事业上的小小成功，都会增强自信心与成就感，给人带来精神满足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六、有创造性的成就，更是对生命价值的最高肯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258920" y="134136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凡职业都是有趣味的”</a:t>
            </a:r>
            <a:r>
              <a:rPr b="0" lang="zh-CN" sz="3200" spc="-1" strike="noStrike">
                <a:solidFill>
                  <a:srgbClr val="0088e4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</a:rPr>
              <a:t>居里夫妇在成吨的工业废渣中提炼“镭”，几年如一日，非常艰辛与枯燥，但他们怀着找到“镭”的梦想，从没有认为这项工作是无聊的，从没有抱怨叫苦而想放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547640" y="9079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拓展延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71640" y="184464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文说：“事的性质，从学理上解剖起来，并没有高下。”又说：‘我信得过我当木匠的作成一张好桌子，和你们当政治家的建设成一个共和国家同一价值。’然而，有人却引用拿破仑的话说：“不想当元帅的士兵不是好士兵。”讨论一下，对这个问题究竟应该怎么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26920" y="40464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参考答案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课文中，作者认为任何职业不分高下，是劝告那些“坐这山，望那山，一事无成”的人，要脚踏实地、勤恳敬业，才有可能把事情做好，进而体会职业的乐趣和人生的价值。从现实的个人生活幸福考虑，只有这样，才能安身立命（儒家）、获得心灵的宁静与平和（佛家）。而拿破仑的名言，则是为了激励人们树立远大抱负，努力挖掘自身潜能，勇于向命运发出挑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另一方面，在特定的社会历史阶段，职业分工的确有“尊卑”之别，任劳任怨地“敬业”未必能保证最基本的生存需要与获得尊重；这时候，还要让职业卑贱者“敬业乐业”，不仅不太可能，而且有维护既有等级秩序之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042920" y="47628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拿破仑的话也有问题：在一支部队里，元帅只能有一个，士兵却需要千千万，如果每一个士兵都不安心做士兵，都怀揣着元帅梦，这支部队的战斗力也大可怀疑。毕竟，社会所提供的“元帅”职位是少之又少的，如果大多数“士兵”想当“元帅”又当不成，人生岂不尽是一场失败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见，两种说法适用的语境有所不同，反映的人生观也有区别。如果说，梁启超教导人们要安于本职、不可好高骛远，体现了隐忍而自敛的中国人生哲学，那么，拿破仑鼓励士兵要争当元帅，则是典型的西方个人本位的进取型、外向型人生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403280" y="1268280"/>
            <a:ext cx="572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小结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中心意思：这篇讲演针对听讲者的实际情况，提出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敬业与乐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的论题，深入地论述了敬业与乐业的重要性，殷切地希望大家发扬敬业、乐业的精神，去过人类合理的生活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E97-A9B8-4A91-9B6D-31EA50275D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2819520" y="53352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教学目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60020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理解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敬业与乐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的主旨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经典语句、格言的积累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举例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讲道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两种论证方法的初步学习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演讲和口语特色的体会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95280" y="83808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简介作者</a:t>
            </a:r>
            <a:r>
              <a:rPr b="0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梁启超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(1873-1929)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，中国近代维新派领袖，学者。字卓如，号任公，又号饮冰室主人。广东新会人。清光绪举人。和其师康有为一起，倡导变法维新，并称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"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康梁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"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。著述涉及政治、经济、哲学、历史、语言、宗教及文化艺术、文字音韵等。其著作编为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《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饮冰室全集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》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62485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28600" y="2209680"/>
            <a:ext cx="81532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部分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～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论证中心论点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（第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段）提出有业之必要。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（第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段）论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要敬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三层（第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8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段）论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要乐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28600" y="1219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部分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提出中心论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敬业乐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0880" y="5334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部分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归结全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166040" y="22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结构划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23"/>
          <p:cNvSpPr/>
          <p:nvPr/>
        </p:nvSpPr>
        <p:spPr>
          <a:xfrm>
            <a:off x="847800" y="13716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380880" y="228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会选择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153280" y="533520"/>
            <a:ext cx="838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838080" y="3048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官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it?u=2546865499,144973109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914400"/>
            <a:ext cx="1428480" cy="2057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2666880" y="3048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演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8" descr="it?u=724077878,2628839386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914400"/>
            <a:ext cx="1468440" cy="2057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44197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医 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0" descr="it?u=3123070286,997563799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914400"/>
            <a:ext cx="1543320" cy="20574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1"/>
          <p:cNvSpPr/>
          <p:nvPr/>
        </p:nvSpPr>
        <p:spPr>
          <a:xfrm>
            <a:off x="632448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教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2" descr="2004083162539040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72200" y="91440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3"/>
          <p:cNvSpPr/>
          <p:nvPr/>
        </p:nvSpPr>
        <p:spPr>
          <a:xfrm>
            <a:off x="655308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军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4" descr="it?u=3821057855,2039547625&amp;gp=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3809880"/>
            <a:ext cx="1744560" cy="2286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5"/>
          <p:cNvSpPr/>
          <p:nvPr/>
        </p:nvSpPr>
        <p:spPr>
          <a:xfrm>
            <a:off x="9144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律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6" descr="it?u=875000544,3753583620&amp;gp=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480" y="3809880"/>
            <a:ext cx="1447920" cy="2286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7"/>
          <p:cNvSpPr/>
          <p:nvPr/>
        </p:nvSpPr>
        <p:spPr>
          <a:xfrm>
            <a:off x="2514600" y="6278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修鞋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8" descr="it?u=1756703732,1306289056&amp;gp=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362320" y="3809880"/>
            <a:ext cx="1547640" cy="2286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441972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清洁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0" descr="it?u=3156129753,3679042992&amp;gp=1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267080" y="380988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m3175%E6%A2%81%E5%90%AF%E8%B6%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2160" cy="32176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200400" y="6094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梁启超（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873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929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中国近代维新派代表人物，学者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戊戌变法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领袖之一。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字卓如，号任公，别号饮冰室主人。广东新会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09480" y="3962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他兴趣广泛，学识渊博，在文学、史学、哲学、佛学等诸多领域，都有较深的造诣。他一生著述宏富，所遗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饮冰室合集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计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48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卷，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000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余万字。</a:t>
            </a:r>
            <a:r>
              <a:rPr b="1" lang="zh-CN" sz="28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609480" y="304920"/>
            <a:ext cx="4267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行楷"/>
              </a:rPr>
              <a:t>背景资料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505320" y="1523880"/>
            <a:ext cx="5333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敬业与乐业</a:t>
            </a:r>
            <a:r>
              <a:rPr b="1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是梁启超先生于</a:t>
            </a:r>
            <a:r>
              <a:rPr b="1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70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多年前在上海中华职业学校为学生所作的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讲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对学生进行职业道德启蒙教育，有很强的针对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2003080617063400000"/>
          <p:cNvPicPr/>
          <p:nvPr/>
        </p:nvPicPr>
        <p:blipFill>
          <a:blip r:embed="rId1"/>
          <a:stretch/>
        </p:blipFill>
        <p:spPr>
          <a:xfrm>
            <a:off x="228600" y="2133720"/>
            <a:ext cx="289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362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要求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31240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认清对象，确立主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371600" y="3962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思路清晰，节奏明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371600" y="48006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感情充沛，说理充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演讲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以口语表达的方式面对听众，就某一问题发表自己的观点，阐述某一事理的活动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470960" y="609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整体感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068920" y="2666880"/>
            <a:ext cx="53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圈点勾画文中表现作者对敬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与乐业观点、看法的语句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295280" y="1295280"/>
            <a:ext cx="6400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把不理解的字词，难懂的语句做上记号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试把每一段的段意归纳出来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课文中多处引用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论语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礼记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老子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庄子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等古代典籍的论述。逐一抄录这些论述，认真想一想它们的意思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3526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整体感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14400" y="83808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明确：课文共七段，总体结构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总一分一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式：开头总起全篇；然后分别论述敬业和乐业，两个分论点平行并列；最后总结全篇。条理清晰，纲举目张。全文可分为三个部分。</a:t>
            </a:r>
            <a:br>
              <a:rPr sz="3200"/>
            </a:b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一部分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段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：揭示全篇论述中心。</a:t>
            </a:r>
            <a:br>
              <a:rPr sz="3200"/>
            </a:b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二部分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～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段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：论述敬业和乐业的重要。</a:t>
            </a:r>
            <a:br>
              <a:rPr sz="3200"/>
            </a:b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三部分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段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：总结全篇，勉励人敬业乐业</a:t>
            </a:r>
            <a:r>
              <a:rPr b="0" lang="zh-CN" sz="3200" spc="-1" strike="noStrike">
                <a:solidFill>
                  <a:srgbClr val="0088e4"/>
                </a:solidFill>
                <a:latin typeface="Times New Roman"/>
                <a:ea typeface="楷体_GB2312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1:01Z</dcterms:created>
  <dc:creator/>
  <dc:description/>
  <cp:keywords>幻灯片之家 http:/www.eeppt.com</cp:keywords>
  <dc:language>en-US</dc:language>
  <cp:lastModifiedBy/>
  <dcterms:modified xsi:type="dcterms:W3CDTF">2015-07-04T03:23:1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