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>
            <a:hlinkClick r:id="rId2"/>
          </p:cNvPr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3"/>
          </p:cNvPr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4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>
            <a:hlinkClick r:id="rId5"/>
          </p:cNvPr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481480"/>
              <a:ext cx="57636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10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1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3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4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5"/>
          </p:cNvPr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6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24360" y="45673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52308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2840" y="62064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建筑物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2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