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3A3D-7644-48A9-83CC-6ED29BBD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2D05-396D-4D7E-8CB7-EFE181A5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4CF4-D9DB-47C3-97C6-BA00AD0E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D3C8-39C8-4FBD-9278-C75A2B48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D2A4-ECA9-4370-BA15-D74266C7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C617-FC4A-4E00-B1BA-18EDF574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56AF-ADA5-49CE-8231-D10D31C1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11E6-41BE-4952-93F1-EA2407EE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C2A5-BBD6-4E29-8C4B-76E259EF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1FA3-8A9D-4F8D-AB36-32AC483B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0442-FF71-4772-95F5-303C1DC9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C4DF-7168-41BF-B810-75ADC61E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30B9-0697-456F-AE82-937E34EC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8BEF-E416-49A1-84C0-C77A4B57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0F77-A661-47A0-8AF1-44DC3A71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2FA9-DAF6-4FC8-AC57-6B667793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9AD1-2D40-46DF-B85A-B21F9FBF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7D7D-5F77-4322-BACE-A28DB379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FBB4-A921-42DF-859E-6921D1A2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7A54-1401-4A8A-AF5E-C6FCEFB1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EF5E-E561-4BB0-A6C3-1EA6ACDB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9DA0-7DDA-4A22-9404-8902920A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9345-5B62-4471-B3DF-E24F387A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3066-9B9B-4B08-A24A-7791CF9F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DB5F-C8F3-4878-ADB2-E32D429F186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A81E-482D-467D-9F7E-EDED88DD38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FDD9-75A4-4726-898F-1BE36C7C196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B0D3-D470-46B8-9722-2307A6FC2F5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6-9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5" name="矩形 1"/>
          <p:cNvSpPr/>
          <p:nvPr/>
        </p:nvSpPr>
        <p:spPr>
          <a:xfrm>
            <a:off x="3180960" y="1476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建筑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0:59:46Z</dcterms:modified>
  <cp:revision>5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