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740-1225-4568-A4B1-B72C5E83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3EB-9DB7-4D69-81B8-DE539850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CE5-A709-486B-BE48-2FC3B2B8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B2C-A4AD-41B2-A797-4916B269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A7D5-E285-47E2-85EF-A632E507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F547-28AC-4AA8-8120-390928F6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2420-57FF-43CB-8B00-11E6CD56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E100-F2E4-45A1-A7B5-A2FB828B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3722-D26F-4850-895D-5F32668F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9E1E-3575-4F0F-8796-44E3DC81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F9C1-47A3-4072-9D9D-3F65385A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AFC-B653-4555-AD96-30B27FC3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00F3-C44C-4764-936A-FF2A5D6D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EED3-9238-4D96-9666-0C39F112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EF3E-D8FE-48B9-B695-B1D716DE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C49B-C038-4E68-A878-019A69E3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A5F0-DC34-403E-AC45-F61A6C74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88E-F40F-47D7-BDEC-901FEBF8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C46-FF80-4403-A1BB-200A9CA5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943-E600-4DB9-8292-6545259E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2FB-ADD4-46E2-8F39-78779D5C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859-987E-43B4-979D-73401C4E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086-C80E-4B8E-8F4E-6AE275EC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4B4-0D35-46AE-BF03-56E1B5E5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3A41-4888-4B65-9DC2-D589CBA8F6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295A-5D90-46E8-B325-32AFE34F33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40BC-B96C-4477-A1C7-96B0A41E72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810E-19CB-4ADC-A409-525302274E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sd1009weo"/>
          <p:cNvPicPr/>
          <p:nvPr/>
        </p:nvPicPr>
        <p:blipFill>
          <a:blip r:embed="rId1"/>
          <a:stretch/>
        </p:blipFill>
        <p:spPr>
          <a:xfrm>
            <a:off x="22320" y="14400"/>
            <a:ext cx="9099360" cy="681660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495160" y="-14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咖啡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29:44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