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F979-5FF0-43AB-9F93-C7F7E256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1728-00A6-4D29-9F8C-72963AF8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6057-4D98-4516-A42F-830708860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3D4E-78BC-4DF8-964C-E165FD0E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8860-BAF6-4F6A-9DB4-88B03AF6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28FA-CEB8-470C-B5FD-66B864D5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BB08-A038-469B-A546-EBD71ED8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C2C2-EACD-40C2-AF2A-0AD20DE3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C6BC-7184-40DF-87BE-0F90494C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C69A1-9F6C-495B-BDE8-17AD4AB2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90EF-15AE-47F9-BD73-5ABE61F1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D26C-BB76-40E0-A9C6-9371A4F6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B5C4-3C69-4F0C-9096-1D12FDBF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B254-FF0D-485A-8A21-2F25FC96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89D3-9A3A-473B-904F-1F6568FD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B218-127F-4C0B-913D-5DF77FAA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64A1-7617-4F1B-BAF5-F866770E2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127F-5F4F-4A70-A242-6166E040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F6BB-B721-4D8F-B311-92B260EB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03B7-A27B-42E3-84EE-7A62CB65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4BE7-AF91-47EA-9125-E55851DC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464-A7D5-4B0E-8B08-3E25CE07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F686-3321-4707-A18D-01CA1F44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17C6-F6C1-4347-94AC-0842A33B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5396-C5F9-456C-8955-1F138DEACF7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CE44-6779-4042-ADFC-2AF7909106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39F1-CB30-4B09-A7FC-E2F8BF1B1FD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5"/>
          <p:cNvSpPr/>
          <p:nvPr/>
        </p:nvSpPr>
        <p:spPr>
          <a:xfrm>
            <a:off x="6900480" y="282600"/>
            <a:ext cx="18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890640" y="257040"/>
            <a:ext cx="32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『第一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』—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免费下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7" descr=""/>
          <p:cNvPicPr/>
          <p:nvPr/>
        </p:nvPicPr>
        <p:blipFill>
          <a:blip r:embed="rId1"/>
          <a:srcRect l="26398" t="0" r="0" b="36118"/>
          <a:stretch/>
        </p:blipFill>
        <p:spPr>
          <a:xfrm>
            <a:off x="1908000" y="2705040"/>
            <a:ext cx="5256360" cy="39290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5" descr=""/>
          <p:cNvPicPr/>
          <p:nvPr/>
        </p:nvPicPr>
        <p:blipFill>
          <a:blip r:embed="rId2"/>
          <a:srcRect l="0" t="12664" r="0" b="6585"/>
          <a:stretch/>
        </p:blipFill>
        <p:spPr>
          <a:xfrm>
            <a:off x="6156360" y="819000"/>
            <a:ext cx="2416320" cy="292752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  <p:pic>
        <p:nvPicPr>
          <p:cNvPr id="87" name="图片 6" descr=""/>
          <p:cNvPicPr/>
          <p:nvPr/>
        </p:nvPicPr>
        <p:blipFill>
          <a:blip r:embed="rId3"/>
          <a:srcRect l="0" t="0" r="0" b="8096"/>
          <a:stretch/>
        </p:blipFill>
        <p:spPr>
          <a:xfrm>
            <a:off x="324000" y="849240"/>
            <a:ext cx="2879640" cy="28688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88" name="矩形 1"/>
          <p:cNvSpPr/>
          <p:nvPr/>
        </p:nvSpPr>
        <p:spPr>
          <a:xfrm>
            <a:off x="2782080" y="9828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客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1:33:17Z</dcterms:modified>
  <cp:revision>1036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