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79C2-18A4-4F00-A453-220A38E19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24E6-599F-4840-9156-226D2D699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2B43-B4EE-4A9E-9DE6-B9E1A6558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898F-02BF-4E8E-812F-2149D2486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96F2-51F6-4AA8-8898-AB5921C7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DA4D-7E12-4C25-AE19-F7CC494A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74B6-50A7-4A58-B8CD-5435A8B2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8310-98CE-44DA-AFC5-F8432B413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0CAB-2A3F-47A7-86D2-2D4148D3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A841-B3D7-48C3-A875-D1447EC2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FC5E-2480-4E67-878C-143A20DE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5437-0878-40F0-9C41-A6EFA418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8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8D73-CCCC-49C0-99EB-6F846581D58D}" type="slidenum">
              <a:rPr b="0" lang="en-US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hyperlink" Target="http://www.eeppt.com/moban/kejian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2"/>
          <a:stretch/>
        </p:blipFill>
        <p:spPr>
          <a:xfrm>
            <a:off x="2700360" y="1701720"/>
            <a:ext cx="3759120" cy="4203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92160" y="1052640"/>
            <a:ext cx="171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《夸父追日》课件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PPT</a:t>
            </a:r>
            <a:endParaRPr b="1" lang="en-US" sz="36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小学语文(记叙文）06"/>
          <p:cNvPicPr/>
          <p:nvPr/>
        </p:nvPicPr>
        <p:blipFill>
          <a:blip r:embed="rId2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愚公移山"/>
          <p:cNvPicPr/>
          <p:nvPr/>
        </p:nvPicPr>
        <p:blipFill>
          <a:blip r:embed="rId3"/>
          <a:stretch/>
        </p:blipFill>
        <p:spPr>
          <a:xfrm>
            <a:off x="1219320" y="1576440"/>
            <a:ext cx="6781680" cy="42908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4086360" y="5958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愚公移山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小学语文(记叙文）06"/>
          <p:cNvPicPr/>
          <p:nvPr/>
        </p:nvPicPr>
        <p:blipFill>
          <a:blip r:embed="rId2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4"/>
          <p:cNvSpPr/>
          <p:nvPr/>
        </p:nvSpPr>
        <p:spPr>
          <a:xfrm>
            <a:off x="4055400" y="59799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白 蛇 传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81" name="Picture 5" descr="白蛇传"/>
          <p:cNvPicPr/>
          <p:nvPr/>
        </p:nvPicPr>
        <p:blipFill>
          <a:blip r:embed="rId3"/>
          <a:stretch/>
        </p:blipFill>
        <p:spPr>
          <a:xfrm>
            <a:off x="1219320" y="1600200"/>
            <a:ext cx="678168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小学语文(记叙文）06"/>
          <p:cNvPicPr/>
          <p:nvPr/>
        </p:nvPicPr>
        <p:blipFill>
          <a:blip r:embed="rId2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4023000" y="5272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星座神话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84" name="Picture 7" descr="星座神话"/>
          <p:cNvPicPr/>
          <p:nvPr/>
        </p:nvPicPr>
        <p:blipFill>
          <a:blip r:embed="rId3"/>
          <a:stretch/>
        </p:blipFill>
        <p:spPr>
          <a:xfrm>
            <a:off x="685800" y="2071800"/>
            <a:ext cx="3816360" cy="2792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星座神话1"/>
          <p:cNvPicPr/>
          <p:nvPr/>
        </p:nvPicPr>
        <p:blipFill>
          <a:blip r:embed="rId4"/>
          <a:stretch/>
        </p:blipFill>
        <p:spPr>
          <a:xfrm>
            <a:off x="4724280" y="208116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3333cc"/>
                </a:solidFill>
                <a:uFillTx/>
                <a:latin typeface="Verdana"/>
                <a:hlinkClick r:id="rId5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1" lang="en-US" sz="1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5"/>
          <p:cNvSpPr/>
          <p:nvPr/>
        </p:nvSpPr>
        <p:spPr>
          <a:xfrm>
            <a:off x="3635280" y="2205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1" lang="en-US" sz="1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1" lang="en-US" sz="1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1" lang="en-US" sz="1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1" lang="en-US" sz="1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1" lang="en-US" sz="1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1" lang="en-US" sz="1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1" lang="en-US" sz="1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1" lang="en-US" sz="1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45" name="Picture 1026" descr="小学语文(记叙文）01"/>
          <p:cNvPicPr/>
          <p:nvPr/>
        </p:nvPicPr>
        <p:blipFill>
          <a:blip r:embed="rId2"/>
          <a:stretch/>
        </p:blipFill>
        <p:spPr>
          <a:xfrm>
            <a:off x="1143000" y="963720"/>
            <a:ext cx="2079720" cy="5601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036"/>
          <p:cNvSpPr/>
          <p:nvPr/>
        </p:nvSpPr>
        <p:spPr>
          <a:xfrm>
            <a:off x="6477120" y="3276720"/>
            <a:ext cx="68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太　阳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47" name="Picture 1041" descr="太阳"/>
          <p:cNvPicPr/>
          <p:nvPr/>
        </p:nvPicPr>
        <p:blipFill>
          <a:blip r:embed="rId3"/>
          <a:stretch/>
        </p:blipFill>
        <p:spPr>
          <a:xfrm>
            <a:off x="2716200" y="1523880"/>
            <a:ext cx="3532320" cy="4953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9640" y="6381720"/>
            <a:ext cx="611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cc"/>
                </a:solidFill>
                <a:uFillTx/>
                <a:latin typeface="Times New Roman"/>
                <a:hlinkClick r:id="rId4"/>
              </a:rPr>
              <a:t>ppt课件模板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</a:rPr>
              <a:t>http://www.eeppt.com/moban/kejian/</a:t>
            </a:r>
            <a:endParaRPr b="1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0080"/>
                </a:solidFill>
                <a:latin typeface="Times New Roman"/>
              </a:rPr>
              <a:t>www.eeppt.com</a:t>
            </a:r>
            <a:endParaRPr b="1" lang="en-US" sz="1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AC29-378B-4B25-A6A4-A4EE633B08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小学语文(记叙文）01"/>
          <p:cNvPicPr/>
          <p:nvPr/>
        </p:nvPicPr>
        <p:blipFill>
          <a:blip r:embed="rId2"/>
          <a:stretch/>
        </p:blipFill>
        <p:spPr>
          <a:xfrm>
            <a:off x="1143000" y="963720"/>
            <a:ext cx="2079720" cy="5601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8"/>
          <p:cNvSpPr/>
          <p:nvPr/>
        </p:nvSpPr>
        <p:spPr>
          <a:xfrm>
            <a:off x="4148640" y="5958000"/>
            <a:ext cx="96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追　日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54" name="Picture 19" descr="追日"/>
          <p:cNvPicPr/>
          <p:nvPr/>
        </p:nvPicPr>
        <p:blipFill>
          <a:blip r:embed="rId3"/>
          <a:stretch/>
        </p:blipFill>
        <p:spPr>
          <a:xfrm>
            <a:off x="2743200" y="1523880"/>
            <a:ext cx="36925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小学语文(记叙文）02"/>
          <p:cNvPicPr/>
          <p:nvPr/>
        </p:nvPicPr>
        <p:blipFill>
          <a:blip r:embed="rId2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914400" y="1447920"/>
            <a:ext cx="70866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　　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借助拼音自读课文，我们来看一看夸父追日到底追到了没有。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57" name="Picture 14" descr="夸父追日"/>
          <p:cNvPicPr/>
          <p:nvPr/>
        </p:nvPicPr>
        <p:blipFill>
          <a:blip r:embed="rId3"/>
          <a:stretch/>
        </p:blipFill>
        <p:spPr>
          <a:xfrm>
            <a:off x="838080" y="2666880"/>
            <a:ext cx="7689960" cy="28782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5"/>
          <p:cNvSpPr/>
          <p:nvPr/>
        </p:nvSpPr>
        <p:spPr>
          <a:xfrm>
            <a:off x="3809880" y="531648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夸父追日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1143000" y="17668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正确、流利地朗读课文，想一想： 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1676520" y="2508120"/>
            <a:ext cx="58672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）夸父为什么要追日？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62" name="Picture 8" descr="小学语文(记叙文）03"/>
          <p:cNvPicPr/>
          <p:nvPr/>
        </p:nvPicPr>
        <p:blipFill>
          <a:blip r:embed="rId2"/>
          <a:stretch/>
        </p:blipFill>
        <p:spPr>
          <a:xfrm>
            <a:off x="1143000" y="963720"/>
            <a:ext cx="207972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8"/>
          <p:cNvSpPr/>
          <p:nvPr/>
        </p:nvSpPr>
        <p:spPr>
          <a:xfrm>
            <a:off x="1676520" y="3314880"/>
            <a:ext cx="6248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）夸父追上太阳了吗？结果怎么样？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4" name="Rectangle 19"/>
          <p:cNvSpPr/>
          <p:nvPr/>
        </p:nvSpPr>
        <p:spPr>
          <a:xfrm>
            <a:off x="1676520" y="4152960"/>
            <a:ext cx="6248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）你认为夸父怎么样？说说你的想法。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小学语文(记叙文）05"/>
          <p:cNvPicPr/>
          <p:nvPr/>
        </p:nvPicPr>
        <p:blipFill>
          <a:blip r:embed="rId2"/>
          <a:stretch/>
        </p:blipFill>
        <p:spPr>
          <a:xfrm>
            <a:off x="1143000" y="952560"/>
            <a:ext cx="2079720" cy="5713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1676520" y="126360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有感情地朗读课文，比一比谁读得好。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67" name="Picture 4" descr="夸父追日"/>
          <p:cNvPicPr/>
          <p:nvPr/>
        </p:nvPicPr>
        <p:blipFill>
          <a:blip r:embed="rId3"/>
          <a:stretch/>
        </p:blipFill>
        <p:spPr>
          <a:xfrm>
            <a:off x="2895480" y="2381400"/>
            <a:ext cx="2971800" cy="29527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3581280" y="514980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夸父追日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小学语文(记叙文）06"/>
          <p:cNvPicPr/>
          <p:nvPr/>
        </p:nvPicPr>
        <p:blipFill>
          <a:blip r:embed="rId2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9"/>
          <p:cNvSpPr/>
          <p:nvPr/>
        </p:nvSpPr>
        <p:spPr>
          <a:xfrm>
            <a:off x="1219320" y="2057400"/>
            <a:ext cx="7162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　　☆ 复述这个故事。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1219320" y="3191040"/>
            <a:ext cx="693396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　　☆ 说说你读过的神话和传说。课后搜集更多的神话故事，相互交流。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小学语文(记叙文）06"/>
          <p:cNvPicPr/>
          <p:nvPr/>
        </p:nvPicPr>
        <p:blipFill>
          <a:blip r:embed="rId2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泰山神话传说"/>
          <p:cNvPicPr/>
          <p:nvPr/>
        </p:nvPicPr>
        <p:blipFill>
          <a:blip r:embed="rId3"/>
          <a:stretch/>
        </p:blipFill>
        <p:spPr>
          <a:xfrm>
            <a:off x="2895480" y="1523880"/>
            <a:ext cx="3221280" cy="42134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3744720" y="5805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泰山神话传说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2:55:00Z</dcterms:created>
  <dc:creator/>
  <dc:description/>
  <cp:keywords>幻灯片之家 http:/www.eeppt.com</cp:keywords>
  <dc:language>en-US</dc:language>
  <cp:lastModifiedBy/>
  <dcterms:modified xsi:type="dcterms:W3CDTF">2015-07-03T14:20:55Z</dcterms:modified>
  <cp:revision>27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