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171-90BC-46C3-8A8F-AB6B7E5C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4D9-3EDB-44C0-AD83-8FDE246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6C0-E1E1-416C-993D-BE86AAC5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072-829E-430B-A94B-BC9B3F00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37C7-2F7C-4AC6-976E-D6FCCCD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897D-B05A-4506-B728-E46E2968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DCCB-0058-448C-816C-536142E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342B-92B0-44DC-AF45-E19BBFE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F3B-D33B-4FB3-987D-EF988B3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1E34-A2BC-4120-ABB6-D507B36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469-50C6-42D7-9957-5B4FBDC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556-3C94-4E2C-A2BC-38C71027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005E-2CB6-4F07-A09E-E7529F0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0967-5E11-4665-874C-B3AB042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41E8-B81F-44AD-8406-1CE71C76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CAA7-DE1D-465A-B334-5086D8A2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523F-EB26-499E-B2BB-AACDBA7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C6C-F36C-41A3-986C-45669FA5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349-80AD-4C9D-84A8-2EC3495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1D8-8428-48A5-BFFB-A333648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19A-3950-4B04-B9BD-97AF8E5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6AF-C4A5-4B54-9CE5-CBCF014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BBE-C73B-4AE2-A73B-D4E3076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31B-75FE-4433-A076-9FEAC58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A34-65A5-46AD-89EC-E209072E75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07D-0EE4-47C2-A66D-BD274B454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057-3A48-4451-976D-9F25732074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76EA-7567-4A76-9F55-5606AE5CF2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own-1737-i30scchbvzx_2"/>
          <p:cNvPicPr/>
          <p:nvPr/>
        </p:nvPicPr>
        <p:blipFill>
          <a:blip r:embed="rId1"/>
          <a:stretch/>
        </p:blipFill>
        <p:spPr>
          <a:xfrm>
            <a:off x="2000160" y="41400"/>
            <a:ext cx="5143680" cy="670536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3146040" y="-255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路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9:30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