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B19C-2DC3-49E5-8662-8EF423D5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86CF-BDD5-46C6-AE9B-D5CE1EAC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6F42-A671-44F3-8DDD-8FFC0A88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252A-137D-4358-83DE-D135A1C0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8615-AAB6-445F-9626-E7BDA8F8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BD3-83C3-461F-B9B5-A84B8704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395C-6FA8-4261-9CC6-58BD1378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9C1B-0BC2-4898-AF00-38729C7F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3FE9-DB29-4E99-8EF0-73BC5208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3F52-3DC1-4CB4-8556-260D1BBA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FF49-470E-4FB8-B2B5-72B32F47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B12C-5B82-4BBA-A929-73BB3C87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6A59-DBC5-476B-BFCA-BC78D5FE707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63BE-AD95-4D57-BB2F-59975347E42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ject 3" descr=""/>
          <p:cNvPicPr/>
          <p:nvPr/>
        </p:nvPicPr>
        <p:blipFill>
          <a:blip r:embed="rId2"/>
          <a:stretch/>
        </p:blipFill>
        <p:spPr>
          <a:xfrm>
            <a:off x="2629080" y="404640"/>
            <a:ext cx="6172200" cy="5791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985680" y="981000"/>
            <a:ext cx="1524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56680" y="1705320"/>
            <a:ext cx="91188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281160" y="620640"/>
            <a:ext cx="642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21280" y="1989000"/>
            <a:ext cx="14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玲玲的画》课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00080" y="714240"/>
            <a:ext cx="76201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　  </a:t>
            </a: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jī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动脑</a:t>
            </a:r>
            <a:r>
              <a:rPr b="0" lang="zh-CN" sz="15000" spc="-1" strike="noStrike">
                <a:solidFill>
                  <a:srgbClr val="ff0000"/>
                </a:solidFill>
                <a:latin typeface="Times New Roman"/>
              </a:rPr>
              <a:t>筋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33520" y="30492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好多事情并不像我们想象的那么糟。只要肯动脑筋，</a:t>
            </a:r>
            <a:r>
              <a:rPr b="1" lang="zh-CN" sz="8000" spc="-1" strike="noStrike">
                <a:solidFill>
                  <a:srgbClr val="a42b22"/>
                </a:solidFill>
                <a:latin typeface="Times New Roman"/>
              </a:rPr>
              <a:t>坏事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往往能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变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成</a:t>
            </a:r>
            <a:r>
              <a:rPr b="1" lang="zh-CN" sz="8000" spc="-1" strike="noStrike">
                <a:solidFill>
                  <a:srgbClr val="a42b22"/>
                </a:solidFill>
                <a:latin typeface="Times New Roman"/>
              </a:rPr>
              <a:t>好事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5"/>
          <p:cNvSpPr/>
          <p:nvPr/>
        </p:nvSpPr>
        <p:spPr>
          <a:xfrm>
            <a:off x="1403280" y="5284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4495680" y="0"/>
            <a:ext cx="4496040" cy="4495680"/>
          </a:xfrm>
          <a:prstGeom prst="cloudCallout">
            <a:avLst>
              <a:gd name="adj1" fmla="val -51129"/>
              <a:gd name="adj2" fmla="val 1214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玲玲————说：“我的画弄脏了，另画一张也来不及了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Object 4" descr=""/>
          <p:cNvPicPr/>
          <p:nvPr/>
        </p:nvPicPr>
        <p:blipFill>
          <a:blip r:embed="rId2"/>
          <a:stretch/>
        </p:blipFill>
        <p:spPr>
          <a:xfrm>
            <a:off x="15840" y="115920"/>
            <a:ext cx="44355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Object 2" descr=""/>
          <p:cNvPicPr/>
          <p:nvPr/>
        </p:nvPicPr>
        <p:blipFill>
          <a:blip r:embed="rId2"/>
          <a:stretch/>
        </p:blipFill>
        <p:spPr>
          <a:xfrm>
            <a:off x="250920" y="344520"/>
            <a:ext cx="4190760" cy="61722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5867280" y="1066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4876920" y="45720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玲玲想了想，拿起笔，在弄脏的地方画了一只小花狗。小狗懒洋洋的趴在楼梯上。玲玲满意地笑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Object 6" descr=""/>
          <p:cNvPicPr/>
          <p:nvPr/>
        </p:nvPicPr>
        <p:blipFill>
          <a:blip r:embed="rId2"/>
          <a:stretch/>
        </p:blipFill>
        <p:spPr>
          <a:xfrm>
            <a:off x="1371600" y="304920"/>
            <a:ext cx="6477120" cy="38988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9"/>
          <p:cNvSpPr/>
          <p:nvPr/>
        </p:nvSpPr>
        <p:spPr>
          <a:xfrm>
            <a:off x="762120" y="441972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在第二天的评奖会上，玲玲的画得了一等奖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28"/>
          <p:cNvSpPr/>
          <p:nvPr/>
        </p:nvSpPr>
        <p:spPr>
          <a:xfrm>
            <a:off x="357120" y="785880"/>
            <a:ext cx="84582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　玲玲的画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肯　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　楼　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叭　玲　狗　糟　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Object 0" descr=""/>
          <p:cNvPicPr/>
          <p:nvPr/>
        </p:nvPicPr>
        <p:blipFill>
          <a:blip r:embed="rId2"/>
          <a:stretch/>
        </p:blipFill>
        <p:spPr>
          <a:xfrm>
            <a:off x="3809880" y="26668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F:\刘玉静上缴学校课件\PIC_77~1.JPG"/>
          <p:cNvPicPr/>
          <p:nvPr/>
        </p:nvPicPr>
        <p:blipFill>
          <a:blip r:embed="rId3"/>
          <a:stretch/>
        </p:blipFill>
        <p:spPr>
          <a:xfrm>
            <a:off x="457200" y="0"/>
            <a:ext cx="8153280" cy="6719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914400" y="228600"/>
            <a:ext cx="7696080" cy="58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líng</a:t>
            </a: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 ling 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5000" spc="-1" strike="noStrike">
                <a:solidFill>
                  <a:srgbClr val="ff0000"/>
                </a:solidFill>
                <a:latin typeface="Times New Roman"/>
              </a:rPr>
              <a:t>玲</a:t>
            </a: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玲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595008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3677-9508-4949-A743-D75BA7DFAC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143000" y="380880"/>
            <a:ext cx="6553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xiáng         </a:t>
            </a: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端</a:t>
            </a:r>
            <a:r>
              <a:rPr b="0" lang="zh-CN" sz="15000" spc="-1" strike="noStrike">
                <a:solidFill>
                  <a:srgbClr val="ff0000"/>
                </a:solidFill>
                <a:latin typeface="Times New Roman"/>
              </a:rPr>
              <a:t>详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1571760" y="714240"/>
            <a:ext cx="6476760" cy="115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fú</a:t>
            </a: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　　  　　　　　   这</a:t>
            </a:r>
            <a:r>
              <a:rPr b="0" lang="zh-CN" sz="15000" spc="-1" strike="noStrike">
                <a:solidFill>
                  <a:srgbClr val="ff0000"/>
                </a:solidFill>
                <a:latin typeface="Times New Roman"/>
              </a:rPr>
              <a:t>幅</a:t>
            </a: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画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609480"/>
            <a:ext cx="84582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jiǎn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评  奖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7451640" y="554040"/>
            <a:ext cx="1843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838080" y="304920"/>
            <a:ext cx="7696440" cy="58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cuī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5000" spc="-1" strike="noStrike">
                <a:solidFill>
                  <a:srgbClr val="ff0000"/>
                </a:solidFill>
                <a:latin typeface="Times New Roman"/>
              </a:rPr>
              <a:t>催</a:t>
            </a: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她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270160" y="173160"/>
            <a:ext cx="1839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609480" y="533520"/>
            <a:ext cx="79250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zān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弄 </a:t>
            </a:r>
            <a:r>
              <a:rPr b="0" lang="zh-CN" sz="15000" spc="-1" strike="noStrike">
                <a:solidFill>
                  <a:srgbClr val="ff0000"/>
                </a:solidFill>
                <a:latin typeface="Times New Roman"/>
              </a:rPr>
              <a:t>脏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143000" y="990720"/>
            <a:ext cx="69595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ff0000"/>
                </a:solidFill>
                <a:latin typeface="Times New Roman"/>
              </a:rPr>
              <a:t>bā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0000"/>
                </a:solidFill>
                <a:latin typeface="Times New Roman"/>
              </a:rPr>
              <a:t>叭</a:t>
            </a:r>
            <a:r>
              <a:rPr b="0" lang="zh-CN" sz="13000" spc="-1" strike="noStrike">
                <a:solidFill>
                  <a:srgbClr val="000000"/>
                </a:solidFill>
                <a:latin typeface="Times New Roman"/>
              </a:rPr>
              <a:t>的一下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1T06:38:53Z</dcterms:created>
  <dc:creator/>
  <dc:description/>
  <cp:keywords>幻灯片之家 http:/www.eeppt.com</cp:keywords>
  <dc:language>en-US</dc:language>
  <cp:lastModifiedBy/>
  <dcterms:modified xsi:type="dcterms:W3CDTF">2015-07-04T06:02:40Z</dcterms:modified>
  <cp:revision>4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