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279-976E-49CC-9663-69326FB8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BC9-A033-4CB4-8BF4-8AD8CE60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5F9-6CA1-40F0-BAC6-6CEE2A10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029-B438-4494-8E29-07F20271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607-439A-4D8C-A1C7-CC25D8CB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7C0-8593-4755-B0C5-EA5B7114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F16-63DA-43E6-A14F-46D8D79A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5DA-5B81-4F9C-B0B9-20DC3546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BA9-6C0B-4954-A8FF-64E832EE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686-B218-41B6-9FE6-4684F817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73C-7903-4867-B147-ED8D7A51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009-AB06-4D1D-A947-47645AA1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BD89-0C9D-4192-A753-905FA0C1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637480" cy="3849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7" descr=""/>
          <p:cNvPicPr/>
          <p:nvPr/>
        </p:nvPicPr>
        <p:blipFill>
          <a:blip r:embed="rId3"/>
          <a:stretch/>
        </p:blipFill>
        <p:spPr>
          <a:xfrm>
            <a:off x="1071720" y="620640"/>
            <a:ext cx="7100640" cy="425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"/>
          <p:cNvPicPr/>
          <p:nvPr/>
        </p:nvPicPr>
        <p:blipFill>
          <a:blip r:embed="rId4"/>
          <a:stretch/>
        </p:blipFill>
        <p:spPr>
          <a:xfrm>
            <a:off x="0" y="4457880"/>
            <a:ext cx="9144000" cy="240012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2647800" y="4653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老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589200" cy="1652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0" y="1125360"/>
            <a:ext cx="9144000" cy="407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4"/>
          <a:stretch/>
        </p:blipFill>
        <p:spPr>
          <a:xfrm>
            <a:off x="6948360" y="2708280"/>
            <a:ext cx="1791000" cy="3862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幻灯片之家：www.eeppt.com;</dc:description>
  <cp:keywords>幻灯片之家：www.eeppt.com</cp:keywords>
  <dc:language>en-US</dc:language>
  <cp:lastModifiedBy/>
  <dcterms:modified xsi:type="dcterms:W3CDTF">2015-07-21T01:36:29Z</dcterms:modified>
  <cp:revision>1</cp:revision>
  <dc:subject/>
  <dc:title>幻灯片之家：www.eeppt.com;</dc:title>
</cp:coreProperties>
</file>