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15E-3192-48D6-A872-3D9FC464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2FB-E9B4-4A2F-AFEE-9D8F74D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018-8F90-488B-A225-2FF438BA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3C6-F24F-4FBA-9A39-493E09C9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9C5F-1858-4E99-AE91-F16092F0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22C-53AD-4582-A85C-8941259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C96-3B5E-4DF3-9DC7-7922CCF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FDD4-3FE7-4BB7-A754-901995D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EAF-45D5-4E27-9282-28F08AD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8844-FFD5-48FE-9B0F-47E336B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6574-6DA0-48E0-9EC0-3447E4C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949-A3A5-4CFF-8DFA-E2902D4B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687-4DB6-4504-8006-A3656CEC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527-2690-49C3-B242-E12DFC0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0D5-BB60-4B95-8135-E52FB23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615-531B-4C49-A4DB-83B7BFC2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F225-456D-4046-907B-F90ECAAE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C6C-AE24-4854-A282-C5C7BCE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994-F0F4-4441-BF24-5DE1B44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4B1-238B-4A7F-A9BE-D8DC4B53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EB0-37DE-4438-B82A-3E728432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1C8-C0C8-4B3C-B265-B84F4EF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FF0-E95F-406A-A5D9-6E9EBD8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953-643D-486A-B6DD-1CAADF6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938-CC6A-4457-A37E-2DE2A76C65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82B0-9671-4E18-8B36-D3570A52C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A5A-FFC9-4291-87E9-C14C41EDC2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6419-FC14-467A-9923-B46FC6EED0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【下载自www.glzy8.com管理资源吧】个性PPT背景素材图片"/>
          <p:cNvPicPr/>
          <p:nvPr/>
        </p:nvPicPr>
        <p:blipFill>
          <a:blip r:embed="rId1"/>
          <a:stretch/>
        </p:blipFill>
        <p:spPr>
          <a:xfrm>
            <a:off x="38160" y="0"/>
            <a:ext cx="9055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855520" y="1157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个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2:59:01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