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495C-5544-49EF-BD0B-50B9B7217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917A-B4FF-4C1D-8F21-8ABE0507A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0919-C25E-4656-AADF-FE4BB0801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C7F0-65B2-45E0-B4C4-C3322D065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81290-A963-4DAE-A999-9DE7077DE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73595-26B6-4542-8917-B10A509A4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50B73-0EF3-4CE5-9B85-814756D5F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0D5E8-57A1-47CD-81B7-F28DE649D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5ECEE-C71F-4AD3-AC50-69113A278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F8194-1158-4E3B-87D8-9710AC3AB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CB3EA-607C-4931-A9BC-B86DB01C7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9CC7-AB95-4DA9-92A0-8634F2EB9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FAC5A-BB03-42E2-8229-7B53074F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77D09-01AB-4AA2-BB93-856BA6D00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B8304-2A61-4692-991B-C4F45947B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9F1A5-09F0-4450-8E41-397E08D45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F2952-326F-469B-A76C-BD58AD423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516D-67D9-4B7D-A70C-62C64B10C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7405-BD8C-40FA-B45B-4822DED88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C792-A18F-4BFB-A0EE-DDAADA1DE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F9B1-26D9-4AEB-9DB9-335A7BBD4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BF2B-F1D2-4FC9-974C-FA6E1398D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425C-1782-4479-9F50-DD776F0A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7405-04A5-470B-8EDA-C1413822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1FB5B-5EFE-4877-B49A-AF1CFCE5190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08E0A-EE83-47B3-8A47-FB5DEC41E4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50C05-931D-4916-9254-C307024F83D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A2E64-0211-42E0-8CCC-2A90D95D885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93600" y="0"/>
            <a:ext cx="89712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93600" y="6461280"/>
            <a:ext cx="6696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图片素材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83000" y="0"/>
            <a:ext cx="628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留学部讲座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6663C-B8AA-4B3B-BB74-BA5EC1E5013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/>
  <dc:description>幻灯片之家：www.eeppt.com;</dc:description>
  <cp:keywords>幻灯片之家：www.eeppt.com</cp:keywords>
  <dc:language>en-US</dc:language>
  <cp:lastModifiedBy/>
  <dcterms:modified xsi:type="dcterms:W3CDTF">2015-07-21T02:18:56Z</dcterms:modified>
  <cp:revision>4</cp:revision>
  <dc:subject/>
  <dc:title>幻灯片之家：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