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DBBA-6562-4FD2-97C0-256A56D44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D054-4108-4A8B-BA28-DE2C897B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7C6E-5D84-4F7A-95E0-417430039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A473-A308-4F32-916C-95BD3DF22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7891-CFC8-4B3A-B4C6-37DDC90E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6E68-CE66-4893-AF9F-BBA2C6C2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CDEA-E5D9-4E1C-890B-6B78C9EB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4188-0750-4274-A6F5-14470826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1016-EFBA-4690-A3AC-4EF69A91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469F-F200-4B5D-9560-D0090C4F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643A-5459-49C4-B1BC-43A1CB78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42A0-D787-45EA-AF2D-3963C468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462F-F237-4DBF-A5B9-8E04C800A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a2da23740760ef6dfacc67480cf21b27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105264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《小柳树和小枣树》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6"/>
          <p:cNvSpPr/>
          <p:nvPr/>
        </p:nvSpPr>
        <p:spPr>
          <a:xfrm>
            <a:off x="468360" y="3500280"/>
            <a:ext cx="3743280" cy="2737080"/>
          </a:xfrm>
          <a:prstGeom prst="wedgeRectCallout">
            <a:avLst>
              <a:gd name="adj1" fmla="val 83842"/>
              <a:gd name="adj2" fmla="val 23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你虽然不会结枣子，可是一到春天，你就发芽长叶，比我绿得早；到了秋天，你比我落叶晚。再说，你长得也比我快，等你长大了，人们在树阴下乘凉，那多好啊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16000" y="652464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5148360" y="836640"/>
            <a:ext cx="346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小柳树的腰细细的，树枝绿绿的，真好看</a:t>
            </a:r>
            <a:r>
              <a:rPr b="0" lang="zh-CN" sz="2400" spc="-1" strike="noStrike">
                <a:solidFill>
                  <a:srgbClr val="0066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5148360" y="2060640"/>
            <a:ext cx="33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春天，小柳树发芽儿了。过了几天，小柳树的芽儿变成小叶子，她穿上一身浅绿色的衣服，真美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5292720" y="4365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这时候，小柳树的叶子已经长得又细又长了。她在微风里得意地跳起舞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"/>
          <p:cNvPicPr/>
          <p:nvPr/>
        </p:nvPicPr>
        <p:blipFill>
          <a:blip r:embed="rId2"/>
          <a:stretch/>
        </p:blipFill>
        <p:spPr>
          <a:xfrm>
            <a:off x="303120" y="189000"/>
            <a:ext cx="467208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069E-C36D-4B9E-9BC5-2AFCF0451A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12677024531941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未标题-2"/>
          <p:cNvPicPr/>
          <p:nvPr/>
        </p:nvPicPr>
        <p:blipFill>
          <a:blip r:embed="rId2"/>
          <a:stretch/>
        </p:blipFill>
        <p:spPr>
          <a:xfrm>
            <a:off x="5867280" y="476280"/>
            <a:ext cx="3154320" cy="56894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1042920" y="119700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324000" y="620640"/>
            <a:ext cx="287964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000" spc="-1" strike="noStrike">
                <a:solidFill>
                  <a:srgbClr val="006600"/>
                </a:solidFill>
                <a:latin typeface="Arial"/>
                <a:ea typeface="黑体"/>
              </a:rPr>
              <a:t>小柳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6600"/>
                </a:solidFill>
                <a:latin typeface="Arial"/>
              </a:rPr>
              <a:t>小柳树的腰细细的，树枝绿绿的，真好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6600"/>
                </a:solidFill>
                <a:latin typeface="Arial"/>
              </a:rPr>
              <a:t>春天，小柳树发芽儿了。过了几天，小柳树的芽儿变成小叶子，她穿上一身浅绿色的衣服，真美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6600"/>
                </a:solidFill>
                <a:latin typeface="Arial"/>
              </a:rPr>
              <a:t>又过了好些日子，小柳树的叶子已经长得又细又长了。她在微风里得意地跳起舞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276720" y="692280"/>
            <a:ext cx="24476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小枣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树枝弯弯曲曲的，一点儿也不好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小枣树还是光秃秃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小枣树才长出了小小的叶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2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8365-1E52-4D10-B530-EC40E8F4EA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W020070712334842180335"/>
          <p:cNvPicPr/>
          <p:nvPr/>
        </p:nvPicPr>
        <p:blipFill>
          <a:blip r:embed="rId2"/>
          <a:stretch/>
        </p:blipFill>
        <p:spPr>
          <a:xfrm>
            <a:off x="0" y="341280"/>
            <a:ext cx="8964720" cy="633744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5"/>
          <p:cNvSpPr/>
          <p:nvPr/>
        </p:nvSpPr>
        <p:spPr>
          <a:xfrm>
            <a:off x="2340000" y="620640"/>
            <a:ext cx="2592360" cy="1656000"/>
          </a:xfrm>
          <a:prstGeom prst="wedgeRoundRectCallout">
            <a:avLst>
              <a:gd name="adj1" fmla="val -66597"/>
              <a:gd name="adj2" fmla="val 13216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喂，小枣树，你的树枝多难看哪！你看我，多漂亮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6"/>
          <p:cNvSpPr/>
          <p:nvPr/>
        </p:nvSpPr>
        <p:spPr>
          <a:xfrm>
            <a:off x="2124000" y="5373720"/>
            <a:ext cx="3384720" cy="1295280"/>
          </a:xfrm>
          <a:prstGeom prst="wedgeRoundRectCallout">
            <a:avLst>
              <a:gd name="adj1" fmla="val -57365"/>
              <a:gd name="adj2" fmla="val -10563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喂，小枣树，你怎么不长叶子呀？你看我，多漂亮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1ObX08rswcsy_HaIu4AZdM686"/>
          <p:cNvPicPr/>
          <p:nvPr/>
        </p:nvPicPr>
        <p:blipFill>
          <a:blip r:embed="rId2"/>
          <a:stretch/>
        </p:blipFill>
        <p:spPr>
          <a:xfrm>
            <a:off x="2124000" y="0"/>
            <a:ext cx="4707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05:42:08Z</dcterms:created>
  <dc:creator/>
  <dc:description/>
  <cp:keywords>幻灯片之家 http:/www.eeppt.com</cp:keywords>
  <dc:language>en-US</dc:language>
  <cp:lastModifiedBy/>
  <dcterms:modified xsi:type="dcterms:W3CDTF">2015-07-18T14:35:43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