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6AA-3AEA-447C-B03C-3AD2F867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3E7-204B-4EC6-852A-D3A8AD3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AF2-8448-4E7C-AE07-1117EF8F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038-5270-46C6-895D-A5B3DD33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FE5B-E4EE-4185-8292-6673FC33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98D5-6A08-418C-A404-2304AA1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B4D6-7675-4F3D-837B-0E536129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7A99-B6D2-47CA-8CA0-A0CD2240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5A4D-3941-4A4D-8F80-1F7AF08A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442E-B60D-4E4B-8FFB-9A3D99D5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605-8491-49C1-88CF-289B4472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095-2FD9-4B92-83AE-14112874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3C4C-6D32-457F-BA07-CA877EC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1D0E-A737-4AF1-B927-216A624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34C-72CE-4591-9CC9-8CC5FB4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2776-BC3D-4F3A-B5DF-20756B82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3025-ED92-452E-9DD4-82E804CE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966-BE82-4ACD-BA7B-001E1950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707-5D10-4278-BC24-F2D3837C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D7C-C8AB-4D5A-9089-933D45E2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FBD-41B9-4A30-ABF7-96C58E2A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B50-A848-48CA-A620-D407FF1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0C3-5BC8-4A3D-B027-876CD01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9EA-6306-4C62-B683-8D762DB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0676-3003-4A8E-9379-C9DB0FAC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6E1B-3413-4338-9AED-5CBA7C288C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y"/>
          <p:cNvPicPr/>
          <p:nvPr/>
        </p:nvPicPr>
        <p:blipFill>
          <a:blip r:embed="rId1"/>
          <a:stretch/>
        </p:blipFill>
        <p:spPr>
          <a:xfrm>
            <a:off x="157320" y="108252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258920" y="35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82040" y="184464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面积和面积单位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273320"/>
            <a:ext cx="4248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6300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7308720" y="191628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3240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93348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6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7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8"/>
          <p:cNvSpPr/>
          <p:nvPr/>
        </p:nvSpPr>
        <p:spPr>
          <a:xfrm>
            <a:off x="39816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324000" y="1878120"/>
            <a:ext cx="4248000" cy="613800"/>
            <a:chOff x="324000" y="1878120"/>
            <a:chExt cx="4248000" cy="613800"/>
          </a:xfrm>
        </p:grpSpPr>
        <p:sp>
          <p:nvSpPr>
            <p:cNvPr id="231" name="Rectangle 29"/>
            <p:cNvSpPr/>
            <p:nvPr/>
          </p:nvSpPr>
          <p:spPr>
            <a:xfrm>
              <a:off x="324000" y="188244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0"/>
            <p:cNvSpPr/>
            <p:nvPr/>
          </p:nvSpPr>
          <p:spPr>
            <a:xfrm>
              <a:off x="933480" y="1878120"/>
              <a:ext cx="609840" cy="60912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1"/>
            <p:cNvSpPr/>
            <p:nvPr/>
          </p:nvSpPr>
          <p:spPr>
            <a:xfrm>
              <a:off x="1543320" y="1878120"/>
              <a:ext cx="609480" cy="60912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2"/>
            <p:cNvSpPr/>
            <p:nvPr/>
          </p:nvSpPr>
          <p:spPr>
            <a:xfrm>
              <a:off x="2152800" y="1878120"/>
              <a:ext cx="609480" cy="60912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3"/>
            <p:cNvSpPr/>
            <p:nvPr/>
          </p:nvSpPr>
          <p:spPr>
            <a:xfrm>
              <a:off x="2762280" y="1882440"/>
              <a:ext cx="60984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4"/>
            <p:cNvSpPr/>
            <p:nvPr/>
          </p:nvSpPr>
          <p:spPr>
            <a:xfrm>
              <a:off x="3372120" y="188244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5"/>
            <p:cNvSpPr/>
            <p:nvPr/>
          </p:nvSpPr>
          <p:spPr>
            <a:xfrm>
              <a:off x="3962520" y="188244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37"/>
          <p:cNvSpPr/>
          <p:nvPr/>
        </p:nvSpPr>
        <p:spPr>
          <a:xfrm>
            <a:off x="246240" y="4648320"/>
            <a:ext cx="8135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比较两个图形面积的大小，要用统一的面积单位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075280" y="25002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14200" y="54936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．边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84360" y="11588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14200" y="2060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．面积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方分米的正方形边长是（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765440" y="26701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25280" y="3860640"/>
            <a:ext cx="819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３．边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84360" y="44704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花边13"/>
          <p:cNvPicPr/>
          <p:nvPr/>
        </p:nvPicPr>
        <p:blipFill>
          <a:blip r:embed="rId1"/>
          <a:stretch/>
        </p:blipFill>
        <p:spPr>
          <a:xfrm>
            <a:off x="8568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49" name="Text Box 3"/>
          <p:cNvSpPr/>
          <p:nvPr/>
        </p:nvSpPr>
        <p:spPr>
          <a:xfrm>
            <a:off x="1676520" y="2565360"/>
            <a:ext cx="746748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　　 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（ 　   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小，叫做它们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97440" y="3570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789280" y="256536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物体的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032520" y="256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封闭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3419640" y="3357720"/>
            <a:ext cx="287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403280" y="3068640"/>
            <a:ext cx="24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348000" y="3519360"/>
            <a:ext cx="72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4427640" y="4443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4920" y="357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４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黑板的长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新宋体"/>
                <a:ea typeface="新宋体"/>
              </a:rPr>
              <a:t>  　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571040" y="4505400"/>
            <a:ext cx="40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５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块手帕的面积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34920" y="54421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６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枚邮票的面积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4500720" y="5380200"/>
            <a:ext cx="22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0" y="941400"/>
            <a:ext cx="10260000" cy="13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．小明的大拇指的指甲盖大约是１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6840360" y="97776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平方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4920" y="1697040"/>
            <a:ext cx="82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．数学课本的封面大约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34920" y="26337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３．一个学校的面积大约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580000" y="16970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867280" y="26337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50920" y="115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上适当的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828720" y="5516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上面的资料，说说你有什么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84360" y="1125360"/>
          <a:ext cx="7848360" cy="4021200"/>
        </p:xfrm>
        <a:graphic>
          <a:graphicData uri="http://schemas.openxmlformats.org/drawingml/2006/table">
            <a:tbl>
              <a:tblPr/>
              <a:tblGrid>
                <a:gridCol w="1800000"/>
                <a:gridCol w="1871640"/>
                <a:gridCol w="417672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国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首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均绿地面积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华盛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４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法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巴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２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德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柏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５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北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        ８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56"/>
          <p:cNvSpPr/>
          <p:nvPr/>
        </p:nvSpPr>
        <p:spPr>
          <a:xfrm>
            <a:off x="4382280" y="293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世界一些国家首都人均绿地面积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9"/>
          <p:cNvSpPr/>
          <p:nvPr/>
        </p:nvSpPr>
        <p:spPr>
          <a:xfrm>
            <a:off x="1523880" y="2997360"/>
            <a:ext cx="708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763640" y="29862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250920" y="2735280"/>
            <a:ext cx="86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小明的身高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米。　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卧室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厘米。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花园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米。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6729480" y="2401920"/>
            <a:ext cx="20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139160" y="32400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6993000" y="400536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31640" y="1341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判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5"/>
          <p:cNvSpPr/>
          <p:nvPr/>
        </p:nvSpPr>
        <p:spPr>
          <a:xfrm>
            <a:off x="793800" y="15494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814480" y="284004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封闭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6696000" y="995400"/>
            <a:ext cx="1371600" cy="1355760"/>
          </a:xfrm>
          <a:prstGeom prst="ellipse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468000" y="3541680"/>
            <a:ext cx="7275960" cy="1687680"/>
            <a:chOff x="468000" y="3541680"/>
            <a:chExt cx="7275960" cy="1687680"/>
          </a:xfrm>
        </p:grpSpPr>
        <p:grpSp>
          <p:nvGrpSpPr>
            <p:cNvPr id="95" name="Group 8"/>
            <p:cNvGrpSpPr/>
            <p:nvPr/>
          </p:nvGrpSpPr>
          <p:grpSpPr>
            <a:xfrm>
              <a:off x="6013080" y="3873600"/>
              <a:ext cx="1730880" cy="1355760"/>
              <a:chOff x="6013080" y="3873600"/>
              <a:chExt cx="1730880" cy="1355760"/>
            </a:xfrm>
          </p:grpSpPr>
          <p:sp>
            <p:nvSpPr>
              <p:cNvPr id="96" name="Line 9"/>
              <p:cNvSpPr/>
              <p:nvPr/>
            </p:nvSpPr>
            <p:spPr>
              <a:xfrm flipH="1">
                <a:off x="6013080" y="3873600"/>
                <a:ext cx="941400" cy="13557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6013440" y="5229360"/>
                <a:ext cx="1730520" cy="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6954840" y="3873600"/>
                <a:ext cx="465120" cy="8082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2"/>
            <p:cNvGrpSpPr/>
            <p:nvPr/>
          </p:nvGrpSpPr>
          <p:grpSpPr>
            <a:xfrm>
              <a:off x="468000" y="3541680"/>
              <a:ext cx="1730880" cy="1687320"/>
              <a:chOff x="468000" y="3541680"/>
              <a:chExt cx="1730880" cy="1687320"/>
            </a:xfrm>
          </p:grpSpPr>
          <p:sp>
            <p:nvSpPr>
              <p:cNvPr id="100" name="Line 13"/>
              <p:cNvSpPr/>
              <p:nvPr/>
            </p:nvSpPr>
            <p:spPr>
              <a:xfrm flipH="1">
                <a:off x="468000" y="3541680"/>
                <a:ext cx="941400" cy="1687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4"/>
              <p:cNvSpPr/>
              <p:nvPr/>
            </p:nvSpPr>
            <p:spPr>
              <a:xfrm>
                <a:off x="468360" y="5229000"/>
                <a:ext cx="173052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3137040" y="3873600"/>
              <a:ext cx="1728720" cy="1355760"/>
              <a:chOff x="3137040" y="3873600"/>
              <a:chExt cx="1728720" cy="1355760"/>
            </a:xfrm>
          </p:grpSpPr>
          <p:sp>
            <p:nvSpPr>
              <p:cNvPr id="103" name="Line 16"/>
              <p:cNvSpPr/>
              <p:nvPr/>
            </p:nvSpPr>
            <p:spPr>
              <a:xfrm>
                <a:off x="3137040" y="5229360"/>
                <a:ext cx="1728720" cy="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7"/>
              <p:cNvSpPr/>
              <p:nvPr/>
            </p:nvSpPr>
            <p:spPr>
              <a:xfrm flipV="1">
                <a:off x="3137040" y="387360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 flipV="1">
                <a:off x="4865760" y="387360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Rectangle 19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33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009900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6666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6729480" y="993600"/>
            <a:ext cx="1371600" cy="1355760"/>
          </a:xfrm>
          <a:prstGeom prst="ellipse">
            <a:avLst/>
          </a:prstGeom>
          <a:solidFill>
            <a:srgbClr val="6600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3800" y="5805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3F6-AED4-4177-B73D-EEB6B0CC9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295280" y="2971800"/>
            <a:ext cx="182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477040" y="2781360"/>
            <a:ext cx="2286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39640" y="1949400"/>
            <a:ext cx="4176720" cy="3124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59664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05092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572000" y="1890720"/>
            <a:ext cx="4032360" cy="2546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39640" y="1916280"/>
            <a:ext cx="3311640" cy="254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56416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68660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33526E-006 L 0.44098 -4.33526E-006 E">
                                      <p:cBhvr>
                                        <p:cTn id="7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8 1.32948E-006 L -4.16667E-006 1.32948E-006 E">
                                      <p:cBhvr>
                                        <p:cTn id="8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916360" y="3573360"/>
            <a:ext cx="3273480" cy="609480"/>
            <a:chOff x="2916360" y="3573360"/>
            <a:chExt cx="3273480" cy="609480"/>
          </a:xfrm>
        </p:grpSpPr>
        <p:sp>
          <p:nvSpPr>
            <p:cNvPr id="128" name="Rectangle 4"/>
            <p:cNvSpPr/>
            <p:nvPr/>
          </p:nvSpPr>
          <p:spPr>
            <a:xfrm>
              <a:off x="5580360" y="357336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4048200" y="3573360"/>
              <a:ext cx="1008000" cy="609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2916360" y="357336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78035E-007 L 0.4125 -5.78035E-007 E">
                                      <p:cBhvr>
                                        <p:cTn id="9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25 4.39306E-006 L 3.33333E-006 4.39306E-006 E">
                                      <p:cBhvr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24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9334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1542960" y="1273320"/>
            <a:ext cx="60984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21528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27622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94344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3348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2"/>
          <p:cNvGrpSpPr/>
          <p:nvPr/>
        </p:nvGrpSpPr>
        <p:grpSpPr>
          <a:xfrm>
            <a:off x="324000" y="1882800"/>
            <a:ext cx="4228560" cy="609480"/>
            <a:chOff x="324000" y="1882800"/>
            <a:chExt cx="4228560" cy="609480"/>
          </a:xfrm>
        </p:grpSpPr>
        <p:sp>
          <p:nvSpPr>
            <p:cNvPr id="144" name="Oval 9"/>
            <p:cNvSpPr/>
            <p:nvPr/>
          </p:nvSpPr>
          <p:spPr>
            <a:xfrm>
              <a:off x="32400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1"/>
            <p:cNvSpPr/>
            <p:nvPr/>
          </p:nvSpPr>
          <p:spPr>
            <a:xfrm>
              <a:off x="93312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154296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215244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76192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3348000" y="1882800"/>
              <a:ext cx="60912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1"/>
            <p:cNvSpPr/>
            <p:nvPr/>
          </p:nvSpPr>
          <p:spPr>
            <a:xfrm>
              <a:off x="394308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24000" y="1273320"/>
            <a:ext cx="4032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4000" y="12733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24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332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340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348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332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2340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3348000" y="1882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6324480" y="190512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733284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24000" y="1273320"/>
            <a:ext cx="426708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240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9334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9816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9334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5429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1528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27622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33717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9816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52927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52927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52754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59022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651204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71215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77310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9"/>
          <p:cNvSpPr/>
          <p:nvPr/>
        </p:nvSpPr>
        <p:spPr>
          <a:xfrm>
            <a:off x="5902200" y="1295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651204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1"/>
          <p:cNvSpPr/>
          <p:nvPr/>
        </p:nvSpPr>
        <p:spPr>
          <a:xfrm>
            <a:off x="71215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7731000" y="130644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59022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65120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7121520" y="19051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77310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08:49Z</dcterms:created>
  <dc:creator/>
  <dc:description/>
  <cp:keywords>幻灯片之家 http:/www.eeppt.com</cp:keywords>
  <dc:language>en-US</dc:language>
  <cp:lastModifiedBy/>
  <dcterms:modified xsi:type="dcterms:W3CDTF">2015-07-03T14:17:37Z</dcterms:modified>
  <cp:revision>2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