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0A8-C0F9-45C0-87B3-FD3C5F74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6D5-2FCC-406A-8EF4-578D983F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59B-78E7-45C7-A84D-C5611A8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732-DAA1-4A28-AFE5-2DFB30FA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B60-DF74-4AA3-B3D6-A6D1737F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60C-2FC5-4150-B32C-0F5B2804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099-43BC-44E5-9A8B-05C627A9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ACC-D49A-4696-AA2A-90587067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417-9FF6-40C7-8B5E-C6C35123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4A7-94EF-444B-9A0B-E03EEDF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D7F-EC08-48CE-9DF7-68A9DCF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5B7-4A64-4F78-B78B-EF79739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C9E-42AA-429B-8F9A-49AC5ACE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ic_2546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658800"/>
            <a:ext cx="52088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00"/>
              </a:solidFill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20440" y="285264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麦哨》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生字、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920" y="1384200"/>
            <a:ext cx="8458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湖畔   兜肚   麦穗儿   裹着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嚼嚼   肺腑   撩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80880" y="43876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剥（    ）开   吮（    ）吸直沁（    ）肺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828800" y="4387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6324480" y="4387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438280" y="5073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105520" y="8380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838080" y="8380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362320" y="8380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ō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7238880" y="8380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228600" y="2590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2362320" y="2666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  f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4495680" y="26668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28"/>
          <p:cNvSpPr/>
          <p:nvPr/>
        </p:nvSpPr>
        <p:spPr>
          <a:xfrm>
            <a:off x="228600" y="14479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29"/>
          <p:cNvSpPr/>
          <p:nvPr/>
        </p:nvSpPr>
        <p:spPr>
          <a:xfrm>
            <a:off x="990720" y="12193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30"/>
          <p:cNvSpPr/>
          <p:nvPr/>
        </p:nvSpPr>
        <p:spPr>
          <a:xfrm>
            <a:off x="1447920" y="838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附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31"/>
          <p:cNvSpPr/>
          <p:nvPr/>
        </p:nvSpPr>
        <p:spPr>
          <a:xfrm>
            <a:off x="1447920" y="2133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总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32"/>
          <p:cNvSpPr/>
          <p:nvPr/>
        </p:nvSpPr>
        <p:spPr>
          <a:xfrm>
            <a:off x="4495680" y="15238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33"/>
          <p:cNvSpPr/>
          <p:nvPr/>
        </p:nvSpPr>
        <p:spPr>
          <a:xfrm>
            <a:off x="5257800" y="129528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34"/>
          <p:cNvSpPr/>
          <p:nvPr/>
        </p:nvSpPr>
        <p:spPr>
          <a:xfrm>
            <a:off x="5715000" y="914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呼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35"/>
          <p:cNvSpPr/>
          <p:nvPr/>
        </p:nvSpPr>
        <p:spPr>
          <a:xfrm>
            <a:off x="5715000" y="22096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应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36"/>
          <p:cNvSpPr/>
          <p:nvPr/>
        </p:nvSpPr>
        <p:spPr>
          <a:xfrm>
            <a:off x="228600" y="3886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7"/>
          <p:cNvSpPr/>
          <p:nvPr/>
        </p:nvSpPr>
        <p:spPr>
          <a:xfrm>
            <a:off x="990720" y="3657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38"/>
          <p:cNvSpPr/>
          <p:nvPr/>
        </p:nvSpPr>
        <p:spPr>
          <a:xfrm>
            <a:off x="1447920" y="3276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欢乐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39"/>
          <p:cNvSpPr/>
          <p:nvPr/>
        </p:nvSpPr>
        <p:spPr>
          <a:xfrm>
            <a:off x="1447920" y="4572000"/>
            <a:ext cx="31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乐谱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40"/>
          <p:cNvSpPr/>
          <p:nvPr/>
        </p:nvSpPr>
        <p:spPr>
          <a:xfrm>
            <a:off x="4495680" y="39625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41"/>
          <p:cNvSpPr/>
          <p:nvPr/>
        </p:nvSpPr>
        <p:spPr>
          <a:xfrm>
            <a:off x="5257800" y="3733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42"/>
          <p:cNvSpPr/>
          <p:nvPr/>
        </p:nvSpPr>
        <p:spPr>
          <a:xfrm>
            <a:off x="5715000" y="3352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似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43"/>
          <p:cNvSpPr/>
          <p:nvPr/>
        </p:nvSpPr>
        <p:spPr>
          <a:xfrm>
            <a:off x="5715000" y="4648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相似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3810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8380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描写的乡村孩子的生活是怎样的？从中感受到了什么？从哪些地方感受到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33520" y="3200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乡村孩子淳朴可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3520" y="3962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孩子的活动丰富多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33520" y="4800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乡间景色美丽亲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孩子的情感热烈活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80880" y="16765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那一张张</a:t>
            </a:r>
            <a:r>
              <a:rPr b="0" lang="zh-CN" sz="48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红扑扑的脸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蒙上了一层晶莹的细汗，犹如一朵朵沾</a:t>
            </a:r>
            <a:r>
              <a:rPr b="0" lang="zh-CN" sz="48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满露珠的月季花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8720" y="5518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380880" y="609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金黄的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油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花谢了，结出了密密的嫩荚；黑白相间的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蚕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花谢了，长出了小指头似的豆荚；雪白的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萝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花谢了，结出了一蓬蓬的种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85800" y="4800600"/>
            <a:ext cx="79246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是一个排比句，观察细致，蕴涵着一种丰收的喜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26F-3933-4474-9974-C617C5AE1E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80880" y="5335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草地柔软而有弹性，比城里体育馆的垫子还要强，这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简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一个天然的运动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09480" y="3048120"/>
            <a:ext cx="83059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直：完全如此。这里运用对比、比喻的手法形象地写出了草地的茂密、柔软，写出了作者由衷的赞叹。阅读时，要读出赞叹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ic_254639-1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50920" y="33336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把你最喜欢的、感受最深的部分读给大家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6:36:00Z</dcterms:created>
  <dc:creator/>
  <dc:description/>
  <cp:keywords>幻灯片之家 http:/www.eeppt.com</cp:keywords>
  <dc:language>en-US</dc:language>
  <cp:lastModifiedBy/>
  <dcterms:modified xsi:type="dcterms:W3CDTF">2015-07-03T11:37:3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