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23E-216D-4E82-9A2E-6D283830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73A-6CF3-4F7D-81CC-2EDF5491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62B-C3CB-4D9C-A076-E4A278CE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FCC-10EC-4627-AEB5-8116EA9B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C8F-8D7A-4F1C-9DEC-25ACAD72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941-BB79-46DB-93D3-2DABBC8D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F9F-AC0C-4BB5-AD30-AC5965DB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E4E-81D4-40E7-AF6E-9E790C54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AB6-15BB-4934-AF7A-F0188F82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C83-B1B0-429A-BEC0-0AE06507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B52-D2F9-4B3F-9D4D-192A4B33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62D6-0CC8-483B-B0FE-B7696081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B870-9BB8-4913-8A48-599A275597A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BD1E-1CB7-4F1E-9C6D-BFB0972DE45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2840" y="266508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3840" y="1138320"/>
            <a:ext cx="82342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lick to ed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ster subtitle 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88040" y="22212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美食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660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f6228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4f6228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228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4f6228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228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4f6228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228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4f6228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228"/>
              </a:buClr>
              <a:buSzPct val="25000"/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228"/>
              </a:buClr>
              <a:buSzPct val="25000"/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6453360"/>
            <a:ext cx="439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7400" y="374400"/>
            <a:ext cx="701676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17400" y="1137960"/>
            <a:ext cx="701676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4f6128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4f6128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4f6128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4f6128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6C8-CC43-469D-B1E4-AAC4CB05E2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9280" y="83340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8920" y="15444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48920" y="2172960"/>
            <a:ext cx="404028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4f6128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4f6128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4f6128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36800" y="15444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36800" y="2172960"/>
            <a:ext cx="404172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4f6128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4f6128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4f6128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6453360"/>
            <a:ext cx="439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0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