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14.gif" ContentType="image/gif"/>
  <Override PartName="/ppt/media/image13.gif" ContentType="image/gif"/>
  <Override PartName="/ppt/media/chimes.wav" ContentType="audio/x-wav"/>
  <Override PartName="/ppt/media/image8.png" ContentType="image/png"/>
  <Override PartName="/ppt/media/image6.jpeg" ContentType="image/jpeg"/>
  <Override PartName="/ppt/media/applause.wav" ContentType="audio/x-wav"/>
  <Override PartName="/ppt/media/image12.gif" ContentType="image/gif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94A-5D6D-4E8A-B42B-99FB737C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E8B-70B6-433B-8269-62779DEE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2AA-6AAB-45FF-A76C-55CFF6F8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345-26CC-4709-8CA0-9F8CC697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76BE-0C96-4BA9-A19E-5F72749A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F09E-D84B-4F2C-A382-EF37F26E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F562-15E4-4A89-BE3E-9446D4E7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E445-28E1-4376-BCCD-53705FF8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3FB2-9BF1-446B-B55B-2CB77AD2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689C-CF91-45CF-8787-9ABB3514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4846-D510-4128-ACCE-2FD45A1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739-084F-4463-8D5E-91B88BA1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4233-2CB2-4C00-95C8-3D181626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ED31-5D21-41C2-94F6-C40C70F2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FC3-B4CE-420C-9D8D-0EF7E172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E4D2-DABC-4C8D-86B8-59D91B02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DD5F-2703-40A1-B9B4-CB56C97C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9AD6-3CE9-4529-A4EE-F08FA63B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2789-94F7-46AF-93B5-5EA4B6E2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3422E-714D-4F31-B414-9F54DB53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762B-9955-4E39-8C66-1E8CAEB7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4888-5E47-4205-A0D5-FE5580EC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3B0-0BB4-452C-8183-5A2F4757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DFE9-80B2-47A4-8A52-7CB206BC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D9B7-74CE-4F42-9460-CA61A920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2F7AF-FF9B-49AC-9CD1-276EA974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8BF2-D804-4C2F-99B2-6B1B321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38DE-3DF9-464A-B25B-90E43D6A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7EF7-7829-4552-95BC-0B230818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B3BE0-3E9A-4866-BE9A-A0216D0C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23EDB-379D-4BE6-A442-79FFA6E5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C9D43-6455-49AB-B185-9140F39D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C932-6B1C-42C6-B153-324B49A8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58B-500E-4EED-82A9-C623888E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BD9F8-0F3F-4ABA-98C4-82D9922E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4851A-CF05-4BA6-A71B-4F2CD0EB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F46A-65DB-4204-BDFE-A5E6CBAA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1189-9A23-4486-BF6E-3CE80359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621E3-D56F-44C0-91B5-C50614D1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2B99-95E2-4718-A991-0E0E832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CCF4-CB2A-476F-8542-AA84F9F9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D14D5-C93F-4ACB-990D-61A9F1ED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3A9FA-2628-4EA5-9F76-7CFDB050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4A3-1673-4C8F-82D4-0302839E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05E-F914-48E5-A615-9413A001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D20-1350-4C0B-9544-508DA7D8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789-DB84-451E-BEE3-F7018CE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51D-F7FF-4D55-B2DB-EBC510DF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687fc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" name="Picture 3" descr="ANABNR2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DBFB-29EE-453F-BA22-44D0B1647463}" type="slidenum"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E0B7-C90F-426E-9659-B5EDEA8FB0A7}" type="slidenum">
              <a: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7015-A8C3-492E-8559-2A7DA1287A12}" type="slidenum">
              <a: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F9D-E967-4F8B-8C5F-9AF35F197F64}" type="slidenum">
              <a: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270,13,&#21407;&#22240;&#21487;&#33021;&#26159;&#65306;" TargetMode="Externa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4.jpeg"/><Relationship Id="rId2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1,7,&#30475;&#30475;&#35841;&#35828;&#24471;&#22909;&#65311;" TargetMode="External"/><Relationship Id="rId3" Type="http://schemas.openxmlformats.org/officeDocument/2006/relationships/hyperlink" Target="271,7,&#30475;&#30475;&#35841;&#35828;&#24471;&#22909;&#65311;" TargetMode="External"/><Relationship Id="rId4" Type="http://schemas.openxmlformats.org/officeDocument/2006/relationships/hyperlink" Target="271,7,&#30475;&#30475;&#35841;&#35828;&#24471;&#22909;&#65311;" TargetMode="External"/><Relationship Id="rId5" Type="http://schemas.openxmlformats.org/officeDocument/2006/relationships/hyperlink" Target="271,7,&#30475;&#30475;&#35841;&#35828;&#24471;&#22909;&#65311;" TargetMode="External"/><Relationship Id="rId6" Type="http://schemas.openxmlformats.org/officeDocument/2006/relationships/hyperlink" Target="271,7,&#30475;&#30475;&#35841;&#35828;&#24471;&#22909;&#65311;" TargetMode="Externa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0,8,&#24187;&#28783;&#29255; 8" TargetMode="External"/><Relationship Id="rId3" Type="http://schemas.openxmlformats.org/officeDocument/2006/relationships/hyperlink" Target="256,-1,NEXT" TargetMode="External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1915920"/>
            <a:ext cx="64087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 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332000" y="836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7fca"/>
                </a:solidFill>
                <a:latin typeface="华文中宋"/>
                <a:ea typeface="华文中宋"/>
              </a:rPr>
              <a:t>西师大版  六年级 语文  上册 第一单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0120" y="263700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87fca"/>
                </a:solidFill>
                <a:latin typeface="Times New Roman"/>
              </a:rPr>
              <a:t>《鸟的天堂》课件</a:t>
            </a:r>
            <a:r>
              <a:rPr b="0" lang="en-US" sz="3200" spc="-1" strike="noStrike">
                <a:solidFill>
                  <a:srgbClr val="687fca"/>
                </a:solidFill>
                <a:latin typeface="Times New Roman"/>
              </a:rPr>
              <a:t>PP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uamei"/>
          <p:cNvPicPr/>
          <p:nvPr/>
        </p:nvPicPr>
        <p:blipFill>
          <a:blip r:embed="rId2"/>
          <a:stretch/>
        </p:blipFill>
        <p:spPr>
          <a:xfrm>
            <a:off x="2556000" y="1557360"/>
            <a:ext cx="4284360" cy="3213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/>
          <p:cNvSpPr/>
          <p:nvPr/>
        </p:nvSpPr>
        <p:spPr>
          <a:xfrm flipH="1">
            <a:off x="6084720" y="5445000"/>
            <a:ext cx="503280" cy="35892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58920"/>
              <a:gd name="textAreaBottom" fmla="*/ 33660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929" y="1350"/>
                </a:lnTo>
                <a:lnTo>
                  <a:pt x="1350" y="135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929" y="20250"/>
                </a:lnTo>
                <a:lnTo>
                  <a:pt x="28929" y="135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929" y="2025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79" h="21600">
                <a:moveTo>
                  <a:pt x="8096" y="3756"/>
                </a:moveTo>
                <a:lnTo>
                  <a:pt x="22183" y="10800"/>
                </a:lnTo>
                <a:lnTo>
                  <a:pt x="8096" y="17844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ac164"/>
                </a:solidFill>
                <a:latin typeface="Times New Roman"/>
                <a:ea typeface="华文行楷"/>
              </a:rPr>
              <a:t>看看谁说得好？</a:t>
            </a:r>
            <a:endParaRPr b="0" lang="en-US" sz="6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1.</a:t>
            </a:r>
            <a:r>
              <a:rPr b="0" lang="zh-CN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起初</a:t>
            </a:r>
            <a:r>
              <a:rPr b="0" lang="en-US" sz="4400" spc="-1" strike="noStrike">
                <a:solidFill>
                  <a:srgbClr val="a12143"/>
                </a:solidFill>
                <a:latin typeface="华文中宋"/>
                <a:ea typeface="华文中宋"/>
              </a:rPr>
              <a:t>……</a:t>
            </a:r>
            <a:r>
              <a:rPr b="0" lang="zh-CN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后来</a:t>
            </a:r>
            <a:r>
              <a:rPr b="0" lang="en-US" sz="4400" spc="-1" strike="noStrike">
                <a:solidFill>
                  <a:srgbClr val="a12143"/>
                </a:solidFill>
                <a:latin typeface="华文中宋"/>
                <a:ea typeface="华文中宋"/>
              </a:rPr>
              <a:t>……</a:t>
            </a:r>
            <a:r>
              <a:rPr b="0" lang="en-US" sz="4400" spc="-1" strike="noStrike">
                <a:solidFill>
                  <a:srgbClr val="a12143"/>
                </a:solidFill>
                <a:latin typeface="Times New Roman"/>
                <a:ea typeface="华文中宋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2.</a:t>
            </a:r>
            <a:r>
              <a:rPr b="0" lang="zh-CN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有的</a:t>
            </a:r>
            <a:r>
              <a:rPr b="0" lang="en-US" sz="4400" spc="-1" strike="noStrike">
                <a:solidFill>
                  <a:srgbClr val="a12143"/>
                </a:solidFill>
                <a:latin typeface="华文中宋"/>
                <a:ea typeface="华文中宋"/>
              </a:rPr>
              <a:t>……</a:t>
            </a:r>
            <a:r>
              <a:rPr b="0" lang="zh-CN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有的</a:t>
            </a:r>
            <a:r>
              <a:rPr b="0" lang="en-US" sz="4400" spc="-1" strike="noStrike">
                <a:solidFill>
                  <a:srgbClr val="a12143"/>
                </a:solidFill>
                <a:latin typeface="华文中宋"/>
                <a:ea typeface="华文中宋"/>
              </a:rPr>
              <a:t>……</a:t>
            </a:r>
            <a:r>
              <a:rPr b="0" lang="zh-CN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有的</a:t>
            </a:r>
            <a:r>
              <a:rPr b="0" lang="en-US" sz="4400" spc="-1" strike="noStrike">
                <a:solidFill>
                  <a:srgbClr val="a12143"/>
                </a:solidFill>
                <a:latin typeface="华文中宋"/>
                <a:ea typeface="华文中宋"/>
              </a:rPr>
              <a:t>……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7451640" y="5661000"/>
            <a:ext cx="381240" cy="45720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457200"/>
              <a:gd name="textAreaBottom" fmla="*/ 43344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50" y="24550"/>
                </a:lnTo>
                <a:lnTo>
                  <a:pt x="20250" y="135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350" y="24550"/>
                </a:lnTo>
                <a:lnTo>
                  <a:pt x="20250" y="2455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50"/>
                </a:lnTo>
                <a:close/>
              </a:path>
              <a:path fill="darken" w="21600" h="25900">
                <a:moveTo>
                  <a:pt x="3756" y="9625"/>
                </a:moveTo>
                <a:lnTo>
                  <a:pt x="7283" y="9625"/>
                </a:lnTo>
                <a:lnTo>
                  <a:pt x="7283" y="14989"/>
                </a:lnTo>
                <a:cubicBezTo>
                  <a:pt x="7283" y="15916"/>
                  <a:pt x="8088" y="16651"/>
                  <a:pt x="9129" y="16651"/>
                </a:cubicBezTo>
                <a:lnTo>
                  <a:pt x="10800" y="16651"/>
                </a:lnTo>
                <a:cubicBezTo>
                  <a:pt x="11841" y="16651"/>
                  <a:pt x="12646" y="15916"/>
                  <a:pt x="12646" y="14989"/>
                </a:cubicBezTo>
                <a:lnTo>
                  <a:pt x="12646" y="9625"/>
                </a:lnTo>
                <a:lnTo>
                  <a:pt x="10800" y="9625"/>
                </a:lnTo>
                <a:lnTo>
                  <a:pt x="14326" y="6099"/>
                </a:lnTo>
                <a:lnTo>
                  <a:pt x="18019" y="9625"/>
                </a:lnTo>
                <a:lnTo>
                  <a:pt x="16173" y="9625"/>
                </a:lnTo>
                <a:lnTo>
                  <a:pt x="16173" y="14989"/>
                </a:lnTo>
                <a:cubicBezTo>
                  <a:pt x="16173" y="17771"/>
                  <a:pt x="13583" y="20344"/>
                  <a:pt x="10800" y="20344"/>
                </a:cubicBezTo>
                <a:lnTo>
                  <a:pt x="9129" y="20344"/>
                </a:lnTo>
                <a:cubicBezTo>
                  <a:pt x="6346" y="20344"/>
                  <a:pt x="3756" y="17771"/>
                  <a:pt x="3756" y="14989"/>
                </a:cubicBezTo>
                <a:close/>
              </a:path>
            </a:pathLst>
          </a:cu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鸟的天堂全景"/>
          <p:cNvPicPr/>
          <p:nvPr/>
        </p:nvPicPr>
        <p:blipFill>
          <a:blip r:embed="rId2"/>
          <a:stretch/>
        </p:blipFill>
        <p:spPr>
          <a:xfrm>
            <a:off x="2268360" y="134136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>
            <a:hlinkClick r:id="" action="ppaction://hlinkshowjump?jump=endshow"/>
          </p:cNvPr>
          <p:cNvSpPr/>
          <p:nvPr/>
        </p:nvSpPr>
        <p:spPr>
          <a:xfrm>
            <a:off x="7451640" y="5734080"/>
            <a:ext cx="576360" cy="288720"/>
          </a:xfrm>
          <a:custGeom>
            <a:avLst/>
            <a:gdLst>
              <a:gd name="textAreaLeft" fmla="*/ 18000 w 576360"/>
              <a:gd name="textAreaRight" fmla="*/ 558360 w 576360"/>
              <a:gd name="textAreaTop" fmla="*/ 18000 h 288720"/>
              <a:gd name="textAreaBottom" fmla="*/ 27072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742" y="1350"/>
                </a:lnTo>
                <a:lnTo>
                  <a:pt x="1350" y="135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742" y="20250"/>
                </a:lnTo>
                <a:lnTo>
                  <a:pt x="41742" y="135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42" y="2025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092" h="21600">
                <a:moveTo>
                  <a:pt x="25064" y="10800"/>
                </a:moveTo>
                <a:lnTo>
                  <a:pt x="14502" y="17844"/>
                </a:lnTo>
                <a:lnTo>
                  <a:pt x="14502" y="3756"/>
                </a:lnTo>
                <a:close/>
              </a:path>
              <a:path fill="darken" w="43092" h="21600">
                <a:moveTo>
                  <a:pt x="26919" y="3756"/>
                </a:moveTo>
                <a:lnTo>
                  <a:pt x="26919" y="17844"/>
                </a:lnTo>
                <a:lnTo>
                  <a:pt x="28590" y="17844"/>
                </a:lnTo>
                <a:lnTo>
                  <a:pt x="28590" y="375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6804000" y="5734080"/>
            <a:ext cx="504720" cy="287280"/>
          </a:xfrm>
          <a:custGeom>
            <a:avLst/>
            <a:gdLst>
              <a:gd name="textAreaLeft" fmla="*/ 17640 w 504720"/>
              <a:gd name="textAreaRight" fmla="*/ 487080 w 50472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78" y="1350"/>
                </a:lnTo>
                <a:lnTo>
                  <a:pt x="1350" y="135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78" y="20250"/>
                </a:lnTo>
                <a:lnTo>
                  <a:pt x="36578" y="135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578" y="2025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928" h="21600">
                <a:moveTo>
                  <a:pt x="11920" y="10800"/>
                </a:moveTo>
                <a:lnTo>
                  <a:pt x="26008" y="3756"/>
                </a:lnTo>
                <a:lnTo>
                  <a:pt x="26008" y="17844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bird.mp3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2169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   </a:t>
            </a:r>
            <a:r>
              <a:rPr b="0" lang="zh-CN" sz="40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我们的船渐渐逼近榕树了。我有机会看清它的真面目，真是</a:t>
            </a:r>
            <a:r>
              <a:rPr b="1" lang="zh-CN" sz="4000" spc="-1" strike="noStrike">
                <a:solidFill>
                  <a:srgbClr val="3b1fe3"/>
                </a:solidFill>
                <a:latin typeface="Times New Roman"/>
                <a:ea typeface="楷体_GB2312"/>
              </a:rPr>
              <a:t>一株</a:t>
            </a:r>
            <a:r>
              <a:rPr b="0" lang="zh-CN" sz="40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大树，枝干的数目</a:t>
            </a:r>
            <a:r>
              <a:rPr b="1" lang="zh-CN" sz="4000" spc="-1" strike="noStrike">
                <a:solidFill>
                  <a:srgbClr val="3b1fe3"/>
                </a:solidFill>
                <a:latin typeface="Times New Roman"/>
                <a:ea typeface="楷体_GB2312"/>
              </a:rPr>
              <a:t>不可计数</a:t>
            </a:r>
            <a:r>
              <a:rPr b="0" lang="zh-CN" sz="40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。枝上又生根，有许多根直垂到地上，伸进泥土里。一部分树枝垂到水面，从远处看，就像一株大树卧在水面上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鸟的天堂全景"/>
          <p:cNvPicPr/>
          <p:nvPr/>
        </p:nvPicPr>
        <p:blipFill>
          <a:blip r:embed="rId2"/>
          <a:stretch/>
        </p:blipFill>
        <p:spPr>
          <a:xfrm>
            <a:off x="6084720" y="4221000"/>
            <a:ext cx="2448000" cy="1835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0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50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150f"/>
                </a:solidFill>
                <a:latin typeface="Times New Roman"/>
                <a:ea typeface="楷体_GB2312"/>
              </a:rPr>
              <a:t>榕树正在茂盛的时期，好像把它的全部生命力展示给我们看。那么多的绿叶，一簇堆在另一簇上面，不留一点缝隙。那翠绿的颜色，明亮地照耀着我们的眼睛，似乎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3"/>
              </a:rPr>
              <a:t>每一片绿叶上都有一个新的生命在颤动</a:t>
            </a:r>
            <a:r>
              <a:rPr b="1" lang="zh-CN" sz="3200" spc="-1" strike="noStrike">
                <a:solidFill>
                  <a:srgbClr val="ff150f"/>
                </a:solidFill>
                <a:latin typeface="Times New Roman"/>
                <a:ea typeface="楷体_GB2312"/>
              </a:rPr>
              <a:t>。这美丽的南国的树。</a:t>
            </a:r>
            <a:br>
              <a:rPr sz="3200"/>
            </a:br>
            <a:endParaRPr b="0" lang="en-US" sz="32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68141"/>
                </a:solidFill>
                <a:latin typeface="Times New Roman"/>
                <a:ea typeface="隶书"/>
              </a:rPr>
              <a:t>你读懂了吗？</a:t>
            </a:r>
            <a:endParaRPr b="0" lang="en-US" sz="5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12143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a12143"/>
                </a:solidFill>
                <a:latin typeface="隶书"/>
                <a:ea typeface="隶书"/>
              </a:rPr>
              <a:t>1.</a:t>
            </a:r>
            <a:r>
              <a:rPr b="1" lang="en-US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a12143"/>
                </a:solidFill>
                <a:latin typeface="隶书"/>
                <a:ea typeface="隶书"/>
              </a:rPr>
              <a:t>榕树正在茂盛的时期，好像把它的全部、生命力展示给我们看。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12143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a12143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a12143"/>
                </a:solidFill>
                <a:latin typeface="隶书"/>
                <a:ea typeface="隶书"/>
              </a:rPr>
              <a:t>树叶多，每一片叶子都绿得发亮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3933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06960" y="44323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: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PPT模板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537372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eeppt.com-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为您免费提供大量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下载包括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背景图片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素材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图表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动态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owerPoin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等各类幻灯片模板。让您轻松制作出精美好看的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！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57160" y="333360"/>
            <a:ext cx="1524240" cy="628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927520" y="333360"/>
            <a:ext cx="1428480" cy="590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775040" y="404640"/>
            <a:ext cx="1238400" cy="51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6813720" y="485640"/>
            <a:ext cx="1143000" cy="476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16720" y="623736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3440" y="2382840"/>
            <a:ext cx="250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-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     加最后一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-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     加两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7-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   加三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以上  加四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5CE0-74A1-4C46-86C1-98FECB0FE7B5}" type="slidenum">
              <a:t>16</a:t>
            </a:fld>
          </a:p>
        </p:txBody>
      </p:sp>
    </p:spTree>
  </p:cSld>
  <p:transition spd="slow">
    <p:blinds dir="vert"/>
    <p:sndAc>
      <p:stSnd>
        <p:snd r:embed="rId7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eb414"/>
                </a:solidFill>
                <a:latin typeface="Times New Roman"/>
                <a:ea typeface="隶书"/>
              </a:rPr>
              <a:t>课外延伸题：</a:t>
            </a:r>
            <a:endParaRPr b="0" lang="en-US" sz="6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d3187"/>
                </a:solidFill>
                <a:latin typeface="Times New Roman"/>
                <a:ea typeface="楷体_GB2312"/>
              </a:rPr>
              <a:t>         </a:t>
            </a:r>
            <a:r>
              <a:rPr b="0" lang="en-US" sz="4000" spc="-1" strike="noStrike">
                <a:solidFill>
                  <a:srgbClr val="1d3187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1d3187"/>
                </a:solidFill>
                <a:latin typeface="Times New Roman"/>
                <a:ea typeface="楷体_GB2312"/>
              </a:rPr>
              <a:t>鸟的天堂”已成为一处游览胜地，请你根据课文内容，并收集一些有关材料，为导游写一篇解说词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7"/>
          <p:cNvSpPr txBox="1"/>
          <p:nvPr/>
        </p:nvSpPr>
        <p:spPr>
          <a:xfrm>
            <a:off x="2916360" y="2492280"/>
            <a:ext cx="367164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b0ae6a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32bb9c8b0b4147c5fd1f10d3"/>
          <p:cNvPicPr/>
          <p:nvPr/>
        </p:nvPicPr>
        <p:blipFill>
          <a:blip r:embed="rId2"/>
          <a:stretch/>
        </p:blipFill>
        <p:spPr>
          <a:xfrm>
            <a:off x="684360" y="836640"/>
            <a:ext cx="1197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Line 9"/>
          <p:cNvSpPr/>
          <p:nvPr/>
        </p:nvSpPr>
        <p:spPr>
          <a:xfrm>
            <a:off x="539640" y="2276640"/>
            <a:ext cx="7848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79640" y="10526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巴金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755640" y="2492280"/>
            <a:ext cx="7704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巴金，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00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原名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尧棠，字芾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è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第四声，取“蔽芾甘棠”）甘，四川成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人，祖籍浙江嘉兴，汉族。代表作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流三部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爱情三部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散文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想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现代文学家，翻译家，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版家，“五四”新文化运动以来最有影响的作家之一，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现代文坛的巨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611280" y="2349360"/>
            <a:ext cx="79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283a"/>
                </a:solidFill>
                <a:latin typeface="Times New Roman"/>
              </a:rPr>
              <a:t>探究：</a:t>
            </a:r>
            <a:endParaRPr b="0" lang="en-US" sz="66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13096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为什么说那“鸟的天堂”的确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是鸟的天堂啊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225000" y="5013360"/>
            <a:ext cx="42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模板网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WWW.1PPT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mb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3"/>
          <p:cNvSpPr/>
          <p:nvPr/>
        </p:nvSpPr>
        <p:spPr>
          <a:xfrm>
            <a:off x="3132000" y="2330280"/>
            <a:ext cx="6238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一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二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三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四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五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六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七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八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九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9"/>
              </a:rPr>
              <a:t>/yuwen/167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2" descr="zhaogui"/>
          <p:cNvPicPr/>
          <p:nvPr/>
        </p:nvPicPr>
        <p:blipFill>
          <a:blip r:embed="rId20"/>
          <a:stretch/>
        </p:blipFill>
        <p:spPr>
          <a:xfrm>
            <a:off x="2050920" y="1413000"/>
            <a:ext cx="5505480" cy="3633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8920" y="3933360"/>
            <a:ext cx="86043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283a"/>
                </a:solidFill>
                <a:latin typeface="隶书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鸟的天堂，位于广东省新会市南部天马河上的一座小岛上。榕树的树冠大得出奇，浓阴覆盖着天马河河心岛上约</a:t>
            </a:r>
            <a:r>
              <a:rPr b="1" lang="en-US" sz="2400" spc="-1" strike="noStrike">
                <a:solidFill>
                  <a:srgbClr val="008000"/>
                </a:solidFill>
                <a:latin typeface="隶书"/>
                <a:ea typeface="隶书"/>
              </a:rPr>
              <a:t>20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多亩土地。大树上栖息着成千上万只各种各样的鸟，其中最引人注目的是白鹤和灰麻鹤。</a:t>
            </a:r>
            <a:r>
              <a:rPr b="1" lang="en-US" sz="2400" spc="-1" strike="noStrike">
                <a:solidFill>
                  <a:srgbClr val="008000"/>
                </a:solidFill>
                <a:latin typeface="隶书"/>
                <a:ea typeface="隶书"/>
              </a:rPr>
              <a:t>1933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年，巴金到新会访友，路过此地，写下了脍炙人口的</a:t>
            </a:r>
            <a:r>
              <a:rPr b="1" lang="en-US" sz="2400" spc="-1" strike="noStrike">
                <a:solidFill>
                  <a:srgbClr val="008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鸟的天堂</a:t>
            </a:r>
            <a:r>
              <a:rPr b="1" lang="en-US" sz="2400" spc="-1" strike="noStrike">
                <a:solidFill>
                  <a:srgbClr val="008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，更使鸟的天堂美名传扬四海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7" descr="zhaogui"/>
          <p:cNvPicPr/>
          <p:nvPr/>
        </p:nvPicPr>
        <p:blipFill>
          <a:blip r:embed="rId2"/>
          <a:stretch/>
        </p:blipFill>
        <p:spPr>
          <a:xfrm>
            <a:off x="2268360" y="1052640"/>
            <a:ext cx="4753080" cy="267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6" descr="rendou"/>
          <p:cNvPicPr/>
          <p:nvPr/>
        </p:nvPicPr>
        <p:blipFill>
          <a:blip r:embed="rId2"/>
          <a:stretch/>
        </p:blipFill>
        <p:spPr>
          <a:xfrm>
            <a:off x="2411280" y="1700280"/>
            <a:ext cx="4491000" cy="29955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28"/>
          <p:cNvSpPr/>
          <p:nvPr/>
        </p:nvSpPr>
        <p:spPr>
          <a:xfrm>
            <a:off x="2484360" y="515772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前来观鸟的人群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百鸟出巢"/>
          <p:cNvPicPr/>
          <p:nvPr/>
        </p:nvPicPr>
        <p:blipFill>
          <a:blip r:embed="rId2"/>
          <a:stretch/>
        </p:blipFill>
        <p:spPr>
          <a:xfrm>
            <a:off x="1979640" y="184464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2819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309f5"/>
                </a:solidFill>
                <a:latin typeface="Times New Roman"/>
                <a:ea typeface="华文彩云"/>
              </a:rPr>
              <a:t>百鸟出巢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89" name="njs.mp3" descr=""/>
          <p:cNvPicPr/>
          <p:nvPr/>
        </p:nvPicPr>
        <p:blipFill>
          <a:blip r:embed="rId3"/>
          <a:stretch/>
        </p:blipFill>
        <p:spPr>
          <a:xfrm>
            <a:off x="752472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993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2449"/>
                </a:solidFill>
                <a:latin typeface="Times New Roman"/>
                <a:ea typeface="华文中宋"/>
              </a:rPr>
              <a:t>你会读了吗？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隶书"/>
                <a:hlinkClick r:id="rId2"/>
              </a:rPr>
              <a:t>起初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周围是静寂的。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隶书"/>
                <a:hlinkClick r:id="rId3"/>
              </a:rPr>
              <a:t>后来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忽然起了一声鸟叫。我们把手一拍，便看见一只大鸟飞了起来。接着又看见第二只，第三只。我们继续拍掌，树上就变得热闹了，到处都是鸟声，到处都是鸟影。大的，小的，花的，黑的，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隶书"/>
                <a:hlinkClick r:id="rId4"/>
              </a:rPr>
              <a:t>有的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站在树枝上，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隶书"/>
                <a:hlinkClick r:id="rId5"/>
              </a:rPr>
              <a:t>有的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飞起来，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隶书"/>
                <a:hlinkClick r:id="rId6"/>
              </a:rPr>
              <a:t>有的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在扑翅膀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7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我注意地看着，眼睛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2"/>
              </a:rPr>
              <a:t>应接不睱</a:t>
            </a:r>
            <a:r>
              <a:rPr b="1" lang="zh-CN" sz="36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，看清楚了这只，又错过了那只，看见了那只，另一只又飞起来了，一只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3"/>
              </a:rPr>
              <a:t>画眉鸟</a:t>
            </a:r>
            <a:r>
              <a:rPr b="1" lang="zh-CN" sz="36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飞了出来，被我们的掌声一吓，又飞进了叶丛，站在一根小枝上兴奋地叫着，那歌声真好听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Picture 5" descr="MCj0432668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5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4:49:15Z</dcterms:created>
  <dc:creator/>
  <dc:description/>
  <cp:keywords>幻灯片之家 http:/www.eeppt.com</cp:keywords>
  <dc:language>en-US</dc:language>
  <cp:lastModifiedBy/>
  <dcterms:modified xsi:type="dcterms:W3CDTF">2015-07-10T13:28:37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