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GY.WAV" ContentType="audio/x-wav"/>
  <Override PartName="/ppt/media/image6.jpeg" ContentType="image/jpeg"/>
  <Override PartName="/ppt/media/image11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C8B0-38A5-40A9-A131-94B235A9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0FA8-14B9-4484-B382-FEB73131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2A3D-81EC-4F7A-87CB-9C06DE39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B020-1685-4C37-A6B0-C0120370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FCA8-EA12-4CD9-A45E-900EE9F0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D520-F131-4829-8350-C8FC1699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8F6E-41F1-4B89-AB76-20D6C6C9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A006-9105-4DB8-B064-9777A0C8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32AC-6551-4797-9A70-38E74567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549E-F5DC-4AAB-A31F-9EFA01D8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97DD-1EEA-4E8D-9163-A9D3C376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E996-18F0-431E-A633-EA3F5B06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D0FF-DDBA-4A71-BB5D-C60A5F60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9F22-BB65-43BB-8F00-B2C2BD01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B565-1E06-4204-A34F-1961BEEF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3262-D72B-4B1F-B89D-5C2707DE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6010-DD48-4330-906F-982BA2C1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AC6B-F49A-4895-A92A-1B2D6034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1F58-41AF-440D-8562-0544B2C7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762D-6791-47D5-BD15-FE4C5BC2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5DFC-52BB-43A6-8BF1-04B9768C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6EDD-F49E-40A1-81DE-5EF98D41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85B4-7E34-47EA-B026-C8CB924A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1028-3829-4225-A524-A50A3332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8879-652B-45C1-95E3-1906F4722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BB6B-0CC7-479C-94BA-531159E5E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http://xxyw.stedu.net/kjzy/kejian/niao-tiantang.swf" TargetMode="External"/><Relationship Id="rId17" Type="http://schemas.openxmlformats.org/officeDocument/2006/relationships/image" Target="../media/image1.jpe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GY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GY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"/>
          <p:cNvSpPr/>
          <p:nvPr/>
        </p:nvSpPr>
        <p:spPr>
          <a:xfrm>
            <a:off x="304920" y="54936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7">
            <a:hlinkClick r:id="rId16"/>
          </p:cNvPr>
          <p:cNvPicPr/>
          <p:nvPr/>
        </p:nvPicPr>
        <p:blipFill>
          <a:blip r:embed="rId17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04960" y="836640"/>
            <a:ext cx="215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鸟的天堂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39640" y="404640"/>
            <a:ext cx="82314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    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榕树正在茂盛的时期，好像把它的全部生命力展示给我们看。那么多的绿叶，一簇堆在另一簇上面，不留一点缝隙。那翠绿的颜色，明亮地照耀着我们的眼睛，似乎每一片新的生命在颤动。这美丽的南国的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826920" y="260280"/>
            <a:ext cx="77281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    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榕树正在茂盛的时期，好像把它的全部生命力展示给我们看。那么多的绿叶，一簇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堆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在另一簇上面，不留一点缝隙。</a:t>
            </a:r>
            <a:r>
              <a:rPr b="1" lang="zh-CN" sz="4000" spc="-1" strike="noStrike" u="sng">
                <a:solidFill>
                  <a:srgbClr val="006600"/>
                </a:solidFill>
                <a:uFillTx/>
                <a:latin typeface="华文楷体"/>
                <a:ea typeface="华文楷体"/>
              </a:rPr>
              <a:t>那翠绿的颜色，明亮地照耀着我们的眼睛，似乎每一片新的生命在颤动。</a:t>
            </a:r>
            <a:r>
              <a:rPr b="0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这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美丽的南国的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228600" y="228600"/>
            <a:ext cx="89154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28600" y="22860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0"/>
            <a:ext cx="914400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   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起初周围是静寂的。后来忽然起了一声鸟叫。我们把手一拍，便看见一只大鸟飞了起来。接着又看见第二只，第三只。我们继续拍掌，树上就变得热闹了，到处都是鸟声，到处都是鸟影。大的，小的，花的，黑的，有的站在树枝上叫，有的飞起来，有的在扑翅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注意地看着，眼睛应接不暇，看清楚了这只，又错过了那只，看见了那只，另一只又飞起来了。一只画眉鸟飞了出来，被我们的掌声一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又飞进了叶丛。站在一根小枝上兴奋地叫着，那歌声真好听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026"/>
          <p:cNvSpPr/>
          <p:nvPr/>
        </p:nvSpPr>
        <p:spPr>
          <a:xfrm>
            <a:off x="228600" y="228600"/>
            <a:ext cx="89154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27"/>
          <p:cNvSpPr/>
          <p:nvPr/>
        </p:nvSpPr>
        <p:spPr>
          <a:xfrm>
            <a:off x="228600" y="22860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28"/>
          <p:cNvSpPr/>
          <p:nvPr/>
        </p:nvSpPr>
        <p:spPr>
          <a:xfrm>
            <a:off x="0" y="0"/>
            <a:ext cx="9144000" cy="202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   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起初周围是静寂的。后来忽然起了一声鸟叫。我们把手一拍，便看见一只大鸟飞了起来。接着又看见第二只，第三只。我们继续拍掌，树上就变得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热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了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到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都是鸟声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到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都是鸟影。大的，小的，花的，黑的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站在树枝上叫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飞起来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在扑翅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注意地看着，眼睛应接不暇，看清楚了这只，又错过了那只，看见了那只，另一只又飞起来了。一只画眉鸟飞了出来，被我们的掌声一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又飞进了叶丛。站在一根小枝上兴奋地叫着，那歌声真好听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a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566100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4" descr="a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28600" y="228600"/>
            <a:ext cx="89154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28600" y="22860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0"/>
            <a:ext cx="91440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332000" y="1628640"/>
            <a:ext cx="669924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昨天是我的眼睛骗了我，那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鸟的天堂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的确是鸟的天堂啊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762120" y="609480"/>
            <a:ext cx="754380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鸟的天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田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Times New Roman"/>
              </a:rPr>
              <a:t>　  </a:t>
            </a: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三百年来榕一章，浓荫十亩鸟千双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　 并肩只许木棉树，立脚长依天马江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　 新枝还比旧枝壮，白鹤能眠灰鹤床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　 历难经灾从不犯，人间毕竟有天堂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　</a:t>
            </a:r>
            <a:r>
              <a:rPr b="1" lang="zh-CN" sz="2400" spc="-1" strike="noStrike">
                <a:solidFill>
                  <a:srgbClr val="ff6633"/>
                </a:solidFill>
                <a:latin typeface="Times New Roman"/>
                <a:ea typeface="楷体_GB2312"/>
              </a:rPr>
              <a:t>这首诗，是著名剧作家田汉同志</a:t>
            </a:r>
            <a:r>
              <a:rPr b="1" lang="en-US" sz="2400" spc="-1" strike="noStrike">
                <a:solidFill>
                  <a:srgbClr val="ff6633"/>
                </a:solidFill>
                <a:latin typeface="Times New Roman"/>
                <a:ea typeface="楷体_GB2312"/>
              </a:rPr>
              <a:t>1962</a:t>
            </a:r>
            <a:r>
              <a:rPr b="1" lang="zh-CN" sz="2400" spc="-1" strike="noStrike">
                <a:solidFill>
                  <a:srgbClr val="ff6633"/>
                </a:solidFill>
                <a:latin typeface="Times New Roman"/>
                <a:ea typeface="楷体_GB2312"/>
              </a:rPr>
              <a:t>年到新会，游览小鸟天堂时即兴而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GY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20020702d"/>
          <p:cNvPicPr/>
          <p:nvPr/>
        </p:nvPicPr>
        <p:blipFill>
          <a:blip r:embed="rId2"/>
          <a:stretch/>
        </p:blipFill>
        <p:spPr>
          <a:xfrm>
            <a:off x="228600" y="380880"/>
            <a:ext cx="2743200" cy="29718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3352680" y="83808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505320" y="457200"/>
            <a:ext cx="510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巴金（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1904~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）原名李尧棠、字芾甘。四川成都人。 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1923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年从封建家庭出走，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1927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年赴法国留学，写成了处女作出了长篇小说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灭亡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，发表时始用巴金的笔名。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1928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年底回到上海，从事创造和翻译。从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1929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年到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1937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年中，创作了主要代表作出长篇小说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激流三部曲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中的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家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，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755640" y="3429000"/>
            <a:ext cx="807732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海的梦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春天里的秋天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砂丁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爱情三部曲（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雾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雨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电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）等中长篇小说。出版了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复仇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等短篇小说集和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海行集记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等散文集。以其独特的风格和丰硕的创作令人瞩目，被鲁迅称为“一个有热情的有进步思想的作家，在屈指可数的好作家之列的作家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838080" y="5410080"/>
            <a:ext cx="8077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1933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年，巴金到广东新会访友时，途经新会天马河，看到一株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500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年树龄的大榕树，于是写下了脍炙人口的</a:t>
            </a:r>
            <a:r>
              <a:rPr b="1" lang="en-US" sz="16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鸟的天堂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（一说是</a:t>
            </a: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666699"/>
                </a:solidFill>
                <a:latin typeface="Times New Roman"/>
              </a:rPr>
              <a:t>小鸟的天堂</a:t>
            </a: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666699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G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900000" y="2565360"/>
            <a:ext cx="72392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巴金爷爷几次经过鸟的天堂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经过鸟的天堂后分别在课文中给我们描写了什么样的景象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我会猜"/>
          <p:cNvPicPr/>
          <p:nvPr/>
        </p:nvPicPr>
        <p:blipFill>
          <a:blip r:embed="rId2"/>
          <a:stretch/>
        </p:blipFill>
        <p:spPr>
          <a:xfrm>
            <a:off x="998640" y="560520"/>
            <a:ext cx="1295280" cy="1201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8"/>
          <p:cNvSpPr txBox="1"/>
          <p:nvPr/>
        </p:nvSpPr>
        <p:spPr>
          <a:xfrm>
            <a:off x="2433600" y="109224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隶书"/>
              </a:rPr>
              <a:t>读书思考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714240" y="1811160"/>
            <a:ext cx="6782040" cy="74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28600" y="228600"/>
            <a:ext cx="89154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900000" y="620640"/>
            <a:ext cx="772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华文楷体"/>
                <a:ea typeface="华文楷体"/>
              </a:rPr>
              <a:t>       </a:t>
            </a:r>
            <a:r>
              <a:rPr b="1" lang="zh-CN" sz="4400" spc="-1" strike="noStrike">
                <a:solidFill>
                  <a:srgbClr val="006600"/>
                </a:solidFill>
                <a:latin typeface="华文楷体"/>
                <a:ea typeface="华文楷体"/>
              </a:rPr>
              <a:t>我们的船渐渐逼近榕树了。我有机会看清它的真面目，真是一株大树，枝干的数目不可计数。枝上又生根，有许多根直垂到地上，伸进泥土里。一部分树枝垂到水面，从远处看，就像一株大树卧在水面上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28600" y="228600"/>
            <a:ext cx="89154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755640" y="98100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       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我们的船渐渐逼近榕树了。我有机会看清它的真面目，真是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一株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大树，枝干的数目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不可计数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。枝上又生根，有许多根直垂到地上，伸进泥土里。一部分树枝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垂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到水面，从远处看，就像一株大树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卧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在水面上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柳树"/>
          <p:cNvPicPr/>
          <p:nvPr/>
        </p:nvPicPr>
        <p:blipFill>
          <a:blip r:embed="rId2"/>
          <a:stretch/>
        </p:blipFill>
        <p:spPr>
          <a:xfrm>
            <a:off x="533520" y="228600"/>
            <a:ext cx="3606840" cy="2935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松树"/>
          <p:cNvPicPr/>
          <p:nvPr/>
        </p:nvPicPr>
        <p:blipFill>
          <a:blip r:embed="rId3"/>
          <a:stretch/>
        </p:blipFill>
        <p:spPr>
          <a:xfrm>
            <a:off x="5334120" y="228600"/>
            <a:ext cx="3429000" cy="297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独木成林"/>
          <p:cNvPicPr/>
          <p:nvPr/>
        </p:nvPicPr>
        <p:blipFill>
          <a:blip r:embed="rId4"/>
          <a:stretch/>
        </p:blipFill>
        <p:spPr>
          <a:xfrm>
            <a:off x="1752480" y="3521160"/>
            <a:ext cx="502920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鸟的天堂1111"/>
          <p:cNvPicPr/>
          <p:nvPr/>
        </p:nvPicPr>
        <p:blipFill>
          <a:blip r:embed="rId2"/>
          <a:stretch/>
        </p:blipFill>
        <p:spPr>
          <a:xfrm>
            <a:off x="1600200" y="0"/>
            <a:ext cx="585144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4" descr="a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9T05:04:30Z</dcterms:created>
  <dc:creator/>
  <dc:description/>
  <cp:keywords>幻灯片之家 http:/www.eeppt.com</cp:keywords>
  <dc:language>en-US</dc:language>
  <cp:lastModifiedBy/>
  <dcterms:modified xsi:type="dcterms:W3CDTF">2015-07-04T10:35:59Z</dcterms:modified>
  <cp:revision>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