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DA8-E5E5-4F4A-AFBE-655AB063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2D1-E0A1-4D04-BF48-59A5F47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68AC0-A469-4351-8416-9DBB525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996A6-7E04-4CDC-A45D-639A028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2C90E-D806-4921-85E4-44B8380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7FFCA-33D4-434C-8714-231F3AE5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7996-DF6B-44F0-9567-FDECCCC4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2AD6F-89CF-4EC5-99D1-3A97DE2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ECCE1-A848-4A7F-8D96-C38CADA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95751-70A8-4E28-9E73-8ECC9842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DBA66-1EED-4CEB-B667-DCD1B8E7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E6653-6659-4184-9A86-5978DFB4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685-9085-4B56-8BCA-F604FA03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3C6A-C2B9-451D-B8BA-767ECB7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4FA2A-4ABB-4B0A-9EFC-CDF42C3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C6975-4898-497D-A36F-E93B340F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FE439-881A-4CE2-89D5-6215C553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C429B-4CC0-47AC-951F-D30656A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1B141-E83C-4593-90E1-D99FF3E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1668E-2AB8-47C2-86C2-E2BA015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1DCEF-06AE-4B9A-A572-53DD316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8F1D8-6A76-44DB-ACEC-D23912C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AA7A8-6728-4037-BA46-6F061C59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5C7-802F-44D6-BF97-6665A135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E394E-9DBE-48E5-A429-BA72458D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7F6AD-7078-4F14-881A-C0F79EFE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5E2E1-713C-4971-98FC-17BC59AA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F4AF4-463F-429D-BD67-15A331A9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218FC-5D3A-4D65-A376-1BE47B4C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4C868-9E1D-4FE3-804A-A2F01A24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D403C-2FE9-47E3-9850-F32DFC9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0B294-DF08-4761-BFAE-05CB4FE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AC764-A0AA-48D4-8263-DB0A5F4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CDD10-B5B6-44D5-9813-D88BE95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4731-045A-4DD7-B109-6128766E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A131E-A86F-48D8-A03B-305B08EB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7A669-B46A-4697-97AF-EFF082C1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A9963-3BDF-49C5-BDFE-D79B6AD7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BD42F-DCA3-4461-A552-0880E572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9C20F-DC6F-4A8C-B372-18FBA0FF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F90C7-F9B4-4A83-A84F-487F0476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322C9-2C3F-4303-A438-588D8040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31C48-9E19-4171-BE7A-E909CB62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D3E14-42D4-41CA-AE98-8A617025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6274-BF33-412E-A0FA-40C3815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9E33-138A-45B6-BAC3-C3A9823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D0464-6BD2-4E3E-AEA9-1924E46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2997-109F-4704-AE81-9A982CD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E10A2-80AB-409C-947A-17798D1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B51B9-E6C0-4095-BCDA-CDB75F19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B79DC-C242-4FAB-B6BE-36CFDC3B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CCA54-54E0-4A44-97A2-49C587A8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B596B-2CA2-42EC-AC0E-5EAFBDA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C658F-1A9A-4EF1-8C63-67CDC4D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2E47C-21FA-4899-B555-EDC4869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B7F6D-054F-434A-B796-D18272AD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F6C1-F2BE-42DF-94E7-8116E23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9F2EC-B4A3-444C-A67E-AD6701F4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D0437-CA64-454B-9BDC-3D256A5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EAF65-DC36-41F3-AD85-BF69EA1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231D2-9506-45E6-AAE1-00EE847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34304-11B8-44B3-BFDA-9B928C5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BC636-94A6-4CAE-B594-5FBB2C51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267BE-74D8-4359-A23E-2A4BD639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6B7A-6866-4EA7-9459-B2A2BBB5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0C2-84AB-4FBA-B93D-05D587CD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24A-900B-4506-A594-2B1A8AC2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C44B-A375-48BC-8941-8CB9D41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673-AEF2-4D23-BF47-E2281174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9FDA-5C06-4670-AB36-E8466C5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44EF-A173-45E3-A07E-BE03A5E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15B9-38FC-46EC-B37F-1AC5FD7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848-BD7D-4A18-A131-75BCA453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144-CA40-440E-8220-630E79A5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BD60-C2A1-432D-A06C-BD3CE558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7272-0FF1-4C7B-96DC-4FE33F9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300D-405C-4F77-A4A4-6C1CB03C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155B-EA3D-4BF4-B69D-0C98B201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C835-70CA-4432-BD8E-19340A4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D96-4400-491D-8C5C-5CFCABE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FF15-924D-4A5C-8C73-923131A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622F-CA29-4F2D-8831-C53490B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8B04-E2E7-4BA6-A67B-D3DF093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D26C-4531-48A9-8CFF-A97CB2E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B724-61E3-4F0E-B06A-B9B3C805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E083-0699-4F59-BC06-E9CE9700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A184-806B-4CDA-9892-15A6018D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ECE9-A9A7-4F5D-8548-E68E8CE0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29FF-4231-4003-848A-8EC7F5E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D3F5-A6D3-4FDC-8E62-20FF48D9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1C9-630D-4C60-A1AB-0CC2223F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40EC-E419-4212-977F-3DE677F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F0E2-366D-4650-8A7D-6D6150E2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8F47-DFFB-4F56-B053-192A3AC0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647A-23A7-4251-9F38-EF0D9B5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799C-5147-44B8-8322-BC15A4E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6C46-8F11-40E8-9095-62D2507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0E0F-3BA8-41B5-AC10-845E5C60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651A-1802-4AE4-AD05-4BB8C8CB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208A-716B-40F5-B053-43DCB32C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5C43-CE47-4C0B-BE93-C9BC7D9A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C29-3294-47E2-BB15-FEB288C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4D3D-EF96-448F-B7D6-158A6AAF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61FB-0633-4D1F-9CBD-A5ACF3EA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18A6-958B-4030-BB70-AEDE0A2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1E20-85D3-48F0-AFC7-11E9215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EC741-A9A9-43DE-8656-90CCDBCB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77BE-6679-4FDB-A917-B0E477F4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7D79A-B16E-4528-A6E8-7816B41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E962-6DC8-4EDA-A9DE-15A50A62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464E-7AEF-471F-8056-139FE159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55CB-715A-46A0-90CB-73169A6D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AAE-91EF-4053-B046-A6DAF9DB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EA6CB-923A-42BD-AE18-B04B417B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169EE-B168-479C-A647-E81C5E6B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E9F79-F9C8-4553-B093-754835F6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09C6-2256-4F9E-A0D5-95441FF3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7265-C7BA-4CA5-9FB7-D6A1167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2A32-1AEC-4DE4-826D-CCF46999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64E0A-3F5C-461E-9FED-7DFCDDB1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FB45-4155-4B66-B724-0DE5248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3EBE-647E-4B4A-9D33-7D331A25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39EA-9A75-481A-8784-182980D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C0E-20A2-49DA-AFBE-469753B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907C-91E7-4390-9006-6797D544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841E-1EC5-4030-91FC-41049B9C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5AC6-F294-4B6F-87A6-577073E8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FDAA-7C7C-43F4-9FFE-F81BD287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F0AE5-706C-48FB-A538-499A1AC5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F620-F0D2-4C70-816C-10D4F28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2E8EA-FB30-4B43-B476-2FE0ECA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AEE4C-2FB3-4AC6-ACEC-61EDEFE6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26C7-9A5A-4072-B41C-6AD2B6A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69DB7-BCFA-4B86-8A44-4B4956E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F7B-9B6C-4EBA-8BB7-21BA733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2591-8446-4DCE-B6A5-E694B1B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C00C9-F7F0-4AB2-8701-B8FF19B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45287-15AE-4EEB-A6E3-E472EEE2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83DC-6E4B-454B-9AAD-5926BF08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4FF4-4B57-4D27-90D3-ED67E403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8481-B891-44AA-9783-8BAF001C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D9FC8-FC06-4E56-8C45-9D78AD7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FF80-49CB-4AD5-81F6-A1699B1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7F63-E045-4F3B-9D9B-11C3B3F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984D1-750B-41DC-8A36-52291ED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1C1-186E-4878-B98D-0AB144F4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1B075-CDE6-485C-96C0-261CF78F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9749-2015-4CA6-B1A3-8C13B36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8B7B-A066-4CEF-B952-6E1D1C5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6C77C-9FD6-4AE0-A4A0-B84DE72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20D9-5EF3-4574-8C78-8302D96A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F8BF9-485F-43B3-8037-4AA53CEC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2C68-0F4B-4BF9-B452-F381596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93F2A-F1F5-48A1-BC79-93CA8A4E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BB6D-C2FC-446B-9C41-73FC5C7A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7D302-3F06-478D-9126-8E917878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6E8F-D071-4D30-8F02-C3CA8FBB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092E-66D7-46C1-9B66-4E9C8ACCEA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630-754A-47DF-85D2-ED07F9F61D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604B-FDE0-412F-872A-A42127F48B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84EF-2D72-4679-B719-2718F0FA4C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AE2-15DA-42CA-89EF-902DC5BC94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4972-F779-48E9-A17F-99FB7F827A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D2F-8580-48C8-98BE-C87FDB56F2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E7E2-E21E-42ED-9010-302677DFB3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752-7362-4EC3-B438-454A009D4D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C638-A9E2-4910-8CFF-A76870ACFE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556-C551-4CFF-8A21-1C22FD55C9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B63D-32F1-4F86-A580-89BB2D7E03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zpanxin.com.cn/class/31/chengyu/64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cshow.com/olddata/wm/wm-ly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10"/>
          <p:cNvGrpSpPr/>
          <p:nvPr/>
        </p:nvGrpSpPr>
        <p:grpSpPr>
          <a:xfrm>
            <a:off x="0" y="-47520"/>
            <a:ext cx="9144000" cy="6905520"/>
            <a:chOff x="0" y="-47520"/>
            <a:chExt cx="9144000" cy="6905520"/>
          </a:xfrm>
        </p:grpSpPr>
        <p:pic>
          <p:nvPicPr>
            <p:cNvPr id="534" name="Picture 5" descr="nanyuanbeizh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-47520"/>
              <a:ext cx="91440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9"/>
            <p:cNvSpPr/>
            <p:nvPr/>
          </p:nvSpPr>
          <p:spPr>
            <a:xfrm>
              <a:off x="2950920" y="405000"/>
              <a:ext cx="32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南辕北辙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PPT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468360" y="907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　  季梁不解地问：“你去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国应该往南走，怎么反而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北奔驰呢？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871720" y="4149720"/>
            <a:ext cx="41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朋友说：“不怕，我的马好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547640" y="3284640"/>
            <a:ext cx="576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1"/>
          <p:cNvSpPr/>
          <p:nvPr/>
        </p:nvSpPr>
        <p:spPr>
          <a:xfrm>
            <a:off x="250920" y="102060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季梁告诉他：“马虽然好，可这不是去楚国的路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1556280" y="3252960"/>
            <a:ext cx="5578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朋友回答：“没关系，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的旅费多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179280" y="763560"/>
            <a:ext cx="882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季梁再次诚恳地说：“旅费再多，向北走，无论如何也到不了楚国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79280" y="3355920"/>
            <a:ext cx="889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朋友却固执己见：“你不用担心，我的车夫驾车技术非常高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780000" y="3141720"/>
            <a:ext cx="576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1705320" y="1341360"/>
            <a:ext cx="5676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车上的朋友不明白，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方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错了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，马好、旅费多、车夫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术高，这几个条件越好，他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要去的楚国就会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越远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Line 7"/>
          <p:cNvSpPr/>
          <p:nvPr/>
        </p:nvSpPr>
        <p:spPr>
          <a:xfrm>
            <a:off x="241128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9"/>
          <p:cNvSpPr/>
          <p:nvPr/>
        </p:nvSpPr>
        <p:spPr>
          <a:xfrm>
            <a:off x="468360" y="328464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1"/>
          <p:cNvGrpSpPr/>
          <p:nvPr/>
        </p:nvGrpSpPr>
        <p:grpSpPr>
          <a:xfrm>
            <a:off x="468360" y="1182600"/>
            <a:ext cx="3889440" cy="3975120"/>
            <a:chOff x="468360" y="1182600"/>
            <a:chExt cx="3889440" cy="3975120"/>
          </a:xfrm>
        </p:grpSpPr>
        <p:grpSp>
          <p:nvGrpSpPr>
            <p:cNvPr id="580" name="Group 13"/>
            <p:cNvGrpSpPr/>
            <p:nvPr/>
          </p:nvGrpSpPr>
          <p:grpSpPr>
            <a:xfrm>
              <a:off x="468360" y="1412640"/>
              <a:ext cx="3889440" cy="3745080"/>
              <a:chOff x="468360" y="1412640"/>
              <a:chExt cx="3889440" cy="3745080"/>
            </a:xfrm>
          </p:grpSpPr>
          <p:sp>
            <p:nvSpPr>
              <p:cNvPr id="581" name="Rectangle 5"/>
              <p:cNvSpPr/>
              <p:nvPr/>
            </p:nvSpPr>
            <p:spPr>
              <a:xfrm>
                <a:off x="468360" y="1412640"/>
                <a:ext cx="3889440" cy="37450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Group 12"/>
              <p:cNvGrpSpPr/>
              <p:nvPr/>
            </p:nvGrpSpPr>
            <p:grpSpPr>
              <a:xfrm>
                <a:off x="468360" y="1412640"/>
                <a:ext cx="3887640" cy="3745080"/>
                <a:chOff x="468360" y="1412640"/>
                <a:chExt cx="3887640" cy="3745080"/>
              </a:xfrm>
            </p:grpSpPr>
            <p:sp>
              <p:nvSpPr>
                <p:cNvPr id="583" name="Line 10"/>
                <p:cNvSpPr/>
                <p:nvPr/>
              </p:nvSpPr>
              <p:spPr>
                <a:xfrm>
                  <a:off x="2411640" y="141264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"/>
                <p:cNvSpPr/>
                <p:nvPr/>
              </p:nvSpPr>
              <p:spPr>
                <a:xfrm>
                  <a:off x="468360" y="32842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5" name="Text Box 4"/>
            <p:cNvSpPr/>
            <p:nvPr/>
          </p:nvSpPr>
          <p:spPr>
            <a:xfrm>
              <a:off x="755640" y="118260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奔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4714920" y="1111320"/>
            <a:ext cx="3889440" cy="4046400"/>
            <a:chOff x="4714920" y="1111320"/>
            <a:chExt cx="3889440" cy="4046400"/>
          </a:xfrm>
        </p:grpSpPr>
        <p:grpSp>
          <p:nvGrpSpPr>
            <p:cNvPr id="587" name="Group 14"/>
            <p:cNvGrpSpPr/>
            <p:nvPr/>
          </p:nvGrpSpPr>
          <p:grpSpPr>
            <a:xfrm>
              <a:off x="4714920" y="1413000"/>
              <a:ext cx="3889440" cy="3744720"/>
              <a:chOff x="4714920" y="1413000"/>
              <a:chExt cx="3889440" cy="3744720"/>
            </a:xfrm>
          </p:grpSpPr>
          <p:sp>
            <p:nvSpPr>
              <p:cNvPr id="588" name="Rectangle 15"/>
              <p:cNvSpPr/>
              <p:nvPr/>
            </p:nvSpPr>
            <p:spPr>
              <a:xfrm>
                <a:off x="4714920" y="1413000"/>
                <a:ext cx="3889440" cy="374472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Group 16"/>
              <p:cNvGrpSpPr/>
              <p:nvPr/>
            </p:nvGrpSpPr>
            <p:grpSpPr>
              <a:xfrm>
                <a:off x="4714920" y="1413000"/>
                <a:ext cx="3887640" cy="3744720"/>
                <a:chOff x="4714920" y="1413000"/>
                <a:chExt cx="3887640" cy="3744720"/>
              </a:xfrm>
            </p:grpSpPr>
            <p:sp>
              <p:nvSpPr>
                <p:cNvPr id="590" name="Line 17"/>
                <p:cNvSpPr/>
                <p:nvPr/>
              </p:nvSpPr>
              <p:spPr>
                <a:xfrm>
                  <a:off x="6658200" y="1413000"/>
                  <a:ext cx="0" cy="37447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8"/>
                <p:cNvSpPr/>
                <p:nvPr/>
              </p:nvSpPr>
              <p:spPr>
                <a:xfrm>
                  <a:off x="4714920" y="32842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2" name="Text Box 20"/>
            <p:cNvSpPr/>
            <p:nvPr/>
          </p:nvSpPr>
          <p:spPr>
            <a:xfrm>
              <a:off x="5500800" y="1111320"/>
              <a:ext cx="208584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驰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Rectangle 23"/>
          <p:cNvSpPr/>
          <p:nvPr/>
        </p:nvSpPr>
        <p:spPr>
          <a:xfrm>
            <a:off x="3851280" y="5661000"/>
            <a:ext cx="12254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11"/>
          <p:cNvGrpSpPr/>
          <p:nvPr/>
        </p:nvGrpSpPr>
        <p:grpSpPr>
          <a:xfrm>
            <a:off x="755640" y="1052640"/>
            <a:ext cx="3889440" cy="4104720"/>
            <a:chOff x="755640" y="1052640"/>
            <a:chExt cx="3889440" cy="4104720"/>
          </a:xfrm>
        </p:grpSpPr>
        <p:grpSp>
          <p:nvGrpSpPr>
            <p:cNvPr id="595" name="Group 5"/>
            <p:cNvGrpSpPr/>
            <p:nvPr/>
          </p:nvGrpSpPr>
          <p:grpSpPr>
            <a:xfrm>
              <a:off x="755640" y="1412640"/>
              <a:ext cx="3889440" cy="3744720"/>
              <a:chOff x="755640" y="1412640"/>
              <a:chExt cx="3889440" cy="3744720"/>
            </a:xfrm>
          </p:grpSpPr>
          <p:sp>
            <p:nvSpPr>
              <p:cNvPr id="596" name="Rectangle 6"/>
              <p:cNvSpPr/>
              <p:nvPr/>
            </p:nvSpPr>
            <p:spPr>
              <a:xfrm>
                <a:off x="755640" y="1412640"/>
                <a:ext cx="3889440" cy="374472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Group 7"/>
              <p:cNvGrpSpPr/>
              <p:nvPr/>
            </p:nvGrpSpPr>
            <p:grpSpPr>
              <a:xfrm>
                <a:off x="755640" y="1412640"/>
                <a:ext cx="3887640" cy="3744720"/>
                <a:chOff x="755640" y="1412640"/>
                <a:chExt cx="3887640" cy="3744720"/>
              </a:xfrm>
            </p:grpSpPr>
            <p:sp>
              <p:nvSpPr>
                <p:cNvPr id="598" name="Line 8"/>
                <p:cNvSpPr/>
                <p:nvPr/>
              </p:nvSpPr>
              <p:spPr>
                <a:xfrm>
                  <a:off x="2698920" y="1412640"/>
                  <a:ext cx="0" cy="37447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9"/>
                <p:cNvSpPr/>
                <p:nvPr/>
              </p:nvSpPr>
              <p:spPr>
                <a:xfrm>
                  <a:off x="755640" y="328392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Text Box 10"/>
            <p:cNvSpPr/>
            <p:nvPr/>
          </p:nvSpPr>
          <p:spPr>
            <a:xfrm>
              <a:off x="841320" y="105264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固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9"/>
          <p:cNvGrpSpPr/>
          <p:nvPr/>
        </p:nvGrpSpPr>
        <p:grpSpPr>
          <a:xfrm>
            <a:off x="4859280" y="1125360"/>
            <a:ext cx="3889440" cy="4032360"/>
            <a:chOff x="4859280" y="1125360"/>
            <a:chExt cx="3889440" cy="4032360"/>
          </a:xfrm>
        </p:grpSpPr>
        <p:grpSp>
          <p:nvGrpSpPr>
            <p:cNvPr id="602" name="Group 13"/>
            <p:cNvGrpSpPr/>
            <p:nvPr/>
          </p:nvGrpSpPr>
          <p:grpSpPr>
            <a:xfrm>
              <a:off x="4859280" y="1412640"/>
              <a:ext cx="3889440" cy="3745080"/>
              <a:chOff x="4859280" y="1412640"/>
              <a:chExt cx="3889440" cy="3745080"/>
            </a:xfrm>
          </p:grpSpPr>
          <p:sp>
            <p:nvSpPr>
              <p:cNvPr id="603" name="Rectangle 14"/>
              <p:cNvSpPr/>
              <p:nvPr/>
            </p:nvSpPr>
            <p:spPr>
              <a:xfrm>
                <a:off x="4859280" y="1412640"/>
                <a:ext cx="3889440" cy="37450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Group 15"/>
              <p:cNvGrpSpPr/>
              <p:nvPr/>
            </p:nvGrpSpPr>
            <p:grpSpPr>
              <a:xfrm>
                <a:off x="4859280" y="1412640"/>
                <a:ext cx="3887640" cy="3745080"/>
                <a:chOff x="4859280" y="1412640"/>
                <a:chExt cx="3887640" cy="3745080"/>
              </a:xfrm>
            </p:grpSpPr>
            <p:sp>
              <p:nvSpPr>
                <p:cNvPr id="605" name="Line 16"/>
                <p:cNvSpPr/>
                <p:nvPr/>
              </p:nvSpPr>
              <p:spPr>
                <a:xfrm>
                  <a:off x="6802560" y="141264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7"/>
                <p:cNvSpPr/>
                <p:nvPr/>
              </p:nvSpPr>
              <p:spPr>
                <a:xfrm>
                  <a:off x="4859280" y="32842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Text Box 18"/>
            <p:cNvSpPr/>
            <p:nvPr/>
          </p:nvSpPr>
          <p:spPr>
            <a:xfrm>
              <a:off x="4859280" y="112536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执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Rectangle 20"/>
          <p:cNvSpPr/>
          <p:nvPr/>
        </p:nvSpPr>
        <p:spPr>
          <a:xfrm>
            <a:off x="3851280" y="5661000"/>
            <a:ext cx="12254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8"/>
          <p:cNvGrpSpPr/>
          <p:nvPr/>
        </p:nvGrpSpPr>
        <p:grpSpPr>
          <a:xfrm>
            <a:off x="1260360" y="404640"/>
            <a:ext cx="2232000" cy="2435040"/>
            <a:chOff x="1260360" y="404640"/>
            <a:chExt cx="2232000" cy="2435040"/>
          </a:xfrm>
        </p:grpSpPr>
        <p:grpSp>
          <p:nvGrpSpPr>
            <p:cNvPr id="611" name="Group 5"/>
            <p:cNvGrpSpPr/>
            <p:nvPr/>
          </p:nvGrpSpPr>
          <p:grpSpPr>
            <a:xfrm>
              <a:off x="1260360" y="617040"/>
              <a:ext cx="2232000" cy="2222640"/>
              <a:chOff x="1260360" y="617040"/>
              <a:chExt cx="2232000" cy="2222640"/>
            </a:xfrm>
          </p:grpSpPr>
          <p:sp>
            <p:nvSpPr>
              <p:cNvPr id="612" name="Rectangle 6"/>
              <p:cNvSpPr/>
              <p:nvPr/>
            </p:nvSpPr>
            <p:spPr>
              <a:xfrm>
                <a:off x="1260360" y="617040"/>
                <a:ext cx="2232000" cy="222264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Group 7"/>
              <p:cNvGrpSpPr/>
              <p:nvPr/>
            </p:nvGrpSpPr>
            <p:grpSpPr>
              <a:xfrm>
                <a:off x="1260360" y="617040"/>
                <a:ext cx="2230920" cy="2222640"/>
                <a:chOff x="1260360" y="617040"/>
                <a:chExt cx="2230920" cy="2222640"/>
              </a:xfrm>
            </p:grpSpPr>
            <p:sp>
              <p:nvSpPr>
                <p:cNvPr id="614" name="Line 8"/>
                <p:cNvSpPr/>
                <p:nvPr/>
              </p:nvSpPr>
              <p:spPr>
                <a:xfrm>
                  <a:off x="2375280" y="617040"/>
                  <a:ext cx="0" cy="22226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"/>
                <p:cNvSpPr/>
                <p:nvPr/>
              </p:nvSpPr>
              <p:spPr>
                <a:xfrm>
                  <a:off x="1260360" y="1727640"/>
                  <a:ext cx="223092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Text Box 10"/>
            <p:cNvSpPr/>
            <p:nvPr/>
          </p:nvSpPr>
          <p:spPr>
            <a:xfrm>
              <a:off x="1331640" y="404640"/>
              <a:ext cx="19684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奔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2"/>
          <p:cNvGrpSpPr/>
          <p:nvPr/>
        </p:nvGrpSpPr>
        <p:grpSpPr>
          <a:xfrm>
            <a:off x="4788000" y="620640"/>
            <a:ext cx="2376360" cy="2232000"/>
            <a:chOff x="4788000" y="620640"/>
            <a:chExt cx="2376360" cy="2232000"/>
          </a:xfrm>
        </p:grpSpPr>
        <p:sp>
          <p:nvSpPr>
            <p:cNvPr id="618" name="Rectangle 13"/>
            <p:cNvSpPr/>
            <p:nvPr/>
          </p:nvSpPr>
          <p:spPr>
            <a:xfrm>
              <a:off x="4788000" y="620640"/>
              <a:ext cx="2376360" cy="22320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14"/>
            <p:cNvGrpSpPr/>
            <p:nvPr/>
          </p:nvGrpSpPr>
          <p:grpSpPr>
            <a:xfrm>
              <a:off x="4788000" y="620640"/>
              <a:ext cx="2375280" cy="2232000"/>
              <a:chOff x="4788000" y="620640"/>
              <a:chExt cx="2375280" cy="2232000"/>
            </a:xfrm>
          </p:grpSpPr>
          <p:sp>
            <p:nvSpPr>
              <p:cNvPr id="620" name="Line 15"/>
              <p:cNvSpPr/>
              <p:nvPr/>
            </p:nvSpPr>
            <p:spPr>
              <a:xfrm>
                <a:off x="5975280" y="620640"/>
                <a:ext cx="0" cy="2232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6"/>
              <p:cNvSpPr/>
              <p:nvPr/>
            </p:nvSpPr>
            <p:spPr>
              <a:xfrm>
                <a:off x="4788000" y="1735920"/>
                <a:ext cx="23752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Text Box 17"/>
          <p:cNvSpPr/>
          <p:nvPr/>
        </p:nvSpPr>
        <p:spPr>
          <a:xfrm>
            <a:off x="5242680" y="476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1258920" y="3357720"/>
            <a:ext cx="2232000" cy="2434680"/>
            <a:chOff x="1258920" y="3357720"/>
            <a:chExt cx="2232000" cy="2434680"/>
          </a:xfrm>
        </p:grpSpPr>
        <p:grpSp>
          <p:nvGrpSpPr>
            <p:cNvPr id="624" name="Group 20"/>
            <p:cNvGrpSpPr/>
            <p:nvPr/>
          </p:nvGrpSpPr>
          <p:grpSpPr>
            <a:xfrm>
              <a:off x="1258920" y="3570120"/>
              <a:ext cx="2232000" cy="2222280"/>
              <a:chOff x="1258920" y="3570120"/>
              <a:chExt cx="2232000" cy="2222280"/>
            </a:xfrm>
          </p:grpSpPr>
          <p:sp>
            <p:nvSpPr>
              <p:cNvPr id="625" name="Rectangle 21"/>
              <p:cNvSpPr/>
              <p:nvPr/>
            </p:nvSpPr>
            <p:spPr>
              <a:xfrm>
                <a:off x="1258920" y="3570120"/>
                <a:ext cx="2232000" cy="22222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22"/>
              <p:cNvGrpSpPr/>
              <p:nvPr/>
            </p:nvGrpSpPr>
            <p:grpSpPr>
              <a:xfrm>
                <a:off x="1258920" y="3570120"/>
                <a:ext cx="2230920" cy="2222280"/>
                <a:chOff x="1258920" y="3570120"/>
                <a:chExt cx="2230920" cy="2222280"/>
              </a:xfrm>
            </p:grpSpPr>
            <p:sp>
              <p:nvSpPr>
                <p:cNvPr id="627" name="Line 23"/>
                <p:cNvSpPr/>
                <p:nvPr/>
              </p:nvSpPr>
              <p:spPr>
                <a:xfrm>
                  <a:off x="2373840" y="3570120"/>
                  <a:ext cx="0" cy="2222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4"/>
                <p:cNvSpPr/>
                <p:nvPr/>
              </p:nvSpPr>
              <p:spPr>
                <a:xfrm>
                  <a:off x="1258920" y="4680720"/>
                  <a:ext cx="223092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9" name="Text Box 25"/>
            <p:cNvSpPr/>
            <p:nvPr/>
          </p:nvSpPr>
          <p:spPr>
            <a:xfrm>
              <a:off x="1330200" y="3357720"/>
              <a:ext cx="19684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固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33"/>
          <p:cNvGrpSpPr/>
          <p:nvPr/>
        </p:nvGrpSpPr>
        <p:grpSpPr>
          <a:xfrm>
            <a:off x="4788000" y="3357720"/>
            <a:ext cx="2376360" cy="2434680"/>
            <a:chOff x="4788000" y="3357720"/>
            <a:chExt cx="2376360" cy="2434680"/>
          </a:xfrm>
        </p:grpSpPr>
        <p:grpSp>
          <p:nvGrpSpPr>
            <p:cNvPr id="631" name="Group 27"/>
            <p:cNvGrpSpPr/>
            <p:nvPr/>
          </p:nvGrpSpPr>
          <p:grpSpPr>
            <a:xfrm>
              <a:off x="4788000" y="3570120"/>
              <a:ext cx="2376360" cy="2222280"/>
              <a:chOff x="4788000" y="3570120"/>
              <a:chExt cx="2376360" cy="2222280"/>
            </a:xfrm>
          </p:grpSpPr>
          <p:sp>
            <p:nvSpPr>
              <p:cNvPr id="632" name="Rectangle 28"/>
              <p:cNvSpPr/>
              <p:nvPr/>
            </p:nvSpPr>
            <p:spPr>
              <a:xfrm>
                <a:off x="4788000" y="3570120"/>
                <a:ext cx="2376360" cy="22222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Group 29"/>
              <p:cNvGrpSpPr/>
              <p:nvPr/>
            </p:nvGrpSpPr>
            <p:grpSpPr>
              <a:xfrm>
                <a:off x="4788000" y="3570120"/>
                <a:ext cx="2375280" cy="2222280"/>
                <a:chOff x="4788000" y="3570120"/>
                <a:chExt cx="2375280" cy="2222280"/>
              </a:xfrm>
            </p:grpSpPr>
            <p:sp>
              <p:nvSpPr>
                <p:cNvPr id="634" name="Line 30"/>
                <p:cNvSpPr/>
                <p:nvPr/>
              </p:nvSpPr>
              <p:spPr>
                <a:xfrm>
                  <a:off x="5975280" y="3570120"/>
                  <a:ext cx="0" cy="2222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31"/>
                <p:cNvSpPr/>
                <p:nvPr/>
              </p:nvSpPr>
              <p:spPr>
                <a:xfrm>
                  <a:off x="4788000" y="4680720"/>
                  <a:ext cx="237528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6" name="Text Box 32"/>
            <p:cNvSpPr/>
            <p:nvPr/>
          </p:nvSpPr>
          <p:spPr>
            <a:xfrm>
              <a:off x="4788000" y="3357720"/>
              <a:ext cx="20955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执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4" descr="nanyuanbeizh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3513240" y="1413000"/>
            <a:ext cx="243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、季梁还会怎样劝朋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、朋友在北行的途中还会遇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什么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0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12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10"/>
          <p:cNvGrpSpPr/>
          <p:nvPr/>
        </p:nvGrpSpPr>
        <p:grpSpPr>
          <a:xfrm>
            <a:off x="0" y="0"/>
            <a:ext cx="9144000" cy="6848640"/>
            <a:chOff x="0" y="0"/>
            <a:chExt cx="9144000" cy="6848640"/>
          </a:xfrm>
        </p:grpSpPr>
        <p:pic>
          <p:nvPicPr>
            <p:cNvPr id="540" name="Picture 4" descr="060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4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6"/>
            <p:cNvGrpSpPr/>
            <p:nvPr/>
          </p:nvGrpSpPr>
          <p:grpSpPr>
            <a:xfrm>
              <a:off x="3132000" y="1557360"/>
              <a:ext cx="2448000" cy="2160720"/>
              <a:chOff x="3132000" y="1557360"/>
              <a:chExt cx="2448000" cy="2160720"/>
            </a:xfrm>
          </p:grpSpPr>
          <p:sp>
            <p:nvSpPr>
              <p:cNvPr id="542" name="AutoShape 7"/>
              <p:cNvSpPr/>
              <p:nvPr/>
            </p:nvSpPr>
            <p:spPr>
              <a:xfrm>
                <a:off x="3132000" y="1557360"/>
                <a:ext cx="2448000" cy="216072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WordArt 8"/>
              <p:cNvSpPr txBox="1"/>
              <p:nvPr/>
            </p:nvSpPr>
            <p:spPr>
              <a:xfrm>
                <a:off x="3563640" y="1760400"/>
                <a:ext cx="1602000" cy="159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辕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544" name="AutoShape 9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P0000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9"/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1" name="Picture 4" descr="P000002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Group 5"/>
            <p:cNvGrpSpPr/>
            <p:nvPr/>
          </p:nvGrpSpPr>
          <p:grpSpPr>
            <a:xfrm>
              <a:off x="4859280" y="1341360"/>
              <a:ext cx="2808360" cy="2448000"/>
              <a:chOff x="4859280" y="1341360"/>
              <a:chExt cx="2808360" cy="2448000"/>
            </a:xfrm>
          </p:grpSpPr>
          <p:sp>
            <p:nvSpPr>
              <p:cNvPr id="553" name="AutoShape 6"/>
              <p:cNvSpPr/>
              <p:nvPr/>
            </p:nvSpPr>
            <p:spPr>
              <a:xfrm>
                <a:off x="4859280" y="1341360"/>
                <a:ext cx="2808360" cy="244800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WordArt 7"/>
              <p:cNvSpPr txBox="1"/>
              <p:nvPr/>
            </p:nvSpPr>
            <p:spPr>
              <a:xfrm>
                <a:off x="5364000" y="1700280"/>
                <a:ext cx="1889280" cy="1736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辙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555" name="AutoShape 8"/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nanyuanbeizhe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451240" y="-68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Arial"/>
                <a:ea typeface="楷体_GB2312"/>
              </a:rPr>
              <a:t>南辕北辙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1592280" y="1341360"/>
            <a:ext cx="5838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辕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北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辙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季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梁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行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驶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应该   奔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驰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没关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旅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费   诚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恳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固执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己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担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心   车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夫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驾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34920" y="-50760"/>
            <a:ext cx="9360000" cy="6149520"/>
            <a:chOff x="34920" y="-50760"/>
            <a:chExt cx="9360000" cy="6149520"/>
          </a:xfrm>
        </p:grpSpPr>
        <p:sp>
          <p:nvSpPr>
            <p:cNvPr id="561" name="Text Box 3"/>
            <p:cNvSpPr/>
            <p:nvPr/>
          </p:nvSpPr>
          <p:spPr>
            <a:xfrm>
              <a:off x="1591560" y="-50760"/>
              <a:ext cx="53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季梁不解地问：“你去楚国应该往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走，怎么反而向北奔驰呢？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"/>
            <p:cNvSpPr/>
            <p:nvPr/>
          </p:nvSpPr>
          <p:spPr>
            <a:xfrm>
              <a:off x="2766960" y="1254600"/>
              <a:ext cx="30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朋友说：“不怕，我的马好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5"/>
            <p:cNvSpPr/>
            <p:nvPr/>
          </p:nvSpPr>
          <p:spPr>
            <a:xfrm>
              <a:off x="34920" y="2051640"/>
              <a:ext cx="936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季梁告诉他：“马虽然好，可这不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去出国的路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3187080" y="3355560"/>
              <a:ext cx="355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朋友回答：“没关系，我的旅费多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1556640" y="4080960"/>
              <a:ext cx="53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季梁再次诚恳地说：“旅费再多，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北走，无论如何也到不了出国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34920" y="5456160"/>
              <a:ext cx="892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朋友却固执己见：“你不用担心，我的车夫驾车技术非常高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4:05:29Z</dcterms:created>
  <dc:creator/>
  <dc:description/>
  <cp:keywords>幻灯片之家 http:/www.eeppt.com</cp:keywords>
  <dc:language>en-US</dc:language>
  <cp:lastModifiedBy/>
  <dcterms:modified xsi:type="dcterms:W3CDTF">2015-07-20T06:37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