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158C-3290-45BC-A5DE-6A0CB1E4D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00FB-EB6F-4C16-AE09-94D89847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7211-83FC-4207-B746-1C3E4A8C7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661C-A5A8-411A-B0EC-D1B553AC1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1386-B88B-4D90-93D4-39FA9BE3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03B2-C248-4739-8AE6-6514E986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2D78-B1BE-452E-BCAE-1E3F9251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D00C-485A-4B81-A289-1DD41CA1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F3BC-B11F-4D12-99B1-095EABB8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4858-89DE-44FE-8131-D7A0CC64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CAB5-4E17-4E14-B244-561D59C2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1C1D-A8E7-4010-8E68-9E1B8FFE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53FA-53A1-4B5D-AAC8-08B178A6A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5" descr="BZM_03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4416480" y="1341360"/>
            <a:ext cx="31104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67920" y="909720"/>
            <a:ext cx="3498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Times New Roman"/>
              </a:rPr>
              <a:t>女娲补天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5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" descr="PM_022"/>
          <p:cNvPicPr/>
          <p:nvPr/>
        </p:nvPicPr>
        <p:blipFill>
          <a:blip r:embed="rId1"/>
          <a:stretch/>
        </p:blipFill>
        <p:spPr>
          <a:xfrm>
            <a:off x="0" y="0"/>
            <a:ext cx="9144000" cy="72010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8"/>
          <p:cNvSpPr/>
          <p:nvPr/>
        </p:nvSpPr>
        <p:spPr>
          <a:xfrm>
            <a:off x="900000" y="981000"/>
            <a:ext cx="73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知过了多少年，一天夜里，女娲突然被一阵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轰隆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巨大响声震醒了，他急忙起床，跑到外面一看，天哪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太可怕了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远远的天空塌下一大块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露出一个黑黑的大窟窿。地被震裂了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现了一道道深沟。山冈上 燃烧着熊熊大火，田野里到处是洪水。许多人被火围困在山顶上，许多人在水里挣扎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0"/>
            <a:ext cx="9144000" cy="48394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娲决定冒着生命危险，把天补上。她跑到山上，去寻找补天用的五彩石，她原以为这种石头很多，用不着费多大力气。到山上一看，全是一些零零星星的碎块。她忙了几天几夜，找到了红、黄、蓝、白四种颜色的石头，还缺少一种纯青石。于是， 她又找啊找啊，终于在一眼清清的泉水中找到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五彩石找齐了，女娲在地上挖个圆坑，把五彩石放在里面，用神火进行冶炼。炼了五天五夜，五彩石化成了很稠的液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娲把它装在一个大盆里，端到天边，对准那个大黑窟窿，往上一泼，只见金光四射，大窟窿立刻被补好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6F71-8CA0-4A7F-91F5-8703917D11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7"/>
          <p:cNvSpPr/>
          <p:nvPr/>
        </p:nvSpPr>
        <p:spPr>
          <a:xfrm>
            <a:off x="1042920" y="5284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09_出埃及记.MP3" descr=""/>
          <p:cNvPicPr/>
          <p:nvPr/>
        </p:nvPicPr>
        <p:blipFill>
          <a:blip r:embed="rId2"/>
          <a:stretch/>
        </p:blipFill>
        <p:spPr>
          <a:xfrm>
            <a:off x="8388360" y="260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28720" y="458136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pt课件模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3482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7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自主作业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阅读中国神话故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将这个故事讲给家人听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抄写文中生动的语句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7T09:51:37Z</dcterms:created>
  <dc:creator/>
  <dc:description/>
  <cp:keywords>幻灯片之家 http:/www.eeppt.com</cp:keywords>
  <dc:language>en-US</dc:language>
  <cp:lastModifiedBy/>
  <dcterms:modified xsi:type="dcterms:W3CDTF">2015-07-18T14:01:31Z</dcterms:modified>
  <cp:revision>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