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78B-62F1-428F-B183-4F91C8D3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310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310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1B0-9809-43EC-BF44-C3459007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20024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297432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615-60C4-4C8C-8B54-17C42FCB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503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200240"/>
            <a:ext cx="26503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200240"/>
            <a:ext cx="26503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503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2974320"/>
            <a:ext cx="26503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2974320"/>
            <a:ext cx="26503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8B4-69C3-4871-82C0-AD2DD418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310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7B0-33F3-4BC6-A28C-04B2BB4A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3104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C9D-B6C1-49D8-890B-DFC6B92B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65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200240"/>
            <a:ext cx="40165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39D-5BC8-47E0-910E-10E57C03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F43-8E0A-414F-A935-0015A84A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3104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F34-4802-4E96-BCDD-B3A4D367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200240"/>
            <a:ext cx="40165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635-90CB-4749-9210-50215DCF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652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20024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297432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15A-2E85-4E9D-8193-12B964C5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200240"/>
            <a:ext cx="40165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310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271-57C2-4BCC-8FA7-AA463DB7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31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3104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4684680"/>
            <a:ext cx="21333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AC01-084A-4F0F-8BBA-AD13908C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龙年吉祥2012"/>
          <p:cNvPicPr/>
          <p:nvPr/>
        </p:nvPicPr>
        <p:blipFill>
          <a:blip r:embed="rId1"/>
          <a:stretch/>
        </p:blipFill>
        <p:spPr>
          <a:xfrm>
            <a:off x="36360" y="-1908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4" descr=""/>
          <p:cNvPicPr/>
          <p:nvPr/>
        </p:nvPicPr>
        <p:blipFill>
          <a:blip r:embed="rId2"/>
          <a:stretch/>
        </p:blipFill>
        <p:spPr>
          <a:xfrm>
            <a:off x="201600" y="0"/>
            <a:ext cx="1031760" cy="220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8317080" y="0"/>
            <a:ext cx="625320" cy="112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"/>
          <p:cNvPicPr/>
          <p:nvPr/>
        </p:nvPicPr>
        <p:blipFill>
          <a:blip r:embed="rId4"/>
          <a:stretch/>
        </p:blipFill>
        <p:spPr>
          <a:xfrm>
            <a:off x="8317080" y="771480"/>
            <a:ext cx="625320" cy="112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5"/>
          <a:stretch/>
        </p:blipFill>
        <p:spPr>
          <a:xfrm>
            <a:off x="8317080" y="1563840"/>
            <a:ext cx="625320" cy="1128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/>
          <p:cNvPicPr/>
          <p:nvPr/>
        </p:nvPicPr>
        <p:blipFill>
          <a:blip r:embed="rId6"/>
          <a:stretch/>
        </p:blipFill>
        <p:spPr>
          <a:xfrm>
            <a:off x="8317080" y="2355840"/>
            <a:ext cx="625320" cy="112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9440" y="46609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64120" y="77328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鞭炮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龙年吉祥201202"/>
          <p:cNvPicPr/>
          <p:nvPr/>
        </p:nvPicPr>
        <p:blipFill>
          <a:blip r:embed="rId1"/>
          <a:stretch/>
        </p:blipFill>
        <p:spPr>
          <a:xfrm>
            <a:off x="144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01600" y="0"/>
            <a:ext cx="103176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3"/>
          <a:stretch/>
        </p:blipFill>
        <p:spPr>
          <a:xfrm>
            <a:off x="8317080" y="0"/>
            <a:ext cx="625320" cy="112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8317080" y="771480"/>
            <a:ext cx="625320" cy="112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5"/>
          <a:stretch/>
        </p:blipFill>
        <p:spPr>
          <a:xfrm>
            <a:off x="8317080" y="1563840"/>
            <a:ext cx="625320" cy="112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8317080" y="2355840"/>
            <a:ext cx="625320" cy="112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60360" y="4589640"/>
            <a:ext cx="80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龙年吉祥201203"/>
          <p:cNvPicPr/>
          <p:nvPr/>
        </p:nvPicPr>
        <p:blipFill>
          <a:blip r:embed="rId1"/>
          <a:stretch/>
        </p:blipFill>
        <p:spPr>
          <a:xfrm>
            <a:off x="144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4" descr=""/>
          <p:cNvPicPr/>
          <p:nvPr/>
        </p:nvPicPr>
        <p:blipFill>
          <a:blip r:embed="rId2"/>
          <a:stretch/>
        </p:blipFill>
        <p:spPr>
          <a:xfrm>
            <a:off x="201600" y="0"/>
            <a:ext cx="1031760" cy="220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8317080" y="0"/>
            <a:ext cx="625320" cy="11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4"/>
          <a:stretch/>
        </p:blipFill>
        <p:spPr>
          <a:xfrm>
            <a:off x="8317080" y="771480"/>
            <a:ext cx="62532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5"/>
          <a:stretch/>
        </p:blipFill>
        <p:spPr>
          <a:xfrm>
            <a:off x="8317080" y="1563840"/>
            <a:ext cx="625320" cy="112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6"/>
          <a:stretch/>
        </p:blipFill>
        <p:spPr>
          <a:xfrm>
            <a:off x="8317080" y="2355840"/>
            <a:ext cx="6253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42560"/>
            <a:ext cx="82090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640" y="952200"/>
            <a:ext cx="8929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8200" y="250920"/>
            <a:ext cx="138924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E48-40F7-496B-9FBB-4D89D8C5FE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龙年吉祥201204"/>
          <p:cNvPicPr/>
          <p:nvPr/>
        </p:nvPicPr>
        <p:blipFill>
          <a:blip r:embed="rId1"/>
          <a:stretch/>
        </p:blipFill>
        <p:spPr>
          <a:xfrm>
            <a:off x="144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4" descr=""/>
          <p:cNvPicPr/>
          <p:nvPr/>
        </p:nvPicPr>
        <p:blipFill>
          <a:blip r:embed="rId2"/>
          <a:stretch/>
        </p:blipFill>
        <p:spPr>
          <a:xfrm>
            <a:off x="201600" y="0"/>
            <a:ext cx="1031760" cy="220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tretch/>
        </p:blipFill>
        <p:spPr>
          <a:xfrm>
            <a:off x="8389800" y="0"/>
            <a:ext cx="625680" cy="112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>
            <a:off x="8389800" y="771480"/>
            <a:ext cx="625680" cy="112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8389800" y="1563840"/>
            <a:ext cx="625680" cy="1128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6"/>
          <a:stretch/>
        </p:blipFill>
        <p:spPr>
          <a:xfrm>
            <a:off x="8389800" y="2355840"/>
            <a:ext cx="6256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9:10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56:31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