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7D1-F8B1-4A26-9348-00D5ECF1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D25-44F9-4C9D-80EC-B6CEA762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BE0-A0CF-43A0-818D-34EAD9DF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63C-B518-49A5-9394-BACAC34F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060-90B3-445B-AA65-0D3E249A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713-2D08-4876-B8B7-AF3DD391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849-DE84-4C44-8375-E54A3FE8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817-A0B1-4E5D-881C-9851E595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A08-5BCD-4F3C-A272-1F5D8FE9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CDC-536D-464F-B733-321ADA97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0AC-B145-4E61-A23A-A73108E0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649-1F6E-414F-8F9F-F43A69EB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ADDB-0AF0-4DFD-8758-BC9EA69F4A10}" type="slidenum"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0" t="2762" r="57831" b="7212"/>
          <a:stretch/>
        </p:blipFill>
        <p:spPr>
          <a:xfrm>
            <a:off x="2419200" y="-385920"/>
            <a:ext cx="252720" cy="82076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7" descr=""/>
          <p:cNvPicPr/>
          <p:nvPr/>
        </p:nvPicPr>
        <p:blipFill>
          <a:blip r:embed="rId2"/>
          <a:stretch/>
        </p:blipFill>
        <p:spPr>
          <a:xfrm>
            <a:off x="1908000" y="633240"/>
            <a:ext cx="3608640" cy="5748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8"/>
          <p:cNvSpPr/>
          <p:nvPr/>
        </p:nvSpPr>
        <p:spPr>
          <a:xfrm>
            <a:off x="2411280" y="1189080"/>
            <a:ext cx="1944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  <a:ea typeface="微软雅黑"/>
              </a:rPr>
              <a:t>Your 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9"/>
          <p:cNvSpPr/>
          <p:nvPr/>
        </p:nvSpPr>
        <p:spPr>
          <a:xfrm>
            <a:off x="2556000" y="7128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auhaus 93"/>
                <a:ea typeface="微软雅黑"/>
              </a:rPr>
              <a:t>ST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0"/>
          <p:cNvSpPr/>
          <p:nvPr/>
        </p:nvSpPr>
        <p:spPr>
          <a:xfrm>
            <a:off x="2844720" y="2398680"/>
            <a:ext cx="194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  <a:ea typeface="微软雅黑"/>
              </a:rPr>
              <a:t>Your 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1"/>
          <p:cNvSpPr/>
          <p:nvPr/>
        </p:nvSpPr>
        <p:spPr>
          <a:xfrm>
            <a:off x="2987640" y="19224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auhaus 93"/>
                <a:ea typeface="微软雅黑"/>
              </a:rPr>
              <a:t>ST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2"/>
          <p:cNvSpPr/>
          <p:nvPr/>
        </p:nvSpPr>
        <p:spPr>
          <a:xfrm>
            <a:off x="2340000" y="3719520"/>
            <a:ext cx="1944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  <a:ea typeface="微软雅黑"/>
              </a:rPr>
              <a:t>Your 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3"/>
          <p:cNvSpPr/>
          <p:nvPr/>
        </p:nvSpPr>
        <p:spPr>
          <a:xfrm>
            <a:off x="2484360" y="3243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auhaus 93"/>
                <a:ea typeface="微软雅黑"/>
              </a:rPr>
              <a:t>ST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4"/>
          <p:cNvSpPr/>
          <p:nvPr/>
        </p:nvSpPr>
        <p:spPr>
          <a:xfrm>
            <a:off x="1908000" y="5064120"/>
            <a:ext cx="1943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  <a:ea typeface="微软雅黑"/>
              </a:rPr>
              <a:t>Your 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5"/>
          <p:cNvSpPr/>
          <p:nvPr/>
        </p:nvSpPr>
        <p:spPr>
          <a:xfrm>
            <a:off x="2050920" y="45878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auhaus 93"/>
                <a:ea typeface="微软雅黑"/>
              </a:rPr>
              <a:t>ST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5156280" y="674640"/>
            <a:ext cx="331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7"/>
          <p:cNvSpPr/>
          <p:nvPr/>
        </p:nvSpPr>
        <p:spPr>
          <a:xfrm>
            <a:off x="5516640" y="1922400"/>
            <a:ext cx="331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8"/>
          <p:cNvSpPr/>
          <p:nvPr/>
        </p:nvSpPr>
        <p:spPr>
          <a:xfrm>
            <a:off x="5084640" y="3243240"/>
            <a:ext cx="331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9"/>
          <p:cNvSpPr/>
          <p:nvPr/>
        </p:nvSpPr>
        <p:spPr>
          <a:xfrm>
            <a:off x="4579920" y="4508640"/>
            <a:ext cx="331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7400" y="162864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标签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019-9E37-4670-B2C8-BEC9458E25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09:17:08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IP等级">
    <vt:lpwstr>2</vt:lpwstr>
  </property>
  <property fmtid="{D5CDD505-2E9C-101B-9397-08002B2CF9AE}" pid="4" name="_模板ID">
    <vt:lpwstr/>
  </property>
  <property fmtid="{D5CDD505-2E9C-101B-9397-08002B2CF9AE}" pid="5" name="价格">
    <vt:lpwstr>25</vt:lpwstr>
  </property>
  <property fmtid="{D5CDD505-2E9C-101B-9397-08002B2CF9AE}" pid="6" name="使用说明">
    <vt:lpwstr>PPT单页幻灯片是没有母版的单张幻灯片，所有背景图片、装饰元素、图形、文本框等等元素都置于幻灯片中，用户可以通过直接插入到幻灯片文稿中，插入后所有元素都不会改变格式，用户仅需要修改文字即可。若不需要某些元素，请直接单击选择然后删除即可。</vt:lpwstr>
  </property>
  <property fmtid="{D5CDD505-2E9C-101B-9397-08002B2CF9AE}" pid="7" name="使用软件">
    <vt:lpwstr>ppt</vt:lpwstr>
  </property>
  <property fmtid="{D5CDD505-2E9C-101B-9397-08002B2CF9AE}" pid="8" name="关键字">
    <vt:lpwstr>PPT幻灯片 EN 4:3 并列列表 其他关系 文本 红 红色 蓝 蓝色 圆 圆形 标签 紫 紫红 几何 图形 分类 观点 分析 版式 排列 排版 5 装饰 陈述 说明 V2</vt:lpwstr>
  </property>
  <property fmtid="{D5CDD505-2E9C-101B-9397-08002B2CF9AE}" pid="9" name="操作代码">
    <vt:lpwstr>1</vt:lpwstr>
  </property>
  <property fmtid="{D5CDD505-2E9C-101B-9397-08002B2CF9AE}" pid="10" name="是否可购买">
    <vt:lpwstr>1</vt:lpwstr>
  </property>
  <property fmtid="{D5CDD505-2E9C-101B-9397-08002B2CF9AE}" pid="11" name="显示VIP等级">
    <vt:lpwstr>2</vt:lpwstr>
  </property>
  <property fmtid="{D5CDD505-2E9C-101B-9397-08002B2CF9AE}" pid="12" name="标题">
    <vt:lpwstr>四项标签排列</vt:lpwstr>
  </property>
  <property fmtid="{D5CDD505-2E9C-101B-9397-08002B2CF9AE}" pid="13" name="模板ID">
    <vt:lpwstr>A30120130726A02</vt:lpwstr>
  </property>
  <property fmtid="{D5CDD505-2E9C-101B-9397-08002B2CF9AE}" pid="14" name="模板缩略图">
    <vt:lpwstr>A30120130726A02.png</vt:lpwstr>
  </property>
  <property fmtid="{D5CDD505-2E9C-101B-9397-08002B2CF9AE}" pid="15" name="相关案例">
    <vt:lpwstr>854</vt:lpwstr>
  </property>
  <property fmtid="{D5CDD505-2E9C-101B-9397-08002B2CF9AE}" pid="16" name="缩略图标题">
    <vt:lpwstr>四项标签排列</vt:lpwstr>
  </property>
  <property fmtid="{D5CDD505-2E9C-101B-9397-08002B2CF9AE}" pid="17" name="适用软件">
    <vt:lpwstr>PowerPoint 2007及以上版本</vt:lpwstr>
  </property>
  <property fmtid="{D5CDD505-2E9C-101B-9397-08002B2CF9AE}" pid="18" name="附件ID">
    <vt:lpwstr>A30120130726A0201</vt:lpwstr>
  </property>
  <property fmtid="{D5CDD505-2E9C-101B-9397-08002B2CF9AE}" pid="19" name="附件缩略图">
    <vt:lpwstr>A30120130726A0201.png</vt:lpwstr>
  </property>
  <property fmtid="{D5CDD505-2E9C-101B-9397-08002B2CF9AE}" pid="20" name="附件路径">
    <vt:lpwstr>A30120130726A0201.pptx</vt:lpwstr>
  </property>
</Properties>
</file>