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D88-9054-4296-8FFD-6660F7E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B56-6CC6-486C-90F3-85A491A8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AE4-0067-4803-A947-6F8E75A9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943-505C-462B-94B6-6A7C65CB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FECD-2201-4F22-B68F-20B4FCFC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1D1-9A26-4C66-B2DA-9CF61454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614-DFB2-4F23-B6FD-628BE525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BDC-A978-49A9-B9D8-E351B87E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254-8EAB-47C8-BA17-5D58682C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74B-F5FF-4B8C-8B9C-17C88D8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2B0-BBEE-47E8-A157-B5938A1F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170-2583-41F2-95CA-30B159B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D51-DD71-4142-8E81-0601E6F12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wyjs.edu.cn/20020812/3063983.s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F:\ppt\630\小学三年级上册语文第七课奇怪的大石头PPT课件2\6015111_101937912000_2.jpg"/>
          <p:cNvPicPr/>
          <p:nvPr/>
        </p:nvPicPr>
        <p:blipFill>
          <a:blip r:embed="rId2"/>
          <a:stretch/>
        </p:blipFill>
        <p:spPr>
          <a:xfrm>
            <a:off x="-252360" y="117360"/>
            <a:ext cx="9144000" cy="68630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4356000" y="836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李四光，中国地质事业的奠基者和领导人。他毕生从事地质科学的研究和教育事业，成就卓著，蜚声海内外，是我国冰川学研究的奠基人。他独创的地质力学理论，为我国的地质、石油勘探和建设事业做出了巨大贡献。</a:t>
            </a:r>
            <a:r>
              <a:rPr b="1" lang="en-US" sz="3200" spc="-1" strike="noStrike">
                <a:solidFill>
                  <a:srgbClr val="f3f6fa"/>
                </a:solidFill>
                <a:latin typeface="楷体_GB2312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2298600" y="345960"/>
            <a:ext cx="453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F:\ppt\630\小学三年级上册语文第七课奇怪的大石头PPT课件2\6125458_164601034000_2.jpg"/>
          <p:cNvPicPr/>
          <p:nvPr/>
        </p:nvPicPr>
        <p:blipFill>
          <a:blip r:embed="rId3"/>
          <a:srcRect l="0" t="0" r="0" b="4105"/>
          <a:stretch/>
        </p:blipFill>
        <p:spPr>
          <a:xfrm>
            <a:off x="0" y="3765600"/>
            <a:ext cx="4071960" cy="309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4000" y="638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328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6800" y="1773360"/>
            <a:ext cx="34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奇怪的大石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6"/>
          <p:cNvSpPr/>
          <p:nvPr/>
        </p:nvSpPr>
        <p:spPr>
          <a:xfrm>
            <a:off x="-1258200" y="177840"/>
            <a:ext cx="1054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坑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藏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考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秦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域    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遗    震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27"/>
          <p:cNvSpPr/>
          <p:nvPr/>
        </p:nvSpPr>
        <p:spPr>
          <a:xfrm>
            <a:off x="616680" y="2955960"/>
            <a:ext cx="8105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</a:rPr>
              <a:t>著   悄  闪  卧  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</a:rPr>
              <a:t>推   旅  纪  究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638172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777-1D24-4F9E-93E2-49ED405D6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988720" y="392040"/>
            <a:ext cx="31982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思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奇怪的大石头，“怪”在哪里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417840" y="2863800"/>
            <a:ext cx="185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李四光是如何思考和解决自己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问题的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76320" y="453960"/>
            <a:ext cx="90676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陨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大的流星在经过地球大气层时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没有完全烧毁坠落到地球上的含石质较多或全部为石质的陨星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地质学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从事地球物质形成和地壳构造研究，以探讨地球的形成和发展的科学家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突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高耸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76320" y="304920"/>
            <a:ext cx="929664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第四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地质历史的最后一个纪。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从距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万年前至今。此时高纬度地区广泛地发生了多次冰川作用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秦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横贯我国中部，东西走向的古老褶皱断层山脉。我国地理上的南北分解线。分布有冰川槽谷、角峰等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457200"/>
            <a:ext cx="8686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冰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在高山或两极地区，积雪由于自身的压力变成冰块（或积雪融化、下渗冻结成冰块），又因重力作用而沿着地面倾斜方面移动，这种移动的大冰块叫做冰川。在地质上的新生代第四纪，气候非常寒冷，世界上的许多地方被冰川覆盖，称第四纪冰川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3141720" y="5983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北极冰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0812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28600"/>
            <a:ext cx="85341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52040" y="58514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北极科学家拍摄到的海上冰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xinsrc_36b22d769d9a40789acdf58db312145a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冰川遗迹"/>
          <p:cNvPicPr/>
          <p:nvPr/>
        </p:nvPicPr>
        <p:blipFill>
          <a:blip r:embed="rId2"/>
          <a:stretch/>
        </p:blipFill>
        <p:spPr>
          <a:xfrm>
            <a:off x="685800" y="1522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529720" y="57913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四纪冰川遗迹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唐古拉山冰川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5414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343320" y="575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唐古拉山冰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52280"/>
            <a:ext cx="944892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奇怪   著名   悄悄   躲闪  兴趣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历史   平整   旅行   专门  考察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秦岭   遗迹   研究   成果  震惊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卧室   土坑   推测   世纪  纪念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质学家     严严实实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捉迷藏        转来转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22:08Z</dcterms:created>
  <dc:creator/>
  <dc:description/>
  <cp:keywords>幻灯片之家 http:/www.eeppt.com</cp:keywords>
  <dc:language>en-US</dc:language>
  <cp:lastModifiedBy/>
  <dcterms:modified xsi:type="dcterms:W3CDTF">2015-07-04T12:56:54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