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B43-F8A1-4F32-9D48-CCDC8737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5068-798C-4987-A9F4-2ED247F7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059F-90E0-4D0B-A130-7DF145F6A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9943-42E6-49D4-B846-C9F19233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0DD-3501-411D-B53A-ADE10295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FA29-24F8-4796-9DBC-59F30FD1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DE00-D50D-4176-B846-56EECF12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C46-EDDD-4278-9C18-7905859E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899-9FE3-439B-92CA-8489C3FB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59C3-202B-4D0B-B745-1092B964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4EF-50EA-463E-835F-5F4321BA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5E5-6A21-4FD5-9007-4C913EF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3DCC-8F8F-404E-BE5D-8C0257F61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无标题"/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《秋天的雨》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  <a:ea typeface="黑体"/>
              </a:rPr>
              <a:t>PPT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  <a:ea typeface="黑体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37720" y="1523520"/>
            <a:ext cx="5791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天是个美丽的季节，秋天的雨是什么样儿的呢？你看，它来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秋天的雨.mp3" descr=""/>
          <p:cNvPicPr/>
          <p:nvPr/>
        </p:nvPicPr>
        <p:blipFill>
          <a:blip r:embed="rId2"/>
          <a:stretch/>
        </p:blipFill>
        <p:spPr>
          <a:xfrm>
            <a:off x="5029200" y="35812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课文都写了秋天的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3343320" y="2284200"/>
            <a:ext cx="2238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颜色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味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00"/>
                </a:solidFill>
                <a:latin typeface="隶书"/>
                <a:ea typeface="隶书"/>
              </a:rPr>
              <a:t>秋的声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4920" y="914040"/>
            <a:ext cx="6172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为什么说秋天的雨是一把钥匙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32760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隶书"/>
                <a:ea typeface="隶书"/>
              </a:rPr>
              <a:t>因为它不知不觉地就来到了我们身边，打开秋天的大门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E573-DDD5-48A1-A2BD-3C4BB6871D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你是怎样理解秋雨有“五彩缤纷”的颜料盒的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Arial"/>
              </a:rPr>
              <a:t>秋天的雨，藏着非常好闻的气味。是哪些气味？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130120"/>
            <a:ext cx="90676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秋天的雨吹起了金色的小喇叭，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</a:rPr>
              <a:t>小喇叭吹的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133360"/>
            <a:ext cx="8763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隶书"/>
              </a:rPr>
              <a:t>你还发现秋天有什么“宝贝”？</a:t>
            </a:r>
            <a:br>
              <a:rPr sz="4800"/>
            </a:br>
            <a:r>
              <a:rPr b="1" lang="zh-CN" sz="4800" spc="-1" strike="noStrike">
                <a:solidFill>
                  <a:srgbClr val="6600cc"/>
                </a:solidFill>
                <a:latin typeface="Arial"/>
                <a:ea typeface="隶书"/>
              </a:rPr>
              <a:t>将你的发现写下来与大家分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23:23Z</dcterms:created>
  <dc:creator/>
  <dc:description/>
  <cp:keywords>幻灯片之家 http:/www.eeppt.com</cp:keywords>
  <dc:language>en-US</dc:language>
  <cp:lastModifiedBy/>
  <dcterms:modified xsi:type="dcterms:W3CDTF">2015-07-18T14:03:05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