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26F-5316-4630-B65A-9F91609C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C7A-D7A0-4882-B587-29DD0CDA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520AC-695A-4849-8829-FFB0F3C9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D0473-2E10-4D54-8BFB-BA6B7E76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14E58-149D-4EF0-8BFE-03C2DCC1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36F44-6625-4427-9A21-BDB94D91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F247A-C47E-41B1-A7AC-A001ABDD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E5D8D-B1F7-435C-BF1F-959B0F47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6A8D2-5E2C-400C-94BC-5710CF4A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65E75-BA35-400D-857E-7A6D2A38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7C0A9-A9DE-43FA-AE4A-CA1A8941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718CC-840D-4E34-840D-CC6B7231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119-B71A-43DA-A0D9-B012A062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62951-BC0B-4EEE-834E-743C155B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90BF8-3E6C-4FBA-8770-FE52B2DF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14C14-39BF-43B5-AC01-11E8A018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44809-8DB8-4112-93FC-5CB749A0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43611-EA74-4764-9C98-6861BDB9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D9AB0-30A2-4730-88BD-D7CAE5EF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B434E-8AA7-45F3-A2E4-05D413C6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C4979-A2F8-416B-B271-D416F555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53E01-9271-439E-8085-5CA5D8F5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90F6C-4D44-4962-A2E7-CBBC2307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6C7-42E8-4A90-9016-DF2E850B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9442B-2AA4-417B-944A-4339FC7F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C4432-8B34-4C00-8087-79F9F074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96F7A-8904-4F8F-ADF2-35F166BF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83B3E-DB42-4AFE-BEF3-8CBC8E05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CEDFE-371B-4CDF-8220-187EE8CD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E2D3F-ADEC-4781-9AED-5F129C04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5C1E4-C8C0-4DD5-A750-FB38FA47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63240-23CA-4703-A187-CE0D06C9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F5D16-B79C-48E0-B971-C902075A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7AEE3-4324-4A59-B366-06001ACF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56BD-FE7E-41A6-8648-DAEBAA29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68AF5-60F8-467E-B3AE-F056D1CE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5DAED-443B-47EF-ADF6-EDB3CEDF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C0B95-EC56-4145-A905-DE3920E8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47DA4-7244-486C-9216-E935C08D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CC3D5-2C29-4835-BEAB-1FB39916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859AB-F73F-4002-B6B2-1E177730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15D95-DD52-4765-819F-CB77DB86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71DB4-3C61-4F44-B457-744DA600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4A9A0-BB82-4FCA-AE70-28E9A194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39F44-E695-458B-9A10-560378CB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1B85-50DF-4F55-9F14-FB237FA6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6FB90-E7A0-48DB-AFFF-CA6278C5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4DDFE-8920-4223-94C9-1C009155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1E6ED-82CD-49C3-9D6A-66F3F33D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0921D-F5F4-4830-8DAE-7B167A0C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F9B6D-4867-4ED9-BF46-8E3FBFAD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FDA3C-9959-431E-8BAD-E6736E0B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BE05A-A84B-4888-9AB4-A2458D1F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D4CD8-DBEE-4A91-B277-59FDDD8F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B7489-28AE-4E46-B487-1DF1007F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08C4B-F529-4EAD-B575-EC86094A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E2F9-C41C-433A-A603-DDEBCAB0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0AC9A6-A92C-4891-8A97-5A914690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7E9C7-E321-4291-9BB0-F4133D26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E214F-1F50-4F10-9AE1-7A416577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A6F27-7020-42D4-BFC8-EF967876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1517A-418F-496A-9915-13981DE8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6B268-66B8-418C-9568-821DE635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0F995-1A48-4F9D-9BC7-6EF3C67F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4C01-7999-4649-A5BE-07E81EE3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626A-E644-4C5C-BC08-208A8D40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4BD4-9A50-4F60-A658-C3CB8BCE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569B-08D2-4958-837F-F0AC6754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689-B543-459C-9C69-8635E3AA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2AA9-2B11-4BE7-9CB8-8F262F3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5CAD-E0F2-47BE-B75B-B47BE09C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778D-9E97-418E-9C2A-B42DC0A9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9B91-4FD2-472C-AF26-18713AA2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BEC3-FC33-48B5-B581-B7CDA085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D685-A260-4650-B3C7-7538BD7F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AA48-ACE2-4C35-BF48-5AE3F257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3EAB-6873-4978-B70F-FF15352B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6303-B800-4414-B7C4-47A9C870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6861-98C3-4C94-ADC5-46065D07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5D0-5889-434E-86F0-2F99E1A0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9DFE-5FED-4827-AAFC-BAF61550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82D85-ADC6-490B-B1BA-DFB1E9D6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2FC3-6C3E-4F82-9831-C963BCB7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A4134-F255-49CB-9222-987CAA1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0F44-2327-4052-BC65-E96A01C6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11C2-1CDD-4847-8201-565E2E3C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7D185-C178-483F-892C-129426AA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47BA-472A-46DE-AF8B-5C142715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1F91-3039-4FE8-86D7-F03D7AD2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8CCE6-18C0-44EC-89DE-A7F2B64A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2A2-0CC3-43C3-A0B4-7F2C7A87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3D625-19A2-4033-A646-368A3DF1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7190-1B43-4419-A7A3-371EE951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C2912-1696-4193-88AA-3ADFD0B5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6C88-B8B8-4DCC-AE6F-77CD2427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511A-DE13-4EAC-93AE-7D8F6CC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8FDB5-C606-4657-91F1-7427F634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AF8F7-7F33-4ABD-81F9-3D1E51C6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AE86-4923-4AE3-A534-5AFA8D19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95AD2-A3D3-4944-9C42-45F81938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2ECDA-0B7D-481E-808A-B399CCE3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1C6-BB94-486C-86E3-4D0FE55A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CD69D-3D4E-4FC4-9AFA-2C95620C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206FA-253F-45CF-8A45-032B227D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1688D-44AB-468E-B7F2-39ADFE06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00A3-B521-4F3E-A076-1881900C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8CA15-B453-495D-BCFD-F126DC2E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B3D49-319D-4938-9985-FD14FB11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398B6-1A83-4E33-BCE2-16F30259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A5407-636D-4D63-BFC4-26E09C1D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96A27-EED3-4FC5-912B-D2CCE32B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43179-9AD5-4719-85E3-66C0C210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785-F7CB-46E4-8E64-1BEE249A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F9D8F-E79E-40F0-9BC7-EA33D80B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136B3-61FD-4064-9918-768E744E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12677-4255-45FA-BBD8-8A52C6A6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A1002-9A89-446B-A88B-DB5B8733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EE23D-7225-448F-8214-D9EFA430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43504-E616-4D9E-869F-3E876155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2C050-FE57-4B80-BADF-D57660C0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871B-F808-4254-9C3E-58AAC0A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B1F4-A29B-468B-9BBF-F541E42C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F0553-0A45-4B47-A402-3E7374A4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A09-C201-434F-A699-740AD50E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73966-8A1D-4819-9E6C-06B0F2DC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FD9E5-ADCD-4E25-BA0D-716CA870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8BA2E-AEE0-4982-BA46-6D96F7ED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F68F5-79AA-42D5-8F60-8A9F23CA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2711A-A8B4-4BD4-9907-E88F7BAD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D4FCC-6A48-4B0E-9E97-1F62E4BB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5FA9C-E61C-400E-94AF-FC1BF9B5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02350-5422-4800-BABA-E57B3FE2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86F8C-8721-47E3-A02C-63B690AA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5C2E5-FC94-4AB5-A5D5-AA1D7E4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E5B-A97D-4B37-B28A-3C7EC3D1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CE7FA-B133-4AA9-A929-DF4D6E16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C4F8A-47C1-44F8-AD5A-96AB4201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EF737-375C-44A3-AECF-EDB50304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9F512-60A6-4D5B-A26D-F424B02C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FAF18-C522-4A32-A7F8-C953F41F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F2021-6A80-47E5-ABBD-E966D11D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DAA65-D9BC-4EE6-8D96-9D74B1D6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D1728-C7AA-4368-918D-C5B2B39B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2D027-8EFF-4915-886A-19DF37CD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C8C4D-1335-4F7D-83DE-C6203764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8AD-89C5-475F-80B6-4F8F8664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B08F2-0355-4873-BBA9-649A2C7E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F8725-6D64-4107-9C86-3026177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2AE24-CD25-4EE0-B77C-31DFCE9C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CA419-5820-47A4-92EC-9795B9C3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54459-ED75-431E-BEEE-06B6978E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DC8F3-6301-4A9F-B971-89CA29C5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E1674-E4C3-4C4E-B7B6-6C5C5EC5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CFF23-2353-4CC2-81FE-F648CD80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35133-2291-4F11-9250-500A552A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80B04-3396-4EAA-BC4D-9F53D871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5431-D9DF-4571-B56F-6A30B9B1DF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2CD7-7141-4902-B7D4-EC7FF79F32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3814-0BD1-4C85-9549-CF8E908AAD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F36E-C5B1-48C2-B2A4-2CD006E01B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9CA6-EFCB-4B10-BDDA-F98EB6953D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AC40-C06D-4457-B5DE-8E442C255C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E1D4-14AE-4377-AF94-3A943FAC25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D0CA-F380-4738-902E-8F24AD9D1D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1F8A-D09A-48BF-BD60-FF8EDE5604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05EC-066F-42FC-931E-E3B8DB5035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310E-EE94-484E-B456-8AD80323AC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667C-2EA3-4FBC-BF60-03BF594F63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3BC7-C075-4D20-B938-487677599D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966960" y="981000"/>
            <a:ext cx="7277040" cy="23781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1187280" y="170028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三顾茅庐完整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说课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149480" y="2009880"/>
            <a:ext cx="69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　　请同学们读一读课文的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2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－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4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小节，说一说：你觉得刘备能够取得拜访成功的原因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1026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027"/>
          <p:cNvSpPr/>
          <p:nvPr/>
        </p:nvSpPr>
        <p:spPr>
          <a:xfrm>
            <a:off x="890640" y="2268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　　请同学们读一读课文第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2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小节，说一说：从哪儿可以看出刘备对诸葛亮很尊重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826920" y="1268280"/>
            <a:ext cx="756144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张飞嚷道：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这次用不着大哥亲自去。他如果不来，我只要用一根麻绳就把他捆来了！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刘备生气地说：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你一点儿也不懂尊重人才，这次你就不要去了！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                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读一读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870120" y="18702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请同学们读一读课文的第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小节，用笔画出表现刘备尊重诸葛亮的词句，并说说自己的理解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3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"/>
          <p:cNvSpPr/>
          <p:nvPr/>
        </p:nvSpPr>
        <p:spPr>
          <a:xfrm>
            <a:off x="544680" y="95868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半里多路，刘备就下马步行。到了诸葛亮的家，刘备上前轻轻敲门。出来开门的童子告诉刘备，诸葛先生正在草堂午睡。刘备让童子不要惊醒先生，吩咐关羽、张飞在门口休息，自己轻轻地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544680" y="958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下马步行。到了诸葛亮的家，刘备上前轻轻敲门。出来开门的童子告诉刘备，诸葛先生正在草堂午睡。刘备让童子不要惊醒先生，吩咐关羽、张飞在门口休息，自己轻轻地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544680" y="958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马步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到了诸葛亮的家，刘备上前轻轻敲门。出来开门的童子告诉刘备，诸葛先生正在草堂午睡。刘备让童子不要惊醒先生，吩咐关羽、张飞在门口休息，自己轻轻地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544680" y="95868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马步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到了诸葛亮的家，刘备上前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敲门。出来开门的童子告诉刘备，诸葛先生正在草堂午睡。刘备让童子不要惊醒先生，吩咐关羽、张飞在门口休息，自己轻轻地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544680" y="958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马步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到了诸葛亮的家，刘备上前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敲门。出来开门的童子告诉刘备，诸葛先生正在草堂午睡。刘备让童子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要惊醒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先生，吩咐关羽、张飞在门口休息，自己轻轻地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2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539640" y="1268280"/>
            <a:ext cx="85694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诸葛亮  山冈  半晌  三顾茅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秀丽宜人  恭恭敬敬  群雄纷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蜿蜒起伏  青翠欲滴  茅塞顿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544680" y="958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马步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到了诸葛亮的家，刘备上前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敲门。出来开门的童子告诉刘备，诸葛先生正在草堂午睡。刘备让童子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要惊醒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先生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吩咐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关羽、张飞在门口休息，自己轻轻地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544680" y="958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马步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到了诸葛亮的家，刘备上前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敲门。出来开门的童子告诉刘备，诸葛先生正在草堂午睡。刘备让童子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要惊醒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先生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吩咐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关羽、张飞在门口休息，自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826920" y="1197000"/>
            <a:ext cx="78440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恭恭敬敬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站在草堂的台阶上等候。等了半晌工夫，诸葛亮翻了一个身，又朝里睡着了。又等了一个时辰，诸葛亮才悠然醒来。刘备快步走进草堂，同诸葛亮见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826920" y="1197000"/>
            <a:ext cx="78440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恭恭敬敬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站在草堂的台阶上等候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了半晌工夫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翻了一个身，又朝里睡着了。又等了一个时辰，诸葛亮才悠然醒来。刘备快步走进草堂，同诸葛亮见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826920" y="1197000"/>
            <a:ext cx="78440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恭恭敬敬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站在草堂的台阶上等候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了半晌工夫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翻了一个身，又朝里睡着了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等了一个时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才悠然醒来。刘备快步走进草堂，同诸葛亮见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826920" y="1197000"/>
            <a:ext cx="78440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恭恭敬敬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站在草堂的台阶上等候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了半晌工夫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翻了一个身，又朝里睡着了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等了一个时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才悠然醒来。刘备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步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走进草堂，同诸葛亮见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544680" y="958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马步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到了诸葛亮的家，刘备上前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敲门。出来开门的童子告诉刘备，诸葛先生正在草堂午睡。刘备让童子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要惊醒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先生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吩咐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关羽、张飞在门口休息，自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826920" y="1197000"/>
            <a:ext cx="78440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恭恭敬敬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站在草堂的台阶上等候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了半晌工夫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翻了一个身，又朝里睡着了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等了一个时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才悠然醒来。刘备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步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走进草堂，同诸葛亮见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4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755640" y="18446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请同学们自由读一读第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5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小节，说一说：刘备是怎样对待诸葛亮的？这些做法让你强烈地感受到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AutoShape 4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"/>
          <p:cNvSpPr/>
          <p:nvPr/>
        </p:nvSpPr>
        <p:spPr>
          <a:xfrm>
            <a:off x="755640" y="134136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诸葛亮出山后，刘备把他当做自己的老师，两人同桌吃饭，同榻睡觉，一起讨论天下大事。刘备高兴地对关羽、张飞说：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我得到诸葛先生，就像鱼儿得到水一样啊！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2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574560" y="1773360"/>
            <a:ext cx="8569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诸葛亮  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冈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半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三顾茅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秀丽宜人  恭恭敬敬  群雄纷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蜿蜒起伏  青翠欲滴  茅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塞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顿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755640" y="134136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诸葛亮出山后，刘备把他当做自己的老师，两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桌吃饭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同榻睡觉，一起讨论天下大事。刘备高兴地对关羽、张飞说：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我得到诸葛先生，就像鱼儿得到水一样啊！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755640" y="134136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诸葛亮出山后，刘备把他当做自己的老师，两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桌吃饭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榻睡觉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一起讨论天下大事。刘备高兴地对关羽、张飞说：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我得到诸葛先生，就像鱼儿得到水一样啊！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684360" y="1052640"/>
            <a:ext cx="7632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诸葛亮出山后，刘备把他当做自己的老师，两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桌吃饭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榻睡觉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一起讨论天下大事。刘备高兴地对关羽、张飞说：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我得到诸葛先生，就像鱼儿得到水一样啊！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　　　　　 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读一读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971640" y="18446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0" lang="zh-CN" sz="4800" spc="-1" strike="noStrike">
                <a:solidFill>
                  <a:srgbClr val="6600cc"/>
                </a:solidFill>
                <a:latin typeface="黑体"/>
                <a:ea typeface="黑体"/>
              </a:rPr>
              <a:t>请同学们再默读一遍课文，想一想，说一说：刘备为什么会对诸葛亮如此尊重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3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826920" y="170028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诸葛亮分析了群雄纷争的形势，提出了三分天下，最后取胜的策略。刘备听了茅塞顿开，像拨开云雾见到了青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826920" y="170028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诸葛亮分析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群雄纷争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的形势，提出了三分天下，最后取胜的策略。刘备听了茅塞顿开，像拨开云雾见到了青天。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826920" y="170028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诸葛亮分析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群雄纷争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的形势，提出了三分天下，最后取胜的策略。刘备听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茅塞顿开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像拨开云雾见到了青天。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826920" y="1197000"/>
            <a:ext cx="756144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诸葛亮分析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群雄纷争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的形势，提出了三分天下，最后取胜的策略。刘备听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茅塞顿开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像拨开云雾见到了青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说一说：这两个词分别是什么意思？）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684360" y="80316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  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曹操战胜了袁绍，从弱小变为强大。现在曹操已拥有百万大军，挟制皇帝来号令诸侯，这的确不能与他较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孙权占据江东，已经历了三代。江东地势险要，民众归附，有才能的人被他重用，孙权这方面可以以他为外援，而不可谋取他。 </a:t>
            </a: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　　　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898560" y="920880"/>
            <a:ext cx="7561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荆州是兵家必争的地方，但是他的主人刘表不能守住，这地方大概是老天用来资助将军的，将军难道没有占领的意思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益州有险要的关塞，有广阔肥沃的土地，是自然条件优越，物产丰饶，形势险固的地方，但君主昏庸。 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AutoShape 2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484280" y="1628640"/>
            <a:ext cx="6445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顾  　　茅   　诸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葛　　　冈 　　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晌  　　恭  　 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684360" y="1082520"/>
            <a:ext cx="7848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将军您是汉朝皇帝的后代，威信和义气闻名于天下，如果占据了荆州、益州，凭借两州险要的地势，西面和各族和好，南面安抚各族，对外跟孙权结成联盟，对内改善国家政治；那么汉朝的政权就可以复兴了。 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3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"/>
          <p:cNvSpPr/>
          <p:nvPr/>
        </p:nvSpPr>
        <p:spPr>
          <a:xfrm>
            <a:off x="1042920" y="1989000"/>
            <a:ext cx="7416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1" lang="zh-CN" sz="4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刘备听了茅塞顿开，像拨开云雾见到了青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900000" y="1268280"/>
            <a:ext cx="741708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1" lang="zh-CN" sz="4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刘备听了茅塞顿开，像拨开云雾见到了青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　　　　　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（读一读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611280" y="549360"/>
            <a:ext cx="8064360" cy="568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709560" y="1509840"/>
            <a:ext cx="770436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那里的山冈蜿蜒起伏，好像一条等待时机腾飞的卧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我得到诸葛先生，就像鱼儿得到水一样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4"/>
          <p:cNvSpPr/>
          <p:nvPr/>
        </p:nvSpPr>
        <p:spPr>
          <a:xfrm>
            <a:off x="611280" y="549360"/>
            <a:ext cx="8064360" cy="568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2"/>
          <p:cNvSpPr/>
          <p:nvPr/>
        </p:nvSpPr>
        <p:spPr>
          <a:xfrm>
            <a:off x="887400" y="981000"/>
            <a:ext cx="7704000" cy="35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那里的山冈蜿蜒起伏，好像一条等待时机腾飞的卧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我得到诸葛先生，就像鱼儿得到水一样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2"/>
          <p:cNvSpPr/>
          <p:nvPr/>
        </p:nvSpPr>
        <p:spPr>
          <a:xfrm>
            <a:off x="611280" y="549360"/>
            <a:ext cx="8064360" cy="568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687240" y="806400"/>
            <a:ext cx="78487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那里的山冈蜿蜒起伏，好像一条等待时机腾飞的卧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刘备听了茅塞顿开，像拨开云雾见到了青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我得到诸葛先生，就像鱼儿得到水一样啊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读一读，说一说：每个句子的前后两个部分是什么关系？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684360" y="1052640"/>
            <a:ext cx="76327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那里的山冈蜿蜒起伏，好像一条等待时机腾飞腾飞的卧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刘备听了茅塞顿开，像拨开云雾见到了青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我得到诸葛先生，就像鱼儿得到水一样啊！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　　　　　　　（读一读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826920" y="2060640"/>
            <a:ext cx="749016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黑体"/>
                <a:ea typeface="黑体"/>
              </a:rPr>
              <a:t>说一说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　　　　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你还知道哪些事例能说明诸葛亮的才干之大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utoShape 3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2"/>
          <p:cNvSpPr/>
          <p:nvPr/>
        </p:nvSpPr>
        <p:spPr>
          <a:xfrm>
            <a:off x="755640" y="13413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他们来到隆中，只见那里的山冈蜿蜒起伏，好像一条等待时机腾飞的卧龙。冈前几片松林疏疏朗朗，潺潺的溪流清澈见底，茂密的竹林青翠欲滴，景色秀丽宜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900000" y="184464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请同学们自由读一读课文第三小节开头的景色描写，说一说：哪些词语让你感觉到了景色的宜人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2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700200" y="2203560"/>
            <a:ext cx="77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    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请同学们完成书上的描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684360" y="1844640"/>
            <a:ext cx="784836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黑体"/>
                <a:ea typeface="黑体"/>
              </a:rPr>
              <a:t>说一说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“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蜿蜒起伏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”“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 青翠欲滴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”“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秀丽宜人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”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等词语的意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538200" y="2060640"/>
            <a:ext cx="8137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再读一读，看看这一段景色描写是怎么写的？先写什么？再写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755640" y="13413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他们来到隆中，只见那里的山冈蜿蜒起伏，好像一条等待时机腾飞的卧龙。冈前几片松林疏疏朗朗，潺潺的溪流清澈见底，茂密的竹林青翠欲滴，景色秀丽宜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755640" y="13413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他们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隆中，只见那里的山冈蜿蜒起伏，好像一条等待时机腾飞的卧龙。冈前几片松林疏疏朗朗，潺潺的溪流清澈见底，茂密的竹林青翠欲滴，景色秀丽宜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755640" y="13413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他们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隆中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见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那里的山冈蜿蜒起伏，好像一条等待时机腾飞的卧龙。冈前几片松林疏疏朗朗，潺潺的溪流清澈见底，茂密的竹林青翠欲滴，景色秀丽宜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3"/>
          <p:cNvSpPr/>
          <p:nvPr/>
        </p:nvSpPr>
        <p:spPr>
          <a:xfrm>
            <a:off x="1508040" y="1773360"/>
            <a:ext cx="651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请同学们仿照这样的写法，用上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来到</a:t>
            </a: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，只见</a:t>
            </a: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”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的句式描写一处景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611280" y="1484280"/>
            <a:ext cx="79930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黑体"/>
                <a:ea typeface="黑体"/>
              </a:rPr>
              <a:t>作业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1.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背诵课文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、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4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两小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2.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找一本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《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三国演义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》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故事书来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1106640" y="647712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74560" y="1197000"/>
            <a:ext cx="7958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自由朗读课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   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1.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注意读准每个字的字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   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2.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想一想：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《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三顾茅庐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》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写的是一件什么事情？这里的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“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顾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”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是什么意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AutoShape 1026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027"/>
          <p:cNvSpPr/>
          <p:nvPr/>
        </p:nvSpPr>
        <p:spPr>
          <a:xfrm>
            <a:off x="798480" y="1413000"/>
            <a:ext cx="77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请学生分段读课文，其他同学注意听，看看这位同学有没有读错的地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2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900000" y="1293840"/>
            <a:ext cx="74898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　　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《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三顾茅庐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》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写的是一件什么事情？这里的“顾”是什么意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AutoShape 3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826920" y="1577880"/>
            <a:ext cx="7632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　　课文重点写的是第几次拜访？哪几小节写出了这一次拜访的全过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5:40:36Z</dcterms:created>
  <dc:creator/>
  <dc:description/>
  <cp:keywords>幻灯片之家 http:/www.eeppt.com</cp:keywords>
  <dc:language>en-US</dc:language>
  <cp:lastModifiedBy/>
  <dcterms:modified xsi:type="dcterms:W3CDTF">2015-07-20T02:57:5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