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1.gif" ContentType="image/gif"/>
  <Override PartName="/ppt/media/image9.gif" ContentType="image/gif"/>
  <Override PartName="/ppt/media/image13.gif" ContentType="image/gif"/>
  <Override PartName="/ppt/media/image17.jpeg" ContentType="image/jpeg"/>
  <Override PartName="/ppt/media/image5.gif" ContentType="image/gif"/>
  <Override PartName="/ppt/media/image10.gif" ContentType="image/gif"/>
  <Override PartName="/ppt/media/image16.gif" ContentType="image/gif"/>
  <Override PartName="/ppt/media/image2.png" ContentType="image/png"/>
  <Override PartName="/ppt/media/image14.gif" ContentType="image/gif"/>
  <Override PartName="/ppt/media/image1.jpeg" ContentType="image/jpeg"/>
  <Override PartName="/ppt/media/image4.gif" ContentType="image/gif"/>
  <Override PartName="/ppt/media/image3.gif" ContentType="image/gif"/>
  <Override PartName="/ppt/media/image6.png" ContentType="image/png"/>
  <Override PartName="/ppt/media/image7.jpeg" ContentType="image/jpeg"/>
  <Override PartName="/ppt/media/image15.gif" ContentType="image/gif"/>
  <Override PartName="/ppt/media/image8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9CE82-F3D5-4A22-884F-079F73912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2579-F197-4BB7-8FC1-5A52E6FB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001C-350B-4452-BA47-69D29F8B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0932-47FD-4BCB-8A3D-37277BB98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7FE9-234B-4C90-A867-C90F82520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5E8-A349-4337-ACC2-E3DFF805F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1E38-413D-435E-B2C3-7F6302D33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8138-06D0-40D4-B636-2EE66820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645C-0E2F-4318-B8A0-E9EB300B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38F-A741-4F14-BAA5-16F6FC0F4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7361-FB5C-40D3-990F-03E101B6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AC95-5C1D-4A28-8A6D-EABF47FE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C25C0-343A-482A-98E2-33221956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2133720" y="582480"/>
            <a:ext cx="309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9"/>
          <p:cNvSpPr/>
          <p:nvPr/>
        </p:nvSpPr>
        <p:spPr>
          <a:xfrm>
            <a:off x="5096880" y="2759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杜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夜奔.MP3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2720" y="63104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61040" y="1341360"/>
            <a:ext cx="237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《石壕吏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0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898560" y="5964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298440" y="333864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2423520" y="5057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一家三男被征　二男新战死　寡媳衣不遮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3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763560" y="61405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听妇前致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6"/>
          <p:cNvSpPr/>
          <p:nvPr/>
        </p:nvSpPr>
        <p:spPr>
          <a:xfrm>
            <a:off x="3297240" y="253044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（齐读第三节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089440" y="2809800"/>
            <a:ext cx="5301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老妇一家三男被征，说明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三男已死二男，又说明了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4729680" y="466236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说明兵役之苛酷及战争之惨烈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7" descr="q9"/>
          <p:cNvPicPr/>
          <p:nvPr/>
        </p:nvPicPr>
        <p:blipFill>
          <a:blip r:embed="rId1"/>
          <a:stretch/>
        </p:blipFill>
        <p:spPr>
          <a:xfrm>
            <a:off x="7620120" y="762120"/>
            <a:ext cx="609480" cy="6858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8"/>
          <p:cNvSpPr/>
          <p:nvPr/>
        </p:nvSpPr>
        <p:spPr>
          <a:xfrm>
            <a:off x="3124080" y="197172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7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7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1398240" y="2852640"/>
            <a:ext cx="6328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       </a:t>
            </a: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从老妇说了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三男邺城戍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之后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然后又说到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“</a:t>
            </a: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室中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……</a:t>
            </a: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裙</a:t>
            </a: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”</a:t>
            </a: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，你能想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华文行楷"/>
                <a:ea typeface="华文行楷"/>
              </a:rPr>
              <a:t>到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icture 5" descr="q5"/>
          <p:cNvPicPr/>
          <p:nvPr/>
        </p:nvPicPr>
        <p:blipFill>
          <a:blip r:embed="rId1"/>
          <a:stretch/>
        </p:blipFill>
        <p:spPr>
          <a:xfrm>
            <a:off x="7086600" y="76212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838160" y="3048120"/>
            <a:ext cx="588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夜久语声绝，如闻泣幽咽。”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“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如”字用得很含蓄，假如没人哭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者为何有此感觉？假如有人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哭，那么会是谁在哭呢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6" descr="q6"/>
          <p:cNvPicPr/>
          <p:nvPr/>
        </p:nvPicPr>
        <p:blipFill>
          <a:blip r:embed="rId1"/>
          <a:stretch/>
        </p:blipFill>
        <p:spPr>
          <a:xfrm>
            <a:off x="7924680" y="6858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7"/>
          <p:cNvSpPr/>
          <p:nvPr/>
        </p:nvSpPr>
        <p:spPr>
          <a:xfrm>
            <a:off x="4230720" y="1752480"/>
            <a:ext cx="86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3300"/>
                </a:solidFill>
                <a:latin typeface="Times New Roman"/>
                <a:ea typeface="隶书"/>
              </a:rPr>
              <a:t>（齐读最后一节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9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random/>
  </p:transition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1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279080" y="90360"/>
            <a:ext cx="1297800" cy="1434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比一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891800" y="2209680"/>
            <a:ext cx="53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、有感情地大声朗读全诗，根据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内容的理解，力争以最短的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背出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1761840" y="4419720"/>
            <a:ext cx="103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、检查背诵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6" descr="clock"/>
          <p:cNvPicPr/>
          <p:nvPr/>
        </p:nvPicPr>
        <p:blipFill>
          <a:blip r:embed="rId1"/>
          <a:stretch/>
        </p:blipFill>
        <p:spPr>
          <a:xfrm>
            <a:off x="7616880" y="457200"/>
            <a:ext cx="765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17680" y="96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547920" y="92160"/>
            <a:ext cx="21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r>
              <a:rPr b="1" lang="en-US" sz="88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: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1657440" y="1736640"/>
            <a:ext cx="5670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作者耳闻目睹了石壕吏捉人的全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程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但他始终却做了一个旁观者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你如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评价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4book7"/>
          <p:cNvPicPr/>
          <p:nvPr/>
        </p:nvPicPr>
        <p:blipFill>
          <a:blip r:embed="rId1"/>
          <a:stretch/>
        </p:blipFill>
        <p:spPr>
          <a:xfrm>
            <a:off x="4205160" y="5097600"/>
            <a:ext cx="731880" cy="6174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2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597600" y="8748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小结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3366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安史之乱中，陈陶之战，四万唐军一日内为国捐躯；潼关战役，二十万唐军全军覆灭；邺城战役失利，郭子仪、李光弼等所率唐军战马万匹只剩三千，甲杖十万，几乎全部丧尽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……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 《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石壕吏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是中学语文课本的传统名篇，其凝重沉郁的风格感染着一代又一代学生。诗中表达了作者对战乱中遭受苦难的人们的深切同情，从中我们也看出了作者的矛盾心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631044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17B-5A7D-4830-BA78-122AED210E27}" type="slidenum">
              <a:t>18</a:t>
            </a:fld>
          </a:p>
        </p:txBody>
      </p:sp>
    </p:spTree>
  </p:cSld>
  <p:transition spd="slow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2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3"/>
          <p:cNvSpPr/>
          <p:nvPr/>
        </p:nvSpPr>
        <p:spPr>
          <a:xfrm>
            <a:off x="2576160" y="466560"/>
            <a:ext cx="4204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 u="sng">
                <a:solidFill>
                  <a:srgbClr val="ff00ff"/>
                </a:solidFill>
                <a:uFillTx/>
                <a:latin typeface="Times New Roman"/>
                <a:ea typeface="方正舒体"/>
              </a:rPr>
              <a:t>集体背诵全诗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1007640" y="272880"/>
            <a:ext cx="3198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教学目标</a:t>
            </a:r>
            <a:r>
              <a:rPr b="0" lang="en-US" sz="6600" spc="-1" strike="noStrike">
                <a:solidFill>
                  <a:srgbClr val="ff9900"/>
                </a:solidFill>
                <a:latin typeface="Times New Roman"/>
                <a:ea typeface="楷体_GB2312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614400" y="1860480"/>
            <a:ext cx="153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华文琥珀"/>
                <a:ea typeface="华文琥珀"/>
              </a:rPr>
              <a:t>1</a:t>
            </a:r>
            <a:r>
              <a:rPr b="0" lang="zh-CN" sz="4800" spc="-1" strike="noStrike">
                <a:solidFill>
                  <a:srgbClr val="3333cc"/>
                </a:solidFill>
                <a:latin typeface="华文琥珀"/>
                <a:ea typeface="华文琥珀"/>
              </a:rPr>
              <a:t>、熟读、背诵这首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华文琥珀"/>
                <a:ea typeface="华文琥珀"/>
              </a:rPr>
              <a:t>2</a:t>
            </a:r>
            <a:r>
              <a:rPr b="0" lang="zh-CN" sz="4800" spc="-1" strike="noStrike">
                <a:solidFill>
                  <a:srgbClr val="3333cc"/>
                </a:solidFill>
                <a:latin typeface="华文琥珀"/>
                <a:ea typeface="华文琥珀"/>
              </a:rPr>
              <a:t>、理解诗歌的思想内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4book"/>
          <p:cNvPicPr/>
          <p:nvPr/>
        </p:nvPicPr>
        <p:blipFill>
          <a:blip r:embed="rId1"/>
          <a:stretch/>
        </p:blipFill>
        <p:spPr>
          <a:xfrm>
            <a:off x="3962520" y="5334120"/>
            <a:ext cx="1009440" cy="882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525600" y="166680"/>
            <a:ext cx="37558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</a:t>
            </a: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2793960" y="2116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默写全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707200" y="3071880"/>
            <a:ext cx="46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练笔：把本诗改写成一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9"/>
          <p:cNvSpPr/>
          <p:nvPr/>
        </p:nvSpPr>
        <p:spPr>
          <a:xfrm>
            <a:off x="250920" y="2602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title1"/>
          <p:cNvPicPr/>
          <p:nvPr/>
        </p:nvPicPr>
        <p:blipFill>
          <a:blip r:embed="rId1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2"/>
          <p:cNvSpPr/>
          <p:nvPr/>
        </p:nvSpPr>
        <p:spPr>
          <a:xfrm>
            <a:off x="3116160" y="12794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方正舒体"/>
              </a:rPr>
              <a:t>学法指导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0080" y="2911320"/>
            <a:ext cx="841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在理解的基础上提高记忆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4678920" y="40384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9900"/>
                </a:solidFill>
                <a:latin typeface="Times New Roman"/>
                <a:ea typeface="华文行楷"/>
              </a:rPr>
              <a:t>在记忆的过程中加深理解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0" descr="gkey2"/>
          <p:cNvPicPr/>
          <p:nvPr/>
        </p:nvPicPr>
        <p:blipFill>
          <a:blip r:embed="rId2"/>
          <a:stretch/>
        </p:blipFill>
        <p:spPr>
          <a:xfrm>
            <a:off x="4038480" y="5425920"/>
            <a:ext cx="1219320" cy="6699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631160" y="1143000"/>
            <a:ext cx="595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唐肃宗乾元元年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5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春天，郭子仪等九节度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43988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六十万大军包围安庆绪于邺城，由于指挥不统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364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860840" y="23623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被史思明援军打败唐王朝为补充兵力，便在洛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-9216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2053080" y="3048120"/>
            <a:ext cx="485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潼关一带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强行抓人当兵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民苦不堪言。这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212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1829160" y="3733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古代伟大的现实主义诗人杜甫经过此处，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-9216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1829160" y="4419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所见所闻进行了高度的艺术概括，写成了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5936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003040" y="5029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组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石壕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三吏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7"/>
          <p:cNvSpPr/>
          <p:nvPr/>
        </p:nvSpPr>
        <p:spPr>
          <a:xfrm>
            <a:off x="1364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8"/>
          <p:cNvSpPr/>
          <p:nvPr/>
        </p:nvSpPr>
        <p:spPr>
          <a:xfrm>
            <a:off x="63288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9"/>
          <p:cNvSpPr/>
          <p:nvPr/>
        </p:nvSpPr>
        <p:spPr>
          <a:xfrm>
            <a:off x="754560" y="61920"/>
            <a:ext cx="38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背景简介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6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1189080" y="-15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华文琥珀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整体感知：</a:t>
            </a: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 </a:t>
            </a:r>
            <a:r>
              <a:rPr b="1" lang="zh-CN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195440" y="1736640"/>
            <a:ext cx="1081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画出难懂的句子，与同桌交流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然后举手发问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2697840" y="3184560"/>
            <a:ext cx="66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准备复述故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8" descr="000121~1"/>
          <p:cNvPicPr/>
          <p:nvPr/>
        </p:nvPicPr>
        <p:blipFill>
          <a:blip r:embed="rId1"/>
          <a:stretch/>
        </p:blipFill>
        <p:spPr>
          <a:xfrm>
            <a:off x="5684760" y="4038480"/>
            <a:ext cx="2925720" cy="2468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" descr="1f2"/>
          <p:cNvPicPr/>
          <p:nvPr/>
        </p:nvPicPr>
        <p:blipFill>
          <a:blip r:embed="rId2"/>
          <a:stretch/>
        </p:blipFill>
        <p:spPr>
          <a:xfrm>
            <a:off x="228600" y="3365640"/>
            <a:ext cx="552600" cy="368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1f2"/>
          <p:cNvPicPr/>
          <p:nvPr/>
        </p:nvPicPr>
        <p:blipFill>
          <a:blip r:embed="rId3"/>
          <a:stretch/>
        </p:blipFill>
        <p:spPr>
          <a:xfrm>
            <a:off x="228600" y="1930320"/>
            <a:ext cx="533520" cy="3556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4"/>
          <p:cNvSpPr/>
          <p:nvPr/>
        </p:nvSpPr>
        <p:spPr>
          <a:xfrm>
            <a:off x="3975840" y="109692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ff"/>
                </a:solidFill>
                <a:uFillTx/>
                <a:latin typeface="Times New Roman"/>
                <a:ea typeface="黑体"/>
              </a:rPr>
              <a:t>（一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3162960" y="12794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Times New Roman"/>
                <a:ea typeface="方正舒体"/>
              </a:rPr>
              <a:t>复述故事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1339920" y="27748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不要求逐字逐句翻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说出大意就可以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title1"/>
          <p:cNvPicPr/>
          <p:nvPr/>
        </p:nvPicPr>
        <p:blipFill>
          <a:blip r:embed="rId1"/>
          <a:stretch/>
        </p:blipFill>
        <p:spPr>
          <a:xfrm>
            <a:off x="1752480" y="4952880"/>
            <a:ext cx="5867640" cy="9144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586440" y="746280"/>
            <a:ext cx="27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走进石壕村</a:t>
            </a:r>
            <a:r>
              <a:rPr b="0" lang="en-US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3783600" y="158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ff"/>
                </a:solidFill>
                <a:uFillTx/>
                <a:latin typeface="Times New Roman"/>
                <a:ea typeface="黑体"/>
              </a:rPr>
              <a:t>（二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662120" y="1055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WordArt 5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文章开头四句是故事的发生，写了几个人几件事？哪一句预示有一场灾难降临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820960" y="5715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有吏夜捉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815280" y="4876920"/>
            <a:ext cx="47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四个人，四件事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1" descr="q2"/>
          <p:cNvPicPr/>
          <p:nvPr/>
        </p:nvPicPr>
        <p:blipFill>
          <a:blip r:embed="rId1"/>
          <a:stretch/>
        </p:blipFill>
        <p:spPr>
          <a:xfrm>
            <a:off x="7745400" y="76212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2"/>
          <p:cNvSpPr/>
          <p:nvPr/>
        </p:nvSpPr>
        <p:spPr>
          <a:xfrm>
            <a:off x="4024080" y="1828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（齐读第一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29844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在这里老翁、老妇分别有怎样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举动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3265200" y="365760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全篇围绕哪两个字展开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434240" y="46483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931320" y="5486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捉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9" descr="q4"/>
          <p:cNvPicPr/>
          <p:nvPr/>
        </p:nvPicPr>
        <p:blipFill>
          <a:blip r:embed="rId1"/>
          <a:stretch/>
        </p:blipFill>
        <p:spPr>
          <a:xfrm>
            <a:off x="7574040" y="990720"/>
            <a:ext cx="731880" cy="4348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4:36:32Z</dcterms:created>
  <dc:creator/>
  <dc:description/>
  <cp:keywords>幻灯片之家 http:/www.eeppt.com</cp:keywords>
  <dc:language>en-US</dc:language>
  <cp:lastModifiedBy/>
  <dcterms:modified xsi:type="dcterms:W3CDTF">2015-07-18T15:21:47Z</dcterms:modified>
  <cp:revision>1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