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6A13-BCDF-4E56-9E30-44FBD52B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C14-CA55-4673-9FE0-640084F6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381-EF62-414C-9EA9-8AD5D5EB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86D-8EA5-448F-A954-C7449663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D14D-E538-4FF8-A28B-A4A3D348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B36A-2FA5-4FBB-9F04-58C59E4A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E7A-BF0F-4FCF-9DDF-BA0F4D41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706-59B6-42E4-835C-0A429087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F77-D4D1-4EC5-BC4E-F8971E84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134-8998-4713-9180-566BCE26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2CA7-D75E-4466-8F29-57DE2C7B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8A0-CDED-4F29-A793-2850B821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5D97-55F7-4327-ACF2-873DEDEC7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59280" y="47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835280" y="1192320"/>
            <a:ext cx="5400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908000" y="4653000"/>
            <a:ext cx="49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城关回小　　马丽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220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96800" y="765000"/>
            <a:ext cx="321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司马光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课件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50920" y="765000"/>
            <a:ext cx="925200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Arial"/>
                <a:ea typeface="黑体"/>
              </a:rPr>
              <a:t>拓展思维 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50920" y="2349360"/>
            <a:ext cx="8893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、小朋友都谎了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司马光为什么不跑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你知道他在想什么吗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、如果当时你也在花园玩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你有什么办法救小伙伴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86400"/>
            <a:ext cx="9144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板书设计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没有慌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司马光──举石头砸缸救人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想办法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5518080"/>
            <a:ext cx="6112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ttp://www.eeppt.com/moban/kejian/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64B0-63AC-4DCB-AF4E-C4A94A3C0A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24000" y="44280"/>
            <a:ext cx="8532720" cy="74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ff"/>
                </a:solidFill>
                <a:latin typeface="Arial"/>
              </a:rPr>
              <a:t>         </a:t>
            </a:r>
            <a:r>
              <a:rPr b="1" lang="zh-CN" sz="6600" spc="-1" strike="noStrike">
                <a:solidFill>
                  <a:srgbClr val="3333ff"/>
                </a:solidFill>
                <a:latin typeface="Arial"/>
              </a:rPr>
              <a:t>选字填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友   有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）我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(       )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许多好朋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(       )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块   快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(2)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我们一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(       )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儿玩得很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乐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042920" y="549360"/>
            <a:ext cx="727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0" name="Picture 5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4" name="Object 4" descr=""/>
          <p:cNvPicPr/>
          <p:nvPr/>
        </p:nvPicPr>
        <p:blipFill>
          <a:blip r:embed="rId1"/>
          <a:stretch/>
        </p:blipFill>
        <p:spPr>
          <a:xfrm>
            <a:off x="-762120" y="0"/>
            <a:ext cx="9906120" cy="7270920"/>
          </a:xfrm>
          <a:prstGeom prst="rect">
            <a:avLst/>
          </a:prstGeom>
          <a:ln w="0">
            <a:noFill/>
          </a:ln>
        </p:spPr>
      </p:pic>
      <p:pic>
        <p:nvPicPr>
          <p:cNvPr id="55" name="Object 5" descr=""/>
          <p:cNvPicPr/>
          <p:nvPr/>
        </p:nvPicPr>
        <p:blipFill>
          <a:blip r:embed="rId2"/>
          <a:stretch/>
        </p:blipFill>
        <p:spPr>
          <a:xfrm>
            <a:off x="3419640" y="1557360"/>
            <a:ext cx="1099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68360" y="47628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学习要求：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95280" y="1628640"/>
            <a:ext cx="87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（１）自由读课文，注意读准字音．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（２）听老师范读，学生边听边画出生字新词．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（３）同桌互读生字词，纠正错音．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（４）检查生字词．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4920" y="44280"/>
            <a:ext cx="9144000" cy="75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ɡǔ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　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tā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jǐ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péng     yǒu     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古　　他　　几　　朋　　友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mǎn     xín     bié     dōu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满　　心　　别　　都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kū      zhǎo     kuài     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哭　　找     　快　　得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41828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41864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ō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5140440"/>
            <a:ext cx="8686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95280" y="54936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认一认　读一读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0" y="2205000"/>
            <a:ext cx="8820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几个　小朋友　小心　石头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出来　古时候　 孩子　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得救　砸破　   花园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0" y="476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学习课文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0" y="1700280"/>
            <a:ext cx="91440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● 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发生了什么危险的事？别的小朋友看到小伙伴掉进水缸，他们的表现怎样？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●司马光的表现与别的孩子有什么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不同？结果怎么样？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-108000" y="981000"/>
            <a:ext cx="91425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别的小朋友都慌了，有的吓哭了有的叫着喊着，跑去找大人。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司马光没有慌，他举起一块石头，使劲砸那口缸，几下子就砸破了。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4643280" y="4221000"/>
            <a:ext cx="338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95280" y="5013360"/>
            <a:ext cx="806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0" y="5734080"/>
            <a:ext cx="82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3851280" y="234936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0" y="3141720"/>
            <a:ext cx="709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84360" y="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ff"/>
                </a:solidFill>
                <a:latin typeface="Arial"/>
              </a:rPr>
              <a:t>答案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06:39:20Z</dcterms:created>
  <dc:creator/>
  <dc:description/>
  <cp:keywords>幻灯片之家 http:/www.eeppt.com</cp:keywords>
  <dc:language>en-US</dc:language>
  <cp:lastModifiedBy/>
  <dcterms:modified xsi:type="dcterms:W3CDTF">2015-07-04T12:50:40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