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EF9-BCD5-4C4B-B56A-007BBA3B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B6DB-17CF-4B78-99A5-784F2CCD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481-E737-4B51-BA5E-B42F61DE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E392-AACB-49D1-B165-06AE967D0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88B3-B9B5-4450-970C-BADE21C8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710-1ADA-4BA8-B94D-BE3D1A9E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5B9-5294-4979-9ABD-A8B5BA9F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F78-F39E-4021-B2C6-2985B4AA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5637-3290-4DE3-941A-BB2533E6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9CC3-0AD3-457E-BD0F-7C411B82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840D-AA6E-4902-B60C-7C9B1121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5ED-688E-45B2-8828-DE4B4F2D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F054-BC08-4C85-BD4F-FDD0FB24C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7"/>
          <p:cNvSpPr txBox="1"/>
          <p:nvPr/>
        </p:nvSpPr>
        <p:spPr>
          <a:xfrm>
            <a:off x="3132000" y="3935520"/>
            <a:ext cx="4896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6000"/>
                    </a:srgbClr>
                  </a:outerShdw>
                </a:effectLst>
                <a:latin typeface="宋体"/>
              </a:rPr>
              <a:t>100000000</a:t>
            </a:r>
            <a:endParaRPr b="1" lang="en-US" sz="40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6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97680" y="1413000"/>
            <a:ext cx="271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《一亿有多大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9572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、我们全国大约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亿人，如果每人每天节省一粒米，全国一天大约能节省多少克粮食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2749680" y="3478320"/>
            <a:ext cx="294264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、如果每人每天吃大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克，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些节省下来的大米可供一个人吃多少天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约合多少年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671200" y="5229360"/>
            <a:ext cx="59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2500000÷400=8125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天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81250÷365≈223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（年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340720" y="2565360"/>
            <a:ext cx="66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500000×13=325000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（克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496080" y="11592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"/>
          <p:cNvSpPr/>
          <p:nvPr/>
        </p:nvSpPr>
        <p:spPr>
          <a:xfrm>
            <a:off x="6516720" y="2565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2916360" y="2565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3419640" y="5229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2"/>
          <p:cNvSpPr/>
          <p:nvPr/>
        </p:nvSpPr>
        <p:spPr>
          <a:xfrm>
            <a:off x="6227640" y="5229360"/>
            <a:ext cx="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>
            <a:off x="2987640" y="5805360"/>
            <a:ext cx="0" cy="64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179280" y="1125360"/>
            <a:ext cx="87138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亚洲严重缺水，缺乏符合卫生标准的饮用水人数约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。因缺水不能使用卫生设备人数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。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后，全世界缺水人口可能达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758600" y="4076640"/>
            <a:ext cx="546120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亿个小朋友手拉手，可以绕地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赤道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圈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地球赤道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000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9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4427640" y="5373720"/>
            <a:ext cx="0" cy="647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1254240"/>
            <a:ext cx="91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如果一个人能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以亿计算，其度过的岁月不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多秒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356560" y="3573360"/>
            <a:ext cx="4017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我们学校大约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名学生，如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人每学年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书，那么一亿本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够发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1254240"/>
            <a:ext cx="9145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3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50920" y="981000"/>
            <a:ext cx="864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分钟如果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心跳，一亿次心跳大约要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滴水大约可以汇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33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升水，能够装四辆大型运水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张纸叠在一起，约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高，比珠穆朗玛峰还要高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3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95280" y="981000"/>
            <a:ext cx="84978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中国移动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底的财务公布平均每天净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新明日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日电，爆发禽流感的亚洲迄今已杀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多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地球是一个年轻的星球，她的年龄大约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8"/>
          <p:cNvSpPr txBox="1"/>
          <p:nvPr/>
        </p:nvSpPr>
        <p:spPr>
          <a:xfrm>
            <a:off x="468360" y="0"/>
            <a:ext cx="1390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资料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241200" y="1197000"/>
            <a:ext cx="8651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据国家统计局统计，全国每月消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双一次性筷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一刻不停数一亿个数大约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人总得吃饭睡觉，假如每天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小时数完一亿就会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也就是说，你今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从现在就开始数，要数到十八岁才能把一亿本练习本数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34920" y="2492280"/>
          <a:ext cx="9109080" cy="2448000"/>
        </p:xfrm>
        <a:graphic>
          <a:graphicData uri="http://schemas.openxmlformats.org/drawingml/2006/table">
            <a:tbl>
              <a:tblPr/>
              <a:tblGrid>
                <a:gridCol w="1584360"/>
                <a:gridCol w="1081080"/>
                <a:gridCol w="1295280"/>
                <a:gridCol w="1619280"/>
                <a:gridCol w="1513080"/>
                <a:gridCol w="201600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下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 Box 31"/>
          <p:cNvSpPr/>
          <p:nvPr/>
        </p:nvSpPr>
        <p:spPr>
          <a:xfrm>
            <a:off x="46656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一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0"/>
          <p:cNvSpPr/>
          <p:nvPr/>
        </p:nvSpPr>
        <p:spPr>
          <a:xfrm>
            <a:off x="1693800" y="40053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1"/>
          <p:cNvSpPr/>
          <p:nvPr/>
        </p:nvSpPr>
        <p:spPr>
          <a:xfrm>
            <a:off x="2776320" y="400536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2"/>
          <p:cNvSpPr/>
          <p:nvPr/>
        </p:nvSpPr>
        <p:spPr>
          <a:xfrm>
            <a:off x="4067280" y="4005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5"/>
          <p:cNvSpPr/>
          <p:nvPr/>
        </p:nvSpPr>
        <p:spPr>
          <a:xfrm>
            <a:off x="7157520" y="400536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0"/>
          <p:cNvSpPr/>
          <p:nvPr/>
        </p:nvSpPr>
        <p:spPr>
          <a:xfrm>
            <a:off x="5343480" y="5235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1"/>
          <p:cNvSpPr/>
          <p:nvPr/>
        </p:nvSpPr>
        <p:spPr>
          <a:xfrm>
            <a:off x="3471840" y="5091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2"/>
          <p:cNvSpPr/>
          <p:nvPr/>
        </p:nvSpPr>
        <p:spPr>
          <a:xfrm>
            <a:off x="5709960" y="400536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1"/>
          <p:cNvSpPr/>
          <p:nvPr/>
        </p:nvSpPr>
        <p:spPr>
          <a:xfrm>
            <a:off x="162720" y="4005360"/>
            <a:ext cx="14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0"/>
          <p:cNvSpPr/>
          <p:nvPr/>
        </p:nvSpPr>
        <p:spPr>
          <a:xfrm>
            <a:off x="6084720" y="2565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1"/>
          <p:cNvSpPr/>
          <p:nvPr/>
        </p:nvSpPr>
        <p:spPr>
          <a:xfrm>
            <a:off x="8244000" y="2492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"/>
          <p:cNvSpPr/>
          <p:nvPr/>
        </p:nvSpPr>
        <p:spPr>
          <a:xfrm>
            <a:off x="7380360" y="2492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3"/>
          <p:cNvSpPr/>
          <p:nvPr/>
        </p:nvSpPr>
        <p:spPr>
          <a:xfrm>
            <a:off x="8172360" y="4005360"/>
            <a:ext cx="0" cy="718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5"/>
          <p:cNvSpPr/>
          <p:nvPr/>
        </p:nvSpPr>
        <p:spPr>
          <a:xfrm>
            <a:off x="6012000" y="4005360"/>
            <a:ext cx="0" cy="718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AE8-2799-4637-83F2-D564AC9F2A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1173240" y="1197000"/>
            <a:ext cx="392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0000000÷6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>
            <a:off x="2340000" y="1268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8"/>
          <p:cNvSpPr/>
          <p:nvPr/>
        </p:nvSpPr>
        <p:spPr>
          <a:xfrm>
            <a:off x="6012000" y="119700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0"/>
          <p:cNvSpPr/>
          <p:nvPr/>
        </p:nvSpPr>
        <p:spPr>
          <a:xfrm>
            <a:off x="1101960" y="2349360"/>
            <a:ext cx="37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000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÷60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1350360" y="3500280"/>
            <a:ext cx="28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00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÷24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1588680" y="4653000"/>
            <a:ext cx="296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42÷365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>
            <a:off x="1979640" y="2349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6"/>
          <p:cNvSpPr/>
          <p:nvPr/>
        </p:nvSpPr>
        <p:spPr>
          <a:xfrm>
            <a:off x="5219640" y="2349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7"/>
          <p:cNvSpPr/>
          <p:nvPr/>
        </p:nvSpPr>
        <p:spPr>
          <a:xfrm>
            <a:off x="1476360" y="35002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4984920" y="1268280"/>
            <a:ext cx="333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00000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4765320" y="2349360"/>
            <a:ext cx="265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5000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4195800" y="3500280"/>
            <a:ext cx="21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42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1"/>
          <p:cNvSpPr/>
          <p:nvPr/>
        </p:nvSpPr>
        <p:spPr>
          <a:xfrm>
            <a:off x="4771440" y="4653000"/>
            <a:ext cx="134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6"/>
          <p:cNvSpPr/>
          <p:nvPr/>
        </p:nvSpPr>
        <p:spPr>
          <a:xfrm>
            <a:off x="1258920" y="542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95280" y="1557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刻不停数一亿个数大约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人总得吃饭睡觉，假如每天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小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完一亿就会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也就是说，你今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从现在就开始数，要数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    )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才能把一亿本练习本数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95280" y="155736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刻不停数一亿个数大约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人总得吃饭睡觉，假如每天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小时数完一亿就会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。也就是说，你今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岁，从现在就开始数，要数到十八岁才能把一亿本练习本数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mingzhudianshita20070826_51"/>
          <p:cNvPicPr/>
          <p:nvPr/>
        </p:nvPicPr>
        <p:blipFill>
          <a:blip r:embed="rId1"/>
          <a:stretch/>
        </p:blipFill>
        <p:spPr>
          <a:xfrm>
            <a:off x="0" y="0"/>
            <a:ext cx="4782960" cy="7174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4859280" y="106200"/>
            <a:ext cx="4272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上海东方明珠电视塔的高度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6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亿张纸叠起来的高度会有它高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4840200" y="3413160"/>
            <a:ext cx="430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有的话，一亿张纸叠起来有几个上海东方明珠电视塔的高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79280" y="18900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量一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1440" y="64231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24000" y="1557360"/>
          <a:ext cx="8064360" cy="2448000"/>
        </p:xfrm>
        <a:graphic>
          <a:graphicData uri="http://schemas.openxmlformats.org/drawingml/2006/table">
            <a:tbl>
              <a:tblPr/>
              <a:tblGrid>
                <a:gridCol w="1727280"/>
                <a:gridCol w="1152360"/>
                <a:gridCol w="1224000"/>
                <a:gridCol w="1513080"/>
                <a:gridCol w="2447640"/>
              </a:tblGrid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(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张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1"/>
          <p:cNvSpPr/>
          <p:nvPr/>
        </p:nvSpPr>
        <p:spPr>
          <a:xfrm>
            <a:off x="2895480" y="4443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9"/>
          <p:cNvSpPr/>
          <p:nvPr/>
        </p:nvSpPr>
        <p:spPr>
          <a:xfrm>
            <a:off x="250920" y="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量一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0"/>
          <p:cNvSpPr/>
          <p:nvPr/>
        </p:nvSpPr>
        <p:spPr>
          <a:xfrm>
            <a:off x="324000" y="4149720"/>
            <a:ext cx="88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楼房每层大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亿张纸叠起来的高度大约相当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33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层楼房，大约相当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上海东方明珠电视塔，比珠穆朗玛峰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84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）还要高 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2"/>
          <p:cNvSpPr/>
          <p:nvPr/>
        </p:nvSpPr>
        <p:spPr>
          <a:xfrm>
            <a:off x="1908000" y="3137040"/>
            <a:ext cx="15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4"/>
          <p:cNvSpPr/>
          <p:nvPr/>
        </p:nvSpPr>
        <p:spPr>
          <a:xfrm>
            <a:off x="3309840" y="3141720"/>
            <a:ext cx="9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4572000" y="3141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6"/>
          <p:cNvSpPr/>
          <p:nvPr/>
        </p:nvSpPr>
        <p:spPr>
          <a:xfrm>
            <a:off x="5867280" y="314172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1"/>
          <p:cNvSpPr/>
          <p:nvPr/>
        </p:nvSpPr>
        <p:spPr>
          <a:xfrm>
            <a:off x="318960" y="2997360"/>
            <a:ext cx="14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>
            <a:off x="4932360" y="1557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8"/>
          <p:cNvSpPr/>
          <p:nvPr/>
        </p:nvSpPr>
        <p:spPr>
          <a:xfrm>
            <a:off x="7020000" y="1557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9"/>
          <p:cNvSpPr/>
          <p:nvPr/>
        </p:nvSpPr>
        <p:spPr>
          <a:xfrm>
            <a:off x="6227640" y="155736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71"/>
          <p:cNvSpPr/>
          <p:nvPr/>
        </p:nvSpPr>
        <p:spPr>
          <a:xfrm>
            <a:off x="6227640" y="3141720"/>
            <a:ext cx="0" cy="7189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755640" y="3068640"/>
          <a:ext cx="5830920" cy="2376360"/>
        </p:xfrm>
        <a:graphic>
          <a:graphicData uri="http://schemas.openxmlformats.org/drawingml/2006/table">
            <a:tbl>
              <a:tblPr/>
              <a:tblGrid>
                <a:gridCol w="2014560"/>
                <a:gridCol w="1224000"/>
                <a:gridCol w="2592360"/>
              </a:tblGrid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（粒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00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Text Box 29"/>
          <p:cNvSpPr/>
          <p:nvPr/>
        </p:nvSpPr>
        <p:spPr>
          <a:xfrm>
            <a:off x="2895480" y="444348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4068360" y="4362480"/>
            <a:ext cx="18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0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4"/>
          <p:cNvSpPr/>
          <p:nvPr/>
        </p:nvSpPr>
        <p:spPr>
          <a:xfrm>
            <a:off x="2773080" y="43624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6"/>
          <p:cNvSpPr/>
          <p:nvPr/>
        </p:nvSpPr>
        <p:spPr>
          <a:xfrm>
            <a:off x="395280" y="189000"/>
            <a:ext cx="41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活动三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称一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303120" y="530712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7"/>
          <p:cNvSpPr/>
          <p:nvPr/>
        </p:nvSpPr>
        <p:spPr>
          <a:xfrm>
            <a:off x="914400" y="4362480"/>
            <a:ext cx="178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3"/>
          <p:cNvSpPr/>
          <p:nvPr/>
        </p:nvSpPr>
        <p:spPr>
          <a:xfrm>
            <a:off x="3059280" y="3070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54"/>
          <p:cNvSpPr/>
          <p:nvPr/>
        </p:nvSpPr>
        <p:spPr>
          <a:xfrm>
            <a:off x="5076720" y="3070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55"/>
          <p:cNvSpPr/>
          <p:nvPr/>
        </p:nvSpPr>
        <p:spPr>
          <a:xfrm>
            <a:off x="4284720" y="3070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7"/>
          <p:cNvSpPr/>
          <p:nvPr/>
        </p:nvSpPr>
        <p:spPr>
          <a:xfrm>
            <a:off x="4859280" y="4294080"/>
            <a:ext cx="0" cy="7192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0"/>
          <p:cNvSpPr/>
          <p:nvPr/>
        </p:nvSpPr>
        <p:spPr>
          <a:xfrm>
            <a:off x="250920" y="1268280"/>
            <a:ext cx="88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粒大米，称称大约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克 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照这样计算，一亿粒大米约重多少克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5T11:46:17Z</dcterms:created>
  <dc:creator/>
  <dc:description/>
  <cp:keywords>幻灯片之家 http:/www.eeppt.com</cp:keywords>
  <dc:language>en-US</dc:language>
  <cp:lastModifiedBy/>
  <dcterms:modified xsi:type="dcterms:W3CDTF">2015-07-18T14:07:39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