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drumroll.wav" ContentType="audio/x-wav"/>
  <Override PartName="/ppt/media/applause.wav" ContentType="audio/x-wav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4E0A-BFAC-4F21-ADAE-4F8257A8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D5C7-24BD-435E-8F6F-4B9EF786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14F3-9BEA-4BAE-BA5B-201EF7959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6562-8CBA-4290-8B00-EB65AA55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FA21-F9AF-4955-965E-3FE5D857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B1B5-B17B-48E8-95EE-82053DCA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975F-20D2-4CC7-A95B-82AA0F42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649A-1A9B-4311-B9A8-1EA578B6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6C31-A7FD-4D7D-BEE5-4D591E0A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0833-FA53-4A95-8614-FF02EDEE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D340-BB21-43D3-B8B5-21EB796E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2C59-DB30-4E10-AA00-7F80B89B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DCCD-262C-43A0-AFF2-CBF02821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9CA0-1806-4843-893C-CFA11686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E5F6-B9AC-4CB2-A6B5-6559DCEC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A5C6-1653-46E0-9372-907FAE670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1D25-A52E-4C7E-B8FD-8F16D7CD4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7800-05C1-4F53-AE2F-3B7DB4F6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69A2-BFCE-4EC8-AE70-ED738379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7DB4-95E5-4056-98BD-8D9606B2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6DC7-FC6B-499A-B4D0-2EA7A1DF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FA62-0E95-4E65-9284-FF74906C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7486-1426-412F-A254-3D19FF6D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85BB-7FC6-4FBD-AB6E-D796F257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" name="Line 7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4123-4DE9-4826-953E-11D4A275A3A6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C4B2-D6FD-44ED-A13E-C0B0C8EEDFBF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280" y="574920"/>
            <a:ext cx="65502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0" spc="-1" strike="noStrike">
              <a:solidFill>
                <a:srgbClr val="ff0000"/>
              </a:solidFill>
              <a:latin typeface="Times New Roman"/>
              <a:ea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Times New Roman"/>
              </a:rPr>
              <a:t>                     </a:t>
            </a:r>
            <a:r>
              <a:rPr b="1" lang="zh-CN" sz="3600" spc="-1" strike="noStrike">
                <a:solidFill>
                  <a:srgbClr val="ff9933"/>
                </a:solidFill>
                <a:latin typeface="Times New Roman"/>
                <a:ea typeface="华文新魏"/>
              </a:rPr>
              <a:t>送别诗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Times New Roman"/>
                <a:ea typeface="华文新魏"/>
              </a:rPr>
              <a:t>                        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-----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王维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92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70160" y="1628640"/>
            <a:ext cx="215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Times New Roman"/>
              </a:rPr>
              <a:t>《送元二使安西》</a:t>
            </a:r>
            <a:r>
              <a:rPr b="0" lang="en-US" sz="3600" spc="-1" strike="noStrike">
                <a:solidFill>
                  <a:srgbClr val="0033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3300"/>
                </a:solidFill>
                <a:latin typeface="Times New Roman"/>
              </a:rPr>
              <a:t>课件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6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94" name="Picture 10" descr="20043181657270"/>
          <p:cNvPicPr/>
          <p:nvPr/>
        </p:nvPicPr>
        <p:blipFill>
          <a:blip r:embed="rId2"/>
          <a:stretch/>
        </p:blipFill>
        <p:spPr>
          <a:xfrm>
            <a:off x="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7908840" y="762120"/>
            <a:ext cx="54936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8594640" y="0"/>
            <a:ext cx="549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7744680" y="0"/>
            <a:ext cx="13993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00"/>
                </a:solidFill>
                <a:latin typeface="Times New Roman"/>
                <a:ea typeface="华文中宋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渭城朝雨挹轻尘，客舍清清柳色新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587700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8000"/>
                </a:solidFill>
                <a:uFillTx/>
                <a:latin typeface="Times New Roman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使用规范说明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808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808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4DF6-3C27-456F-8B44-3388C1ABDC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1"/>
          <p:cNvPicPr/>
          <p:nvPr/>
        </p:nvPicPr>
        <p:blipFill>
          <a:blip r:embed="rId2"/>
          <a:stretch/>
        </p:blipFill>
        <p:spPr>
          <a:xfrm>
            <a:off x="0" y="0"/>
            <a:ext cx="673272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7693200" y="476280"/>
            <a:ext cx="850680" cy="6075360"/>
          </a:xfrm>
          <a:prstGeom prst="rect">
            <a:avLst/>
          </a:prstGeom>
          <a:solidFill>
            <a:srgbClr val="ccffcc"/>
          </a:solidFill>
          <a:ln w="158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  <a:ea typeface="华文中宋"/>
              </a:rPr>
              <a:t>劝君更进一杯酒，西出阳关无故人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92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 spd="med">
    <p:zoom dir="in"/>
    <p:sndAc>
      <p:stSnd>
        <p:snd r:embed="rId3" name="drumroll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6" name="Picture 4" descr="1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3"/>
            <p:cNvSpPr/>
            <p:nvPr/>
          </p:nvSpPr>
          <p:spPr>
            <a:xfrm>
              <a:off x="5882400" y="692280"/>
              <a:ext cx="2397960" cy="5562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00"/>
                  </a:solidFill>
                  <a:latin typeface="Times New Roman"/>
                  <a:ea typeface="华文新魏"/>
                </a:rPr>
                <a:t>       </a:t>
              </a:r>
              <a:r>
                <a:rPr b="1" lang="zh-CN" sz="3600" spc="-1" strike="noStrike">
                  <a:solidFill>
                    <a:srgbClr val="003300"/>
                  </a:solidFill>
                  <a:latin typeface="Times New Roman"/>
                  <a:ea typeface="华文新魏"/>
                </a:rPr>
                <a:t>送元二使安西</a:t>
              </a:r>
              <a:endParaRPr b="0" lang="en-US" sz="36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3300"/>
                  </a:solidFill>
                  <a:latin typeface="Times New Roman"/>
                  <a:ea typeface="隶书"/>
                </a:rPr>
                <a:t>渭城朝雨挹轻尘，客舍清清柳色新。劝君更进一杯酒，西出阳关无故人。</a:t>
              </a:r>
              <a:endParaRPr b="0" lang="en-US" sz="36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3"/>
          <p:cNvSpPr txBox="1"/>
          <p:nvPr/>
        </p:nvSpPr>
        <p:spPr>
          <a:xfrm>
            <a:off x="914400" y="3124080"/>
            <a:ext cx="70102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同学们再见</a:t>
            </a:r>
            <a:endParaRPr b="0" lang="en-US" sz="60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6308640"/>
            <a:ext cx="676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808000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 spd="med">
    <p:checker dir="horz"/>
    <p:sndAc>
      <p:stSnd>
        <p:snd r:embed="rId3" name="applause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7T08:36:46Z</dcterms:created>
  <dc:creator/>
  <dc:description/>
  <cp:keywords>幻灯片之家 http:/www.eeppt.com</cp:keywords>
  <dc:language>en-US</dc:language>
  <cp:lastModifiedBy/>
  <dcterms:modified xsi:type="dcterms:W3CDTF">2015-07-03T11:53:30Z</dcterms:modified>
  <cp:revision>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